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02B98F-BF3D-4E87-923A-BE0AE671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98B997-10DA-4D1F-8761-39C94C29E1D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02DE0D-9078-4A7B-8BE6-31E469AE7B2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31 Q 32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lease rate your general impression of HKHA using a scale ranging from 0 to 100, 0 indicating extremely bad, while 100 indicating extremely good. How many marks would you give HKH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68B9B5-54F2-4FD1-89B1-56963047C78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e A2.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29.  Do you think the staff of public hospitals under HKHA concerns about patient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AF743D-F9CC-4A89-A930-EB513D41518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25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26. Do you think HKHA is willing to accept public opinio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8F9361-153E-4AF3-B929-D1230A29A36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A3BAB0-7F5E-40B5-BB3F-9D92A80A6AA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970B5D-852F-47F4-8D2B-1D7C0EBDEC3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0405BC-9191-45EF-B46D-F30F5D31697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A84899-F1A0-464E-A0A2-5D98455693C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3E7FD8-4901-4584-83C7-4C60F161F93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838CA2-3B1D-4750-90EA-9007ED21EF9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AA972F-B4CD-4534-8C60-41409F5BFD0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377FB8-C34D-4E49-98B7-E23BA74E5E4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7E81CE-3ED5-4A9A-9745-52198155132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EDD3D7-CCBA-4BC6-8167-4FBA3715462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5B45E4-29A8-46DC-BC13-F6BDE5FDCF4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D5BDF5-EFAE-4DCE-BF0E-858BF97E0C8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FD1CC6-F50B-4601-82FE-99192188327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0DC014-593D-455F-A3BC-E2B05D1AA9C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1 Q 1On the whole, how satisfied are you with the medical services currently provided in Hong Ko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041-B50E-48FA-8820-654B2A5A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5B4-E618-4B31-82AC-4DAD017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F5F-880F-45D4-A500-4FF78598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CDD-917B-4021-94FD-7020E889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774-13A3-45B5-829E-21E05064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AFA-04EF-49F0-898E-E505B44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142-51EA-4A30-A867-6BCFAE6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20D-6420-460E-A6F4-6C406971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160-5411-4B5E-A7A5-4F8D891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299-7C93-4188-9820-72427CC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0DC-DC48-47EC-9706-372025F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8B4-B87E-46A1-9425-A28D391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25D6-7F3C-4D01-B9B5-E3BB0B894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Between Public and Expert Opinions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民眾意見</a:t>
            </a:r>
            <a:r>
              <a:rPr b="1" i="1" lang="en-US" sz="3400" spc="-1" strike="noStrike">
                <a:solidFill>
                  <a:srgbClr val="ffffcc"/>
                </a:solidFill>
                <a:latin typeface="Times New Roman"/>
              </a:rPr>
              <a:t>與專業判斷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90920" y="5400720"/>
            <a:ext cx="434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55640" y="51166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22 / 3 / 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3489480" y="1096920"/>
            <a:ext cx="4647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Object 11"/>
          <p:cNvGraphicFramePr/>
          <p:nvPr/>
        </p:nvGraphicFramePr>
        <p:xfrm>
          <a:off x="1660680" y="86832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86832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rate your general impression of HKHA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using a scale ranging from 0 to 100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4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2" name="Object 5" descr=""/>
          <p:cNvPicPr/>
          <p:nvPr/>
        </p:nvPicPr>
        <p:blipFill>
          <a:blip r:embed="rId1"/>
          <a:stretch/>
        </p:blipFill>
        <p:spPr>
          <a:xfrm>
            <a:off x="-11160" y="1873080"/>
            <a:ext cx="8774280" cy="490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Do you think the staff of public hospitals under</a:t>
            </a:r>
            <a:br>
              <a:rPr sz="2600"/>
            </a:br>
            <a:r>
              <a:rPr b="1" lang="en-US" sz="2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HKHA concerns about patients?</a:t>
            </a:r>
            <a:br>
              <a:rPr sz="26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3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0" y="1828800"/>
            <a:ext cx="8726400" cy="47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Do you think HKHA is willing to accept public opinion?</a:t>
            </a:r>
            <a:br>
              <a:rPr sz="26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2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0" y="1633680"/>
            <a:ext cx="8839080" cy="522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Health Related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Survey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Health Related Surveys by POP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Rectangle 2052"/>
          <p:cNvSpPr/>
          <p:nvPr/>
        </p:nvSpPr>
        <p:spPr>
          <a:xfrm>
            <a:off x="914400" y="1413000"/>
            <a:ext cx="754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Line 2053"/>
          <p:cNvSpPr/>
          <p:nvPr/>
        </p:nvSpPr>
        <p:spPr>
          <a:xfrm>
            <a:off x="685800" y="1197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1413000"/>
          <a:ext cx="7488360" cy="4835520"/>
        </p:xfrm>
        <a:graphic>
          <a:graphicData uri="http://schemas.openxmlformats.org/drawingml/2006/table">
            <a:tbl>
              <a:tblPr/>
              <a:tblGrid>
                <a:gridCol w="1069920"/>
                <a:gridCol w="6418440"/>
              </a:tblGrid>
              <a:tr h="8222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Hong Kong Citizens’ attitude towards and awareness of influenza vaccination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pinion Survey on HK Citizens’ Sleep Disturbanc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Promotion of Public Private Interface - Electronic Patient Record (PPI-ePR), Health Care Voucher Scheme (HCVS) and Elderly Vaccination Subsidy Scheme (EVSS) at HA SOPC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Hepatitis B and Liver Canc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Type 2 Diabetes Patients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 – 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Smoking and Health of Hong Kong Wom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Public Awareness of the Safety Limits of Alcohol Consumption and Alcoholic Liver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breastfeeding and infant feed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481040"/>
          <a:ext cx="7620120" cy="4792680"/>
        </p:xfrm>
        <a:graphic>
          <a:graphicData uri="http://schemas.openxmlformats.org/drawingml/2006/table">
            <a:tbl>
              <a:tblPr/>
              <a:tblGrid>
                <a:gridCol w="1015920"/>
                <a:gridCol w="6604200"/>
              </a:tblGrid>
              <a:tr h="4874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Cancer and Targeted Therap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Evaluation Study on Enhancing Communication Strategies with the Implementation of Recommendations for the “eHR”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Public Preparedness and Responses to Influenza A (H1N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9 – now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valuation Survey on the Effectiveness of Love Teeth Campaign (annual survey with 2 rounds per year)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f Public Attitudes towards Psychosis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Survey Service for Health Risk Assessment of HA staff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6 – now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Work Life Balance of the Hong Kong Working Population (annual survey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Health Related Surveys by POP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Line 2053"/>
          <p:cNvSpPr/>
          <p:nvPr/>
        </p:nvSpPr>
        <p:spPr>
          <a:xfrm>
            <a:off x="685800" y="1197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General Observ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47628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ature of Public Opinion 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民意的特性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87280" y="1916280"/>
            <a:ext cx="68900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is volati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Instant polls describe instant reaction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racking polls map long term chang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public may be uneduc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Engagement brings opinion chang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Quality deliberation brings quality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is shaped by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 should be properly brief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surveys should be carefully r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120" y="15573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352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Legitimation of Expert Opin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專業判斷合理化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1916280"/>
            <a:ext cx="68900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opinion needs to be understoo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opinion lead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stakehold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publi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opinion needs to be deb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among expe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efore the publi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judgment needs to be trus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762120" y="15573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33520" y="54936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Expert vs Public  </a:t>
            </a: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專業與民眾之間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4360" y="1557360"/>
            <a:ext cx="7920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takeholder interest needs to be consider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customer satisfaction – hospital users, clinic patients, family members, patient groups, potential user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staff morale – communication and grievan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ehicles for engage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e-platforms, mobile applic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cus groups, public forums, deliberative forums, deliberative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chanisms for legiti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public and stakeholder opinion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civil referendu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773280" y="12682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utline of Sharing 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分享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066680" y="2133720"/>
            <a:ext cx="7010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ree exampl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ird POP survey on the Budget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HKHA corporate image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Some health related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ature of public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Legitimation of expert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lling the ga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 and 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Q &amp; 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236600" y="5732640"/>
            <a:ext cx="6889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outh China Morning Post  22/3/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74328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36600" y="5732640"/>
            <a:ext cx="6889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Ming Pao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明報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2/3/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127320" y="2017800"/>
            <a:ext cx="3110040" cy="35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85800" y="1844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042920" y="2276640"/>
            <a:ext cx="7263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MP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sang’s budget gets 50 out of 1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明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評分微升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經濟日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滿意度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剛合格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文匯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滿意度升至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星島日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《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》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評分微升至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信報：反駁財爺福利負擔論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內文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5796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whole story…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公報全文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8360" y="1569960"/>
            <a:ext cx="8323200" cy="468144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468360" y="1268280"/>
            <a:ext cx="83232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HKHA Corporate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Image Survey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HKHA Annual Corporate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age Surveys (1995-200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Rectangle 2052"/>
          <p:cNvSpPr/>
          <p:nvPr/>
        </p:nvSpPr>
        <p:spPr>
          <a:xfrm>
            <a:off x="914400" y="2133720"/>
            <a:ext cx="75438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uring June 1995 – July 2002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 annual surveys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n HK people’s impression of HKHA’s services and image were conducted independently by HKUPO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ver 1,000 local citizens aged 18 or above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re successfully interviewed by telephone each time, including both HA users and non-user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mall ad ho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urvey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re also conducted on irregular basis, covering topical issues like medical insurance, A&amp;E service charges, Patients’ Charter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Line 2053"/>
          <p:cNvSpPr/>
          <p:nvPr/>
        </p:nvSpPr>
        <p:spPr>
          <a:xfrm>
            <a:off x="685800" y="1916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 the whole, how satisfied are you with the medical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ervices currently provided in Hong Kong?</a:t>
            </a:r>
            <a:br>
              <a:rPr sz="2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4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9" name="Object 5" descr=""/>
          <p:cNvPicPr/>
          <p:nvPr/>
        </p:nvPicPr>
        <p:blipFill>
          <a:blip r:embed="rId1"/>
          <a:stretch/>
        </p:blipFill>
        <p:spPr>
          <a:xfrm>
            <a:off x="19080" y="1600200"/>
            <a:ext cx="8763120" cy="49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13-03-22T06:47:02Z</dcterms:modified>
  <cp:revision>772</cp:revision>
  <dc:subject/>
  <dc:title>無投影片標題</dc:title>
</cp:coreProperties>
</file>