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FD5931-AC33-4678-99CC-411E1D2A8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CB7EC-977C-454E-A49A-EC22AD72F5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B73BB7-1AC1-4C06-83B0-AC5F8EF96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4FAFFD-C209-45B0-AD3B-E1D802898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4BD38F-8A02-4DF5-9D7C-A98E5E05AA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BA7A47-9DCF-4746-B831-7854C5FBCA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1E195-9B02-4399-8CD8-CC424EC23B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00BCD1-E8E7-4483-8633-1737DC4FE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9B8EF-D2ED-446A-B810-BB6B58D9F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93E244-FF50-44EC-B423-C5DB7EB88D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21159E-D1BE-4A87-9B89-3C2129FDE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82C3EB-DD2A-4DDD-BFDB-D1B08DE5C1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AC8746-8BDF-4ECF-8BF1-173420F7DC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054CBB-CC6B-4E99-9E15-0DDAF3E81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8F2850-27B0-4416-B369-A1C050AAA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7E0D8D-20B8-4871-B164-342DB9A30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FAC79B-0A31-41F2-8E8A-45886E5D8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2CCBB6-5B85-45F9-80B8-736499058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87E65E-E4A6-4394-86AA-B869857E2A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9BE5A7-6F03-471E-8433-E8EF16CEE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058368-503C-4965-981D-EB17DB14D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B9FA20-DBB7-43E5-BE59-48D9D51EB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356B7-1B8F-46D8-BD0B-A3ED0EEEB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9447D5-27ED-497F-A671-FC7739312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C0FC6A-090F-4495-9795-1B4B3F5AF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361048-70C3-42C8-B976-D6ED99136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FED88D-2E98-4B96-9B6A-0E11F06DA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35804E-A01B-428E-8F72-890ECEAD96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C67-D898-4906-BAEB-947CE8B6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710-3AA5-42EE-A942-DE8ABDA7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D58-6BB0-49E0-8505-ADFB57A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945-FDD3-49A1-B586-A801EF52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7F67-52E0-4284-A44D-3DE14755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53D-39E5-432F-9132-BAB8090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15F-72C7-4EF5-9793-EA98B46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D4E-4661-45D2-9C3F-9C0D16E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E46-CDD9-4560-80F8-B4902DD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28C2-7B37-40B5-9268-3BBE5D64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1B29-4861-420C-948A-FCCC594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5DB-73F9-4E91-BB20-74228E2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E542-524D-4016-AA72-3B49DD0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948-BAA3-4AF0-B143-EE2B4EE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F82-5FDA-411F-9742-50C64F47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3B1-EF71-4A96-AEE7-147EF558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BEE-57B5-4F50-9319-6A86BB80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C46-BA2C-4588-B234-FEE72F45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15E-4540-4010-AE07-7804585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78A-BD5F-433B-AA99-12F77C3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C8C-D65B-494B-9635-87D35EA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F3F-930A-4E8F-9FE1-256C773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A8B-62FD-47C0-A8A2-77E777E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140-2570-4BD3-AD5E-1D1F610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3D35-89DE-468D-BCCE-13135F64BB8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834-C77C-45BD-B479-847F64534B3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index.html#mediaReport" TargetMode="External"/><Relationship Id="rId2" Type="http://schemas.openxmlformats.org/officeDocument/2006/relationships/hyperlink" Target="http://hkupop.hku.hk/english/resources/workshops/20120928/index.html#mediaRepor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resources/3_press_release_2012aug29.pdf" TargetMode="External"/><Relationship Id="rId2" Type="http://schemas.openxmlformats.org/officeDocument/2006/relationships/hyperlink" Target="http://hkupop.hku.hk/english/resources/workshops/20120928/resources/3_press_release_2012aug29.pdf" TargetMode="External"/><Relationship Id="rId3" Type="http://schemas.openxmlformats.org/officeDocument/2006/relationships/hyperlink" Target="http://hkupop.hku.hk/english/resources/workshops/20120928/resources/4_introduction_script.pdf" TargetMode="External"/><Relationship Id="rId4" Type="http://schemas.openxmlformats.org/officeDocument/2006/relationships/hyperlink" Target="http://hkupop.hku.hk/english/resources/workshops/20120928/resources/5_exit_poll_charter.pdf" TargetMode="External"/><Relationship Id="rId5" Type="http://schemas.openxmlformats.org/officeDocument/2006/relationships/hyperlink" Target="http://hkupop.hku.hk/english/resources/workshops/20120928/resources/5_exit_poll_charter.pdf" TargetMode="External"/><Relationship Id="rId6" Type="http://schemas.openxmlformats.org/officeDocument/2006/relationships/hyperlink" Target="http://hkupop.hku.hk/english/resources/workshops/20120928/resources/6_media_digest.pdf" TargetMode="External"/><Relationship Id="rId7" Type="http://schemas.openxmlformats.org/officeDocument/2006/relationships/hyperlink" Target="http://hkupop.hku.hk/english/resources/workshops/20120928/resources/6_media_digest.pdf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resources/7_press_release_2012sep07.pdf" TargetMode="External"/><Relationship Id="rId2" Type="http://schemas.openxmlformats.org/officeDocument/2006/relationships/hyperlink" Target="http://hkupop.hku.hk/english/resources/workshops/20120928/resources/7_press_release_2012sep07.pdf" TargetMode="External"/><Relationship Id="rId3" Type="http://schemas.openxmlformats.org/officeDocument/2006/relationships/hyperlink" Target="http://hkupop.hku.hk/english/resources/workshops/20120928/resources/8_article_MP_word_version.pdf" TargetMode="External"/><Relationship Id="rId4" Type="http://schemas.openxmlformats.org/officeDocument/2006/relationships/hyperlink" Target="http://hkupop.hku.hk/english/resources/workshops/20120928/resources/8_article_MP_word_version.pdf" TargetMode="External"/><Relationship Id="rId5" Type="http://schemas.openxmlformats.org/officeDocument/2006/relationships/hyperlink" Target="http://hkupop.hku.hk/english/resources/workshops/20120928/resources/9_article_MP_print_version.jpg" TargetMode="External"/><Relationship Id="rId6" Type="http://schemas.openxmlformats.org/officeDocument/2006/relationships/hyperlink" Target="http://hkupop.hku.hk/english/resources/workshops/20120928/resources/9_article_MP_print_version.jpg" TargetMode="External"/><Relationship Id="rId7" Type="http://schemas.openxmlformats.org/officeDocument/2006/relationships/hyperlink" Target="http://hkupop.hku.hk/english/resources/workshops/20120928/resources/10_list_of_105_poll_stations.xlsx" TargetMode="External"/><Relationship Id="rId8" Type="http://schemas.openxmlformats.org/officeDocument/2006/relationships/hyperlink" Target="http://hkupop.hku.hk/english/resources/workshops/20120928/resources/10_list_of_105_poll_stations.xlsx" TargetMode="External"/><Relationship Id="rId9" Type="http://schemas.openxmlformats.org/officeDocument/2006/relationships/hyperlink" Target="http://hkupop.hku.hk/english/resources/workshops/20120928/resources/11_Charters_signed.pdf" TargetMode="External"/><Relationship Id="rId10" Type="http://schemas.openxmlformats.org/officeDocument/2006/relationships/hyperlink" Target="http://hkupop.hku.hk/english/resources/workshops/20120928/resources/12_interviewers_pledge.pdf" TargetMode="External"/><Relationship Id="rId11" Type="http://schemas.openxmlformats.org/officeDocument/2006/relationships/hyperlink" Target="http://hkupop.hku.hk/english/resources/workshops/20120928/resources/12_interviewers_pledge.pdf" TargetMode="External"/><Relationship Id="rId12" Type="http://schemas.openxmlformats.org/officeDocument/2006/relationships/hyperlink" Target="http://hkupop.hku.hk/english/resources/workshops/20120928/resources/13_booklet_cover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052"/>
          <p:cNvSpPr/>
          <p:nvPr/>
        </p:nvSpPr>
        <p:spPr>
          <a:xfrm>
            <a:off x="1116000" y="765000"/>
            <a:ext cx="712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College of City University of Hong Ko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of Social Scie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L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Challenge of Exit Po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057"/>
          <p:cNvSpPr/>
          <p:nvPr/>
        </p:nvSpPr>
        <p:spPr>
          <a:xfrm>
            <a:off x="1116000" y="4581360"/>
            <a:ext cx="7128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Ch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 of Public Opinion Programme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September 20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rational detail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Rectangle 6" descr=""/>
          <p:cNvPicPr/>
          <p:nvPr/>
        </p:nvPicPr>
        <p:blipFill>
          <a:blip r:embed="rId1"/>
          <a:stretch/>
        </p:blipFill>
        <p:spPr>
          <a:xfrm>
            <a:off x="669960" y="1762200"/>
            <a:ext cx="7931160" cy="4565520"/>
          </a:xfrm>
          <a:prstGeom prst="rect">
            <a:avLst/>
          </a:prstGeom>
          <a:ln w="0">
            <a:noFill/>
          </a:ln>
        </p:spPr>
      </p:pic>
      <p:sp>
        <p:nvSpPr>
          <p:cNvPr id="134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97E-7A97-4E32-B6DC-C15100DF6AB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Key questions in the questionnaire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628640"/>
            <a:ext cx="75614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vote to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andidate did you chose in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constit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your decision mainly out of your support for certain candidates, political parties, the combination of candidates on a list, or split voting strateg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what channels did you get to know the candid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d you make up your mind to vote for this/these candidate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vote in the geographical constituency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 LC e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vote today in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 District Counc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e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ckground information: Gender, age, educatio, occupation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DCC-4FDD-4594-8327-2A97371FDD3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539640" y="6308640"/>
            <a:ext cx="468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real questionnair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4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Newspaper report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6021360"/>
            <a:ext cx="784224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Link to newspaper clippings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 (link #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207-2D90-48F3-B445-66958B2FA3C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O:\share\LC\LC2012\Exit Poll\20120928_CityU_talk\materials\Others\LC_2a_20120910_SCMP_Super seats boost voter turnout.jpg"/>
          <p:cNvPicPr/>
          <p:nvPr/>
        </p:nvPicPr>
        <p:blipFill>
          <a:blip r:embed="rId1"/>
          <a:stretch/>
        </p:blipFill>
        <p:spPr>
          <a:xfrm>
            <a:off x="1116000" y="1628640"/>
            <a:ext cx="64022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0:30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5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8/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1/3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6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260B-4356-41F6-A0A3-2FD59736F69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39640" y="6308640"/>
            <a:ext cx="38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6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1:30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/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/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289-2A6F-4B30-B6B3-52C7F00BB2B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539640" y="6308640"/>
            <a:ext cx="4060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7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:00 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0/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3/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B36C-4CB8-4FBA-BA00-8CFF870D8DB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39640" y="6308640"/>
            <a:ext cx="482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5:00 am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42840" y="1700280"/>
          <a:ext cx="7589880" cy="4537080"/>
        </p:xfrm>
        <a:graphic>
          <a:graphicData uri="http://schemas.openxmlformats.org/drawingml/2006/table">
            <a:tbl>
              <a:tblPr/>
              <a:tblGrid>
                <a:gridCol w="1471680"/>
                <a:gridCol w="1206720"/>
                <a:gridCol w="1206360"/>
                <a:gridCol w="1085760"/>
                <a:gridCol w="1085760"/>
                <a:gridCol w="15336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3/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263D-5D49-47D3-BABA-D7D4109DC64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39640" y="6308640"/>
            <a:ext cx="2808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9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HKI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79E-BA30-4B02-84C8-7E4C39C5082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Chart 7" descr=""/>
          <p:cNvPicPr/>
          <p:nvPr/>
        </p:nvPicPr>
        <p:blipFill>
          <a:blip r:embed="rId1"/>
          <a:stretch/>
        </p:blipFill>
        <p:spPr>
          <a:xfrm>
            <a:off x="706320" y="1542960"/>
            <a:ext cx="7791480" cy="4913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KlnE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A5F-9AB0-4A4C-92DB-5FF00357E64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Chart 5" descr=""/>
          <p:cNvPicPr/>
          <p:nvPr/>
        </p:nvPicPr>
        <p:blipFill>
          <a:blip r:embed="rId1"/>
          <a:stretch/>
        </p:blipFill>
        <p:spPr>
          <a:xfrm>
            <a:off x="596880" y="1627200"/>
            <a:ext cx="8010720" cy="476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KlnW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DF5-06E3-46C5-86EB-3E3051EE0A9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Chart 6" descr=""/>
          <p:cNvPicPr/>
          <p:nvPr/>
        </p:nvPicPr>
        <p:blipFill>
          <a:blip r:embed="rId1"/>
          <a:stretch/>
        </p:blipFill>
        <p:spPr>
          <a:xfrm>
            <a:off x="487440" y="1627200"/>
            <a:ext cx="8223120" cy="4829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story begi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35280" y="2060640"/>
            <a:ext cx="6121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26820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Cable TV news report at 10:30 pm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6820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NowTV news report at 10:30 pm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928-DA19-4A63-907D-41FBE78F6B6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NTE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F1D-F45F-4C76-8FE5-F08A9828DA7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hart 6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36928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539640" y="637380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NTW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C852-7D17-410E-B6A3-07C734A72B5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hart 5" descr=""/>
          <p:cNvPicPr/>
          <p:nvPr/>
        </p:nvPicPr>
        <p:blipFill>
          <a:blip r:embed="rId1"/>
          <a:stretch/>
        </p:blipFill>
        <p:spPr>
          <a:xfrm>
            <a:off x="633240" y="1517760"/>
            <a:ext cx="7937640" cy="49863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Super D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D86-7A74-4772-9C35-983FB880668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Chart 5" descr=""/>
          <p:cNvPicPr/>
          <p:nvPr/>
        </p:nvPicPr>
        <p:blipFill>
          <a:blip r:embed="rId1"/>
          <a:stretch/>
        </p:blipFill>
        <p:spPr>
          <a:xfrm>
            <a:off x="450720" y="1554120"/>
            <a:ext cx="8296560" cy="4913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ponse 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4320" y="1700280"/>
          <a:ext cx="7589880" cy="4162320"/>
        </p:xfrm>
        <a:graphic>
          <a:graphicData uri="http://schemas.openxmlformats.org/drawingml/2006/table">
            <a:tbl>
              <a:tblPr/>
              <a:tblGrid>
                <a:gridCol w="1471680"/>
                <a:gridCol w="1224000"/>
                <a:gridCol w="1278000"/>
                <a:gridCol w="1168200"/>
                <a:gridCol w="1224000"/>
                <a:gridCol w="1224000"/>
              </a:tblGrid>
              <a:tr h="83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8 ^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M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De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e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3.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1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st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,91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56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,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42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,22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6F9-FB4F-43BB-9179-B4809879FE6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39640" y="6021360"/>
            <a:ext cx="6985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^ a total of 951 cases from 14 stations were removed due to data quality proble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ponse 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14320" y="1700280"/>
          <a:ext cx="7589880" cy="4162320"/>
        </p:xfrm>
        <a:graphic>
          <a:graphicData uri="http://schemas.openxmlformats.org/drawingml/2006/table">
            <a:tbl>
              <a:tblPr/>
              <a:tblGrid>
                <a:gridCol w="1471680"/>
                <a:gridCol w="1224000"/>
                <a:gridCol w="1278000"/>
                <a:gridCol w="1168200"/>
                <a:gridCol w="1224000"/>
                <a:gridCol w="1224000"/>
              </a:tblGrid>
              <a:tr h="83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2 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M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De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e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3.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1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st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,66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56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,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42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,22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2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9D8-AC96-4ED4-89A2-B84E1820A8C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539640" y="6021360"/>
            <a:ext cx="792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* a total of 1,254 cases from 10 stations will need to be removed due to data quality proble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112-F3A5-4CED-8208-83A8481E70A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1341360"/>
          <a:ext cx="8240760" cy="4608720"/>
        </p:xfrm>
        <a:graphic>
          <a:graphicData uri="http://schemas.openxmlformats.org/drawingml/2006/table">
            <a:tbl>
              <a:tblPr/>
              <a:tblGrid>
                <a:gridCol w="1042920"/>
                <a:gridCol w="849240"/>
                <a:gridCol w="771840"/>
                <a:gridCol w="917280"/>
                <a:gridCol w="835200"/>
                <a:gridCol w="834840"/>
                <a:gridCol w="836640"/>
                <a:gridCol w="835200"/>
                <a:gridCol w="636480"/>
                <a:gridCol w="95400"/>
                <a:gridCol w="585720"/>
              </a:tblGrid>
              <a:tr h="282600"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out period for pre-election opinion p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ys (prior to an election) of polls bann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8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gal restrictions on the conduct of exit p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ly bann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ned inside the polling s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ned outside close to polling s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triction – no exit polls conducted to d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triction – some exit polls conducted tod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 kno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used to answ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ng Ko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c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iw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gridSpan="11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Summa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countries affect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out of 8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“yes”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5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5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41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1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trictions in different countri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from WAPOR Freedom Poll Survey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250920" y="6093000"/>
            <a:ext cx="47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Link to WAPOR Guidelines for Exit Polls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(link #20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Link to complete list of 85 countries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(link #2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63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nswering the challenges of exit polls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560" y="2707920"/>
            <a:ext cx="741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conduct exit pol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release exit poll resul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ccurate are exit pol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we boycott partisan exit po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755640" y="198900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DB02-1287-431E-8B70-A3950F2CAEF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611280" y="6021360"/>
            <a:ext cx="56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Hong Kong Letter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2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 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3520" y="2852640"/>
            <a:ext cx="8076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946-43C1-494F-B96B-6D1C77D08EC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timeli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18A-C69D-4FFE-AE9F-7B2E7D07B37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84464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arly August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Liaison with sponsors, and determining the scale of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Mid-August: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Recruitment of inter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August 29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First press conferenc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– Explaining exit polls, introducing new arrangements, and call for volunt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August 30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ubmission of application to Registration and Electoral Office (RE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arly Sept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Trainings for exit poll inter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eptember 7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Second press conferenc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– Explaining rolling poll results, announcing 105 selected polling stations, introducing online platforms, and calling people’s support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eptember 9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lection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st Press Conference on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ugust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BE3-0E4A-4086-93FB-A523C3D2F94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O:\photos\20120829_LC_Exit_Poll_PC\Kelvin\DSC_1281.JPG"/>
          <p:cNvPicPr/>
          <p:nvPr/>
        </p:nvPicPr>
        <p:blipFill>
          <a:blip r:embed="rId1"/>
          <a:stretch/>
        </p:blipFill>
        <p:spPr>
          <a:xfrm>
            <a:off x="611280" y="1628640"/>
            <a:ext cx="4386240" cy="29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O:\photos\20120829_LC_Exit_Poll_PC\Kelvin\DSC_1356.JPG"/>
          <p:cNvPicPr/>
          <p:nvPr/>
        </p:nvPicPr>
        <p:blipFill>
          <a:blip r:embed="rId2"/>
          <a:stretch/>
        </p:blipFill>
        <p:spPr>
          <a:xfrm>
            <a:off x="5580000" y="1916280"/>
            <a:ext cx="2654280" cy="37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O:\photos\20120829_LC_Exit_Poll_PC\Kelvin\DSC_0583.jpg"/>
          <p:cNvPicPr/>
          <p:nvPr/>
        </p:nvPicPr>
        <p:blipFill>
          <a:blip r:embed="rId3"/>
          <a:stretch/>
        </p:blipFill>
        <p:spPr>
          <a:xfrm>
            <a:off x="971640" y="3429000"/>
            <a:ext cx="496872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st Press Conference on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ugust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9720" y="1773360"/>
            <a:ext cx="81630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Press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Press release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in Chinese)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3"/>
              </a:rPr>
              <a:t>Introduction script of exit poll questionnaire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4"/>
              </a:rPr>
              <a:t>Exit Poll Charte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5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in Chinese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6"/>
              </a:rPr>
              <a:t>“Media Digest” article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7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August 2012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5564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60F-E550-455A-8DDB-C5166549C4A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econd Press Conference on September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EA2D-F23C-47F3-9067-E4D02A78C89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O:\photos\20120907_LC_Exit_Poll_PC\DSC_1460.JPG"/>
          <p:cNvPicPr/>
          <p:nvPr/>
        </p:nvPicPr>
        <p:blipFill>
          <a:blip r:embed="rId1"/>
          <a:stretch/>
        </p:blipFill>
        <p:spPr>
          <a:xfrm>
            <a:off x="2771640" y="1757520"/>
            <a:ext cx="5986440" cy="397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O:\photos\20120907_LC_Exit_Poll_PC\DSC_1472.JPG"/>
          <p:cNvPicPr/>
          <p:nvPr/>
        </p:nvPicPr>
        <p:blipFill>
          <a:blip r:embed="rId2"/>
          <a:stretch/>
        </p:blipFill>
        <p:spPr>
          <a:xfrm>
            <a:off x="250920" y="2133720"/>
            <a:ext cx="280836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econd Press Conference on September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30080" y="1267920"/>
            <a:ext cx="82346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Press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Press release on LC rolling pol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rticle entitled “How to Interpret Rolling Polls”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word version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ticle entitled “How to Interpret Rolling Polls”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printed version by MingPao newspaper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List of 105 stations selected for exit poll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Signed Exit Poll Charter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Pledges by exit poll staff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Booklet entitled “Collection of Articles for 2004 LC election”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3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755640" y="105264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832-EF9A-43F6-96F7-47AA265CCBF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– New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560" y="191628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ly inform all respondents that the data woul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e used for election enginee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lation of POP’s operation from other operators, to prevent data leak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ponsors required t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a char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laining the usage of data and the timing of data transmi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ptions for respondents, like moving away from the polling stations, or keeping the data unprocessed until voting ends at 10:3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safety margins when calling the winners, and more sophisticated data processing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A28-FAEF-4869-9D7E-56C80BF60E4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operati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535F-6F2E-4486-BB55-55B3AA16C56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:\Users\frank.lee\Desktop\Frank\My Pictures\20100516_LC_byelection_Frank\Picture 004.jpg"/>
          <p:cNvPicPr/>
          <p:nvPr/>
        </p:nvPicPr>
        <p:blipFill>
          <a:blip r:embed="rId1"/>
          <a:stretch/>
        </p:blipFill>
        <p:spPr>
          <a:xfrm>
            <a:off x="468360" y="1557360"/>
            <a:ext cx="4127400" cy="283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:\LC 2012\Photos\IMG_1393.JPG"/>
          <p:cNvPicPr/>
          <p:nvPr/>
        </p:nvPicPr>
        <p:blipFill>
          <a:blip r:embed="rId2"/>
          <a:stretch/>
        </p:blipFill>
        <p:spPr>
          <a:xfrm>
            <a:off x="3492360" y="1916280"/>
            <a:ext cx="4499280" cy="293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O:\photos\20120909_LC_election_exit_poll\IMG_6439.JPG"/>
          <p:cNvPicPr/>
          <p:nvPr/>
        </p:nvPicPr>
        <p:blipFill>
          <a:blip r:embed="rId3"/>
          <a:stretch/>
        </p:blipFill>
        <p:spPr>
          <a:xfrm>
            <a:off x="1116000" y="2781360"/>
            <a:ext cx="4854600" cy="363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F:\LC 2012\Photos\IMG_1356.JPG"/>
          <p:cNvPicPr/>
          <p:nvPr/>
        </p:nvPicPr>
        <p:blipFill>
          <a:blip r:embed="rId4"/>
          <a:stretch/>
        </p:blipFill>
        <p:spPr>
          <a:xfrm>
            <a:off x="4356000" y="3284640"/>
            <a:ext cx="4498920" cy="33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Andy Kwok</cp:lastModifiedBy>
  <cp:lastPrinted>2012-09-28T01:55:51Z</cp:lastPrinted>
  <dcterms:modified xsi:type="dcterms:W3CDTF">2012-09-28T07:18:46Z</dcterms:modified>
  <cp:revision>1597</cp:revision>
  <dc:subject/>
  <dc:title>無投影片標題</dc:title>
</cp:coreProperties>
</file>