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HK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HK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422F-DECE-4596-9A93-054105A87CBB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8B02-200A-4611-BB22-492D17B0AD93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5BD1-77E9-410D-8C6D-2E335D9A3E51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F623-2065-4071-AFE4-814D3E0050CA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F10C-1609-44E5-BA44-B0313269DA06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1B44-282F-4C2B-9A53-146BE350BF10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3804-B43A-433C-8A51-10AE380C24AC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256F-4E73-44CB-86E5-B50CFDBB8704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86B0-F9F2-4313-8066-45BC3839F96A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9400-F3C4-441B-A05F-E03F28FF666D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E2AD-4102-47BF-9BCA-12D753404195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6468-AC47-42E4-87CA-3B58C628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6ABC-B8EC-4C52-8941-B635F994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4568-005B-4C8B-B7DF-A869C95C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7EED-56D1-41AC-B243-19441A1B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77EF-A19A-4A53-AFD7-E2A183C9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E6B7-168B-4776-971B-F7728267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7DFD-DEE9-4542-A308-7C1718FB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25DA-A61F-4EED-9A58-8ED63BE3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1E1A-E8B9-48DE-806D-6CFF8F03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78BA-EEFE-49CF-8001-4527D685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5530-82C6-43F1-8530-60ACC54D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F3A0-65AD-46EC-8D42-C8DAB6B4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0bd0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10cf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HK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A9EB-7C13-486D-BBC8-9C4ACF656876}" type="slidenum">
              <a:rPr b="0" lang="zh-HK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HK" sz="12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166F-91E6-4FF3-91F7-09A36A8A5279}" type="datetime">
              <a:rPr b="0" lang="zh-HK" sz="1200" spc="-1" strike="noStrike">
                <a:solidFill>
                  <a:srgbClr val="dbf5f9"/>
                </a:solidFill>
                <a:latin typeface="Calibri"/>
              </a:rPr>
              <a:t>26年7月30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popcon.hk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416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通識教育研討會 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2012</a:t>
            </a:r>
            <a:br>
              <a:rPr sz="1000"/>
            </a:br>
            <a:br>
              <a:rPr sz="1000"/>
            </a:br>
            <a:r>
              <a:rPr b="1" lang="zh-TW" sz="2400" spc="-1" strike="noStrike">
                <a:solidFill>
                  <a:srgbClr val="04617b"/>
                </a:solidFill>
                <a:latin typeface="Cambria"/>
              </a:rPr>
              <a:t>香港教育學院</a:t>
            </a:r>
            <a:r>
              <a:rPr b="0" lang="zh-TW" sz="2400" spc="-1" strike="noStrike">
                <a:solidFill>
                  <a:srgbClr val="04617b"/>
                </a:solidFill>
                <a:latin typeface="Cambria"/>
              </a:rPr>
              <a:t>、</a:t>
            </a:r>
            <a:r>
              <a:rPr b="1" lang="zh-TW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香港教育專業人員協會  及  香港通識教育教師聯會  合辦</a:t>
            </a:r>
            <a:br>
              <a:rPr sz="1000"/>
            </a:br>
            <a:br>
              <a:rPr sz="1000"/>
            </a:br>
            <a:r>
              <a:rPr b="1" lang="en-US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2012 </a:t>
            </a:r>
            <a:r>
              <a:rPr b="1" lang="zh-TW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年 </a:t>
            </a:r>
            <a:r>
              <a:rPr b="1" lang="en-US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6 </a:t>
            </a:r>
            <a:r>
              <a:rPr b="1" lang="zh-TW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月 </a:t>
            </a:r>
            <a:r>
              <a:rPr b="1" lang="en-US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19 </a:t>
            </a:r>
            <a:r>
              <a:rPr b="1" lang="zh-TW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日</a:t>
            </a:r>
            <a:endParaRPr b="0" lang="en-US" sz="24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62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鍾庭耀博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香港大學民意研究計劃總監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5"/>
          <p:cNvSpPr/>
          <p:nvPr/>
        </p:nvSpPr>
        <p:spPr>
          <a:xfrm>
            <a:off x="684360" y="3213000"/>
            <a:ext cx="7127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中港矛盾</a:t>
            </a:r>
            <a:r>
              <a:rPr b="1" lang="zh-TW" sz="5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多面睇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6201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通識學習  </a:t>
            </a:r>
            <a:r>
              <a:rPr b="1" lang="zh-TW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與  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opCon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85" name="Content Placeholder 2"/>
          <p:cNvSpPr/>
          <p:nvPr/>
        </p:nvSpPr>
        <p:spPr>
          <a:xfrm>
            <a:off x="611280" y="1916280"/>
            <a:ext cx="727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90FE-64BC-4218-9B1C-CAF2A490A5E9}" type="slidenum">
              <a:rPr b="0" lang="zh-HK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7488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香港大學民意研究計劃  與  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通識學習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1520" y="2057040"/>
            <a:ext cx="76201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611280" y="1413000"/>
            <a:ext cx="727380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「香港大學民意網站」：</a:t>
            </a:r>
            <a:r>
              <a:rPr b="0" lang="en-US" sz="2400" spc="-1" strike="noStrike" u="sng">
                <a:solidFill>
                  <a:srgbClr val="f49100"/>
                </a:solidFill>
                <a:uFillTx/>
                <a:latin typeface="Times New Roman"/>
                <a:ea typeface="Times New Roman"/>
                <a:hlinkClick r:id="rId1"/>
              </a:rPr>
              <a:t>http://hkupop.hku.h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民意調查 </a:t>
            </a:r>
            <a:r>
              <a:rPr b="1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民族問題 </a:t>
            </a:r>
            <a:r>
              <a:rPr b="1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bd0d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身分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bd0d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巿民對各地政府的觀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bd0d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巿民對各地人民的觀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網上資源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民意研究講座及工作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Con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普及民意平台」：</a:t>
            </a:r>
            <a:r>
              <a:rPr b="0" lang="en-US" sz="2400" spc="-1" strike="noStrike" u="sng">
                <a:solidFill>
                  <a:srgbClr val="f49100"/>
                </a:solidFill>
                <a:uFillTx/>
                <a:latin typeface="Times New Roman"/>
                <a:ea typeface="Times New Roman"/>
                <a:hlinkClick r:id="rId2"/>
              </a:rPr>
              <a:t>http://popcon.h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民意討論、 有獎遊戲、 時事新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B38C-C921-4F63-B524-5D45E7F7E226}" type="slidenum">
              <a:rPr b="0" lang="zh-HK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620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民意調查：香港巿民身分認同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5" descr=""/>
          <p:cNvPicPr/>
          <p:nvPr/>
        </p:nvPicPr>
        <p:blipFill>
          <a:blip r:embed="rId1"/>
          <a:stretch/>
        </p:blipFill>
        <p:spPr>
          <a:xfrm>
            <a:off x="324000" y="1335240"/>
            <a:ext cx="7850160" cy="512100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6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245C-83E5-4714-834C-4F9681F3BE4A}" type="slidenum">
              <a:rPr b="0" lang="zh-HK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620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民意調查：香港巿民身分認同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hart 6" descr=""/>
          <p:cNvPicPr/>
          <p:nvPr/>
        </p:nvPicPr>
        <p:blipFill>
          <a:blip r:embed="rId1"/>
          <a:stretch/>
        </p:blipFill>
        <p:spPr>
          <a:xfrm>
            <a:off x="324000" y="1335240"/>
            <a:ext cx="7918200" cy="512100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4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AC96-33A2-4FCA-B749-38F273E99728}" type="slidenum">
              <a:rPr b="0" lang="zh-HK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620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民意調查：香港巿民身分認同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6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26A6-D9B9-4150-BC30-209DAA213CB7}" type="slidenum">
              <a:rPr b="0" lang="zh-HK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hart 6" descr=""/>
          <p:cNvPicPr/>
          <p:nvPr/>
        </p:nvPicPr>
        <p:blipFill>
          <a:blip r:embed="rId1"/>
          <a:stretch/>
        </p:blipFill>
        <p:spPr>
          <a:xfrm>
            <a:off x="324000" y="1335240"/>
            <a:ext cx="799128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620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民意調查：香港巿民身分認同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52B2-6CE9-4FF2-8071-BD8D937E2ED3}" type="slidenum">
              <a:rPr b="0" lang="zh-HK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hart 5" descr=""/>
          <p:cNvPicPr/>
          <p:nvPr/>
        </p:nvPicPr>
        <p:blipFill>
          <a:blip r:embed="rId1"/>
          <a:stretch/>
        </p:blipFill>
        <p:spPr>
          <a:xfrm>
            <a:off x="324000" y="1335240"/>
            <a:ext cx="78501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民意調查：政府／人民觀感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536840"/>
            <a:ext cx="7427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9640" y="1397160"/>
          <a:ext cx="7417080" cy="4768560"/>
        </p:xfrm>
        <a:graphic>
          <a:graphicData uri="http://schemas.openxmlformats.org/drawingml/2006/table">
            <a:tbl>
              <a:tblPr/>
              <a:tblGrid>
                <a:gridCol w="2471760"/>
                <a:gridCol w="2473560"/>
                <a:gridCol w="2471760"/>
              </a:tblGrid>
              <a:tr h="95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好感</a:t>
                      </a:r>
                      <a:br>
                        <a:rPr sz="3200"/>
                      </a:b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地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政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954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香港自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52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54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台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54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澳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76" name="Slide Number Placehold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3CD2-78F9-4F54-8C26-5AF6911B0848}" type="slidenum">
              <a:rPr b="0" lang="zh-HK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從民意調查  看  </a:t>
            </a:r>
            <a:r>
              <a:rPr b="1" lang="zh-TW" sz="3200" spc="-1" strike="noStrike">
                <a:solidFill>
                  <a:srgbClr val="ff0000"/>
                </a:solidFill>
                <a:latin typeface="Cambria"/>
              </a:rPr>
              <a:t>中港矛盾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468360" y="1484280"/>
            <a:ext cx="762012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ts val="3197"/>
              </a:lnSpc>
              <a:spcBef>
                <a:spcPts val="1199"/>
              </a:spcBef>
              <a:spcAft>
                <a:spcPts val="601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「香港巿民中無論是狹義或廣義地自稱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『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香港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』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比率，都比狹義或廣義地自稱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『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國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』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比率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……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當中自稱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『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國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』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比率更跌至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以來的新低 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2011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12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月市民身分認同調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3197"/>
              </a:lnSpc>
              <a:spcBef>
                <a:spcPts val="1199"/>
              </a:spcBef>
              <a:spcAft>
                <a:spcPts val="601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「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香港巿民對各地人民的好感，全部都高於對當地政府的好感，大陸除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……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香港巿民對所有人民都是好感居多，大陸及菲律賓人除外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2012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5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月各地政府及人民的觀感調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3197"/>
              </a:lnSpc>
              <a:spcBef>
                <a:spcPts val="1199"/>
              </a:spcBef>
              <a:spcAft>
                <a:spcPts val="601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調查項目與通識課程單元二（今日香港－－身份和身份認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）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和單元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（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現代中國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－－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中國的改革開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）互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相呼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886E-16E3-4215-AD57-7506996926FB}" type="slidenum">
              <a:rPr b="0" lang="zh-HK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6201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通識學習  </a:t>
            </a:r>
            <a:r>
              <a:rPr b="1" lang="zh-TW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與  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opCon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1520" y="20570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611280" y="1773360"/>
            <a:ext cx="72738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ts val="3197"/>
              </a:lnSpc>
              <a:spcBef>
                <a:spcPts val="1199"/>
              </a:spcBef>
              <a:spcAft>
                <a:spcPts val="1199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細明體"/>
              </a:rPr>
              <a:t>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細明體"/>
              </a:rPr>
              <a:t>POPCON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細明體"/>
              </a:rPr>
              <a:t>普及民意平台」 由民研計劃設立，是一個集社交、娛樂、消費、教育於一身的綜合平台。目的是透過趣味活動和獎勵計劃，驅動平台成員積極參與各類與社會息息相關的討論和活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ts val="3197"/>
              </a:lnSpc>
              <a:spcBef>
                <a:spcPts val="1199"/>
              </a:spcBef>
              <a:spcAft>
                <a:spcPts val="1199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細明體"/>
              </a:rPr>
              <a:t>三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細明體"/>
              </a:rPr>
              <a:t>大活動範疇：「 民意討論」、「 有獎遊戲」、「 時事新聞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ts val="3197"/>
              </a:lnSpc>
              <a:spcBef>
                <a:spcPts val="1199"/>
              </a:spcBef>
              <a:spcAft>
                <a:spcPts val="1199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細明體"/>
              </a:rPr>
              <a:t>「 民意討論」的設計能讓用戶共同參與討論時事大事，並從多角度思考及分析不同立場的理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D380-D572-4554-90FD-031BE2FFCD55}" type="slidenum">
              <a:rPr b="0" lang="zh-HK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14:49:06Z</dcterms:created>
  <dc:creator>Edward Tai</dc:creator>
  <dc:description/>
  <dc:language>en-US</dc:language>
  <cp:lastModifiedBy>Esther Or</cp:lastModifiedBy>
  <dcterms:modified xsi:type="dcterms:W3CDTF">2012-06-18T02:46:57Z</dcterms:modified>
  <cp:revision>26</cp:revision>
  <dc:subject/>
  <dc:title>通識教育研討會 教協會，2012年6月19日</dc:title>
</cp:coreProperties>
</file>