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EFB-76F3-4386-BCCB-87110B95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B1E-A71A-47C1-B6AA-D6756617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270-7815-4062-9740-9FF7605D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FC9-56AF-49B2-8E35-EC8EC743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86E-1BA2-46AE-ADB0-57A4781C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959-9E9B-4C8A-8F4D-AFAE7DFA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032-310F-4838-AC63-365247F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BAC-D041-494D-A903-94D52472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6BD-8F28-4450-A21F-CB265044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BD2-4376-4BEE-BBF4-7933ECB8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87D-E75B-4635-AD55-5C7BFAF2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D7F-F01A-487B-8335-C2D58983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24C81-EEC0-4B56-88A5-303D623B402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SimSun"/>
              </a:rPr>
              <a:t>Questionnaires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SimSun"/>
              </a:rPr>
              <a:t>問卷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Calibri"/>
              <a:ea typeface="SimSun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457200" y="441972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协商民意调查和定量研究方法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Deliberative Polling &amp; Quantitative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问卷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Questionnaires –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之前和之后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before &amp; after delib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政策态度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Policy Attitu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：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How important is constructing road X in this village?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在这村里建这条道路有多重要？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价值观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Val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：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How important is this to you and your family’s daily life convenience?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对您为您家人生话方便有多大重要？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协商民意调查和定量研究方法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Deliberative Polling &amp; Quantitative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知识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：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Which of the below is not a major product of Zeguo Township?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下例的哪个产品不是泽国镇的主要产品？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人口统计／人基本情况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Demograph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：性别，年龄，等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评估问题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Evaluation Ques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：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What are your views on the entire day of deliberation?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您对今天的协商讨论的看法？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SimSun"/>
              </a:rPr>
              <a:t>問卷注意事項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Be aware: Questionnair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設計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Length, participants, types of ques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問題標度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Question sca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1 to 5, 1 to 7, 0 to 10 s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SimSun"/>
              </a:rPr>
              <a:t>Differences between scale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同意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不同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Agree/Disagree;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贊同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反對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Favor/Oppose;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重要／不重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Important/Unimporta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SimSun"/>
              </a:rPr>
              <a:t>注意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SimSun"/>
              </a:rPr>
              <a:t>Be aware: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SimSun"/>
              </a:rPr>
              <a:t>认同偏差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SimSun"/>
              </a:rPr>
              <a:t>Acquiescence Bia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SimSun"/>
              </a:rPr>
              <a:t>問卷注意事項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SimSun"/>
              </a:rPr>
              <a:t>Be aware: Questionnai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問題順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Question or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General to Specific? Specific to General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例如 人口統計問題在最後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i.e. demographic questions at the e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SimSun"/>
              </a:rPr>
              <a:t>雙重含義問題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Double-barreled ques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Example: Should the government spend less money on military and more money on education?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SimSun"/>
              </a:rPr>
              <a:t>政府是否应该花多点钱在军事，少点钱在教育？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SimSun"/>
              </a:rPr>
              <a:t>問卷注意事項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Be aware: Questionnair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問題中的信息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Information in 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不知道或不適用選項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Don‘t Know or N/A Op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短或長的問卷調查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Shorter vs. longer surve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前期測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Pre-test surve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SimSun"/>
              </a:rPr>
              <a:t>問卷注意事項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Be aware: Questionnair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收集方法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Method of Colle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面對面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In-person:  longer interviews, personal connection, more cost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郵寄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Mail: less costs, low response rate, significant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電話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Phone: less costs, lower tolerance for long interviews, small window to c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網絡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Internet: cost and time effective, no interview bias, must have computer or ac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SimSun"/>
              </a:rPr>
              <a:t>協商民意調查與定量研究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Deliberative Polling &amp; Quantitative Researc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筆錄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Transcrip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研究筆錄來獲得對協商更深入的理解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Study the transcripts for deeper understanding on discus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SimSun"/>
              </a:rPr>
              <a:t>比較筆錄和問卷結果 （有效性）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SimSun"/>
              </a:rPr>
              <a:t>Compare the results of issues in the transcripts to the questionnaires (validit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Center for Deliberative Democracy, Stanford Univers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0:33:39Z</dcterms:created>
  <dc:creator>Alice Siu</dc:creator>
  <dc:description/>
  <dc:language>en-US</dc:language>
  <cp:lastModifiedBy>Andy Kwok</cp:lastModifiedBy>
  <dcterms:modified xsi:type="dcterms:W3CDTF">2011-12-14T04:41:31Z</dcterms:modified>
  <cp:revision>4</cp:revision>
  <dc:subject/>
  <dc:title>Questionnaires問卷</dc:title>
</cp:coreProperties>
</file>