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6451FE-63FE-4532-A416-48A686A1601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66E647-138B-42D9-91F2-32C8795993D0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540933-7BF6-4A68-95B2-8C64FC7141E3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16F44-77E7-4254-AC54-F1F922162978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7CD55B-FFF8-466D-AF6A-433D44AF26F6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A36EDA-7AF7-430F-BA1D-AF08B9CDB8B3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27520" y="9372600"/>
            <a:ext cx="2927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D6463F-4E5C-46CF-9C6A-E550A9C2EFB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5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A30-C4BA-4283-98AF-AE9B4EAA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91B-6D4E-45FF-B06A-3F2B8E5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8A1-3C88-4D0E-8594-64BA1DE2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924-ADE6-487A-8F03-20E75701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A81-9775-43C6-8703-A1299E41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0639-BE92-40A1-AF7F-DF1DCEC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14CF-951B-44CF-8B9B-188D886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614-AC8D-40CD-8AB2-345975B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A34-AF3F-4875-95C1-C821069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484D-8994-4A45-8224-D8CC934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DE6B-E909-49E0-A7B0-FF7E2A7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658-0AE5-4CB1-ACA9-6CC5A5A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CC65-864B-473D-8E18-2A0AF0D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891E-7BED-4C5D-B4B0-32475B0C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27DB-0CFC-4B96-B5C8-C8EAE3A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01E2-862A-41A6-A973-543E504B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D5D-E5D1-4013-B5A7-D1E68D65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F41-05B6-4787-9721-F9328B0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CCE-6F20-4CDB-8493-8027996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CF2-93A0-40F7-8183-2B203C7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DA-A8E7-474A-ACFB-462F8A0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770-38D7-45D9-BA64-1F9C39B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60B-7CA2-42BD-9D15-A5F4CC8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9F7-17A7-4D90-A9C5-3ABC0B4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FC45-A604-4352-B55B-D2DD020D4A7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64FF-2FCB-46D0-87BA-1B2B5A71E38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82496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 ON DELIBERATIVE DEMOCRAC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NSULTATION, AND THE MEDIA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July 2011</a:t>
            </a: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litics of Collating Public Opinion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 Cases of Misrepresentation of Public Opinion in Hong Ko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5640" y="486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rt CH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versity of Hong K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storical Setting of the 1988 Inciden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2: Talks on the future of Hong Ko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4: Major review of HK’s constitutional development; Sino-British Joint Declaration 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7: Another review of constitutional reform – the question of 1988 direct ele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n Paper, White Paper, direction elections deferred to 199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ng Kong government faked opinion data in support of the de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8 – 1991 – 1995 – 1997 – 2002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storical Setting of the 2003 Inciden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 July: HKSAR Chief Executive entere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rm of off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 Sep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posals to Implement Article 23 of the Basic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a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endium of Submi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KSAR Government faked opinion data ag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Feb: National Security B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1: 500,000 people took to the str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5: Government insisted on legislation on July 9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6: One key cabinet member re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7: Government postponed legisl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July 16: Key officials resig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3 Sep 5: Government withdrew the Bill from the legislative program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tegy of British HK Government (1988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8487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1,589 submissions grouped into 3 categories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organizations and individu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nion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98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1: pre-printed forms (73,767) lumped with individual submissions,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boosting opposition r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2: Two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biased opin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olls conducted by a marketing firm, to prove marginal public opposi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 3: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etitions considered not rati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21 petitions – 23,866 supporters vs 295 opponent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: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3-0 “support” became a 1-2 marginal “opposition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tegy of HKSAR Government (2003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12800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0,909 submissions made by 369,612 individuals and over 1,000 organiz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egorization by typ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organiz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from individu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ssions in the form of standard letters and pre-printed opinion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400" indent="-278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egorization by inclination,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overnment conclusion: 67.5% support, 28.2% opposed, 4.3% un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if we count names/signatures (embedded in all submissions), conclusio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should be 36.9% support, 60.2% opposed, 2.8% un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4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705800" cy="34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cy is the rule of the peopl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y the peo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ut Hong Kong has never been a democracy, before or after 1997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mocratic governments needs the backing of public opinion to justify it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o they are always tempted to fake opinion research finding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a strong need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ofessional stand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nducting surve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running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ublic consul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Valued Acer Customer</cp:lastModifiedBy>
  <cp:lastPrinted>2000-02-18T04:31:22Z</cp:lastPrinted>
  <dcterms:modified xsi:type="dcterms:W3CDTF">2011-07-10T04:29:37Z</dcterms:modified>
  <cp:revision>116</cp:revision>
  <dc:subject/>
  <dc:title>Project Overview</dc:title>
</cp:coreProperties>
</file>