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1AE1CB-A813-4571-8EC4-720969AEF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BCA404-8D1E-4EEF-9FC7-5953ABB94FE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6CD060-B561-40AB-A743-A0C0590A70E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0AADAAE-D022-4368-B029-5ED660A0FC4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DFF6B9-0ADC-4229-ACFD-C80A246B98E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DDF27B-FFB2-4481-BFEA-8077597975B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319CF4-A009-4E93-9980-5471E99E0FC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5C041F-F370-4ADB-B370-7BE7DC80DCF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135421-0A10-4578-8612-45128A6DD6D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0C0E33-D2C7-4608-88FB-62807492302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30ECFA-4993-4782-A046-5FC56DB1A04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E0B509-2000-42DE-BCA2-AF499DEAA8B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8F0A6F-AEEF-4C8D-9987-8AC7EB2AAA8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924AFEB-D68E-4229-B03D-9D6A7D4A8AE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579AE2-E9BB-4058-8AEE-2C819DC1804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FF04C8-6DE9-4763-A5B9-F21D1103205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91BAA1-2801-46E2-BAD4-778EB042071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1B6-48B7-4CEC-961F-BA77C5C5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22C-9FB5-4323-85A8-9CF0031C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10C-74C9-4F9B-BC14-64DB30BE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618-47F4-46D5-875F-CE4CB424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784-1044-4406-A008-78AF8F86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685-E2D1-4C3E-B8A4-70C461AF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C33-C93B-4640-8407-64C9F830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663-0CE4-46C3-A4DA-B5F2A6B0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3D1-A9FF-48DA-8318-AA21C16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F70-C81C-409C-B471-D3C13E1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FD0-889F-468C-B924-E834BAF0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ADE-F551-4467-862A-858F783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F463-F345-4FE4-B9D5-B2AFDD0990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141720"/>
            <a:ext cx="914400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Lecture at Macau Civil Servant's Association (ATFPM)</a:t>
            </a:r>
            <a:br>
              <a:rPr sz="2500"/>
            </a:br>
            <a:r>
              <a:rPr b="1" i="1" lang="en-US" sz="25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“The Dos and Don'ts of Opinion Surveys”</a:t>
            </a:r>
            <a:br>
              <a:rPr sz="2400"/>
            </a:br>
            <a:r>
              <a:rPr b="1" i="1" lang="en-GB" sz="10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4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澳門公職人員協會講座</a:t>
            </a:r>
            <a:r>
              <a:rPr b="1" i="1" lang="zh-TW" sz="28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「民意調查的該與不該」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05264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900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26920" y="5013360"/>
            <a:ext cx="7543800" cy="12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香港大學民意研究計劃總監 鍾庭耀博士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Times New Roman"/>
              </a:rPr>
              <a:t>18/6/2011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2871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62456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826920" y="1628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1000080" y="1989000"/>
            <a:ext cx="735804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a06"/>
                </a:solidFill>
                <a:latin typeface="Times New Roman"/>
              </a:rPr>
              <a:t>研究機構的責任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可自由地進行及發表各項民意研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接受專業或法律考慮以外的任何限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採用旨在誤導社會人士的研究工具或方法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刻意曲解研究結果以達致不準或不確的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應要在其研究結果被嚴重曲解時挺身而出，向傳媒或受眾發放 適當的數據或聲明以正視聽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900000" y="1773360"/>
            <a:ext cx="757260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研究機構須要在發放調查結果後為公眾人士（包括傳媒及其他民意研究者）提供下列有關該等調查的資料：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研究的目的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選樣的方法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回應的比率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被訪者的背景資料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各項統計程序及方法，包括樣本基數及加權方法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結果的準確度，包括抽樣誤差（如果適用的話）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問卷全份及訪問員守則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標準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755640" y="1700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971640" y="2205000"/>
            <a:ext cx="73580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a06"/>
                </a:solidFill>
                <a:latin typeface="Times New Roman"/>
              </a:rPr>
              <a:t>報導機構的責任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必須遵從一切現行有關傳媒工作的各項專業守則，尤其是關於報導事實及對資料準確性的要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應讓其受眾知道其已遵從本守則內的規範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倘若其亦有進行民意調查的話，必須遵從本守則內一切有關民意研究者的各項規範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不得防礙其他民意研究者履行本守則內的各項責任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755640" y="1628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900000" y="2060640"/>
            <a:ext cx="7572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報導機構須要在發放調查結果後為公眾人士（包括傳媒及其他民意研究者）提供下列有關該等調查的資料：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研究機構的名稱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選樣的方法，及若果採用隨機抽樣的話，回應的比率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樣本的數目，及各項加權方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結果的準確程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問卷中有關部分的提問方法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755640" y="1773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900000" y="2276640"/>
            <a:ext cx="757260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a06"/>
                </a:solidFill>
                <a:latin typeface="Times New Roman"/>
              </a:rPr>
              <a:t>電子傳媒必須在報導民意調查時提供下列有 關該等調查的基本資料：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研究機構的名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樣本的數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82480" y="39337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33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民研計劃  服務政策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75564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調查的該與不該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042920" y="2133720"/>
            <a:ext cx="36003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區別民調優劣的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應該：梳理資料、信中存疑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不該：信手拈來、不求甚解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4716360" y="3068640"/>
            <a:ext cx="360072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使用民調的時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應該：遵從指引、面向世界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不該：搓圓弄扁、各取所需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2195640" y="4653000"/>
            <a:ext cx="36003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發展民調的時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應該：至真至誠、不屈不撓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不該：卑躬屈膝、避重就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內容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785880" y="192888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民意研究的目的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個案分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那些機構需要民調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如何分析調查結果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643280" y="1928880"/>
            <a:ext cx="39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國際專業水平簡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研究機構的責任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報導機構的責任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委託機構的角色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2500200" y="4429080"/>
            <a:ext cx="41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前瞻未來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調發放自由全球狀況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12 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意研究學會年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香港大學民意網站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143000" y="264312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下載是次講座內容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網上資源 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民意研究講座及工作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澳門公職人員協會講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「民意調查的該與不該」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 “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tfpm11”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調查個案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26920" y="2421000"/>
          <a:ext cx="7490160" cy="3816360"/>
        </p:xfrm>
        <a:graphic>
          <a:graphicData uri="http://schemas.openxmlformats.org/drawingml/2006/table">
            <a:tbl>
              <a:tblPr/>
              <a:tblGrid>
                <a:gridCol w="1640160"/>
                <a:gridCol w="1989000"/>
                <a:gridCol w="303120"/>
                <a:gridCol w="1746360"/>
                <a:gridCol w="1811520"/>
              </a:tblGrid>
              <a:tr h="34920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.6.1-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.1.24-2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.1.18-2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樣本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香港巿民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0</a:t>
                      </a: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人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澳門巿民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8</a:t>
                      </a: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人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香港巿民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18</a:t>
                      </a: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人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人選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曾蔭權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崔世安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曾蔭權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4160">
                <a:tc gridSpan="5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支持率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反對率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不肯定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合計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4520">
                <a:tc gridSpan="5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評分</a:t>
                      </a: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-10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5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3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矩形 7"/>
          <p:cNvSpPr/>
          <p:nvPr/>
        </p:nvSpPr>
        <p:spPr>
          <a:xfrm>
            <a:off x="826920" y="1773360"/>
            <a:ext cx="69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特區行政長官民望調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研究的目的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1714680" y="1928880"/>
            <a:ext cx="621504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a06"/>
                </a:solidFill>
                <a:latin typeface="Times New Roman"/>
              </a:rPr>
              <a:t>哪些機構需要做研究</a:t>
            </a:r>
            <a:r>
              <a:rPr b="1" lang="en-US" sz="3000" spc="-1" strike="noStrike">
                <a:solidFill>
                  <a:srgbClr val="fffa06"/>
                </a:solidFill>
                <a:latin typeface="Times New Roman"/>
              </a:rPr>
              <a:t>？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傳媒、新聞機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學術機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決策機構、政府部門、公營機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政黨、政治團體、智囊組織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民間組織、壓力團體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商業機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其他組織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研究的目的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714680" y="1928880"/>
            <a:ext cx="62150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a06"/>
                </a:solidFill>
                <a:latin typeface="Times New Roman"/>
              </a:rPr>
              <a:t>如何分析調查結果 </a:t>
            </a:r>
            <a:r>
              <a:rPr b="1" lang="en-US" sz="3000" spc="-1" strike="noStrike">
                <a:solidFill>
                  <a:srgbClr val="fffa06"/>
                </a:solidFill>
                <a:latin typeface="Times New Roman"/>
              </a:rPr>
              <a:t>？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如何判別數字的代表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樣本數目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抽樣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回應比率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抽樣誤差、其他偏差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操作過程、品質監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公開程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研究的目的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1714680" y="1928880"/>
            <a:ext cx="621504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a06"/>
                </a:solidFill>
                <a:latin typeface="Times New Roman"/>
              </a:rPr>
              <a:t>應該選擇哪種研究方法 </a:t>
            </a:r>
            <a:r>
              <a:rPr b="1" lang="en-US" sz="3000" spc="-1" strike="noStrike">
                <a:solidFill>
                  <a:srgbClr val="fffa06"/>
                </a:solidFill>
                <a:latin typeface="Times New Roman"/>
              </a:rPr>
              <a:t>？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電話訪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住戶訪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郵寄問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小組討論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街頭訪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網上調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調二十問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971640" y="1844640"/>
            <a:ext cx="745956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誰做的民意調查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誰支付民意調查？為什麼要支付這個民意調查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這個民意調查訪問了多少人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如何選擇被訪者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被訪者屬於什麼地區或類別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意調查結果是否建基於所有被訪者的答案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誰會接受訪問？回應率有關係嗎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什麼時候做的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訪問如何進行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是互聯網上的民意調查嗎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調二十問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928800" y="1714680"/>
            <a:ext cx="757224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抽樣誤差如何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可以確認誰在選舉調查中領先嗎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有沒有扭曲調查結果的因素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中問了什麼問題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問題的次序如何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有否借問卷內容攻擊某些人仕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push poll)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有沒有選擇性地公佈調查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是否一個票站調查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意調查報告還有甚麼欠缺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我已經問了所有問題。答案似乎不錯，我們應該報導結果嗎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Valued Acer Customer</cp:lastModifiedBy>
  <cp:lastPrinted>2001-04-04T10:00:24Z</cp:lastPrinted>
  <dcterms:modified xsi:type="dcterms:W3CDTF">2011-06-18T00:39:39Z</dcterms:modified>
  <cp:revision>767</cp:revision>
  <dc:subject/>
  <dc:title>無投影片標題</dc:title>
</cp:coreProperties>
</file>