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9E0F3F-50BA-4F15-A17A-2F1B8BD7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4587AA-F738-41DD-A81D-2F9EA93EFF1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DC6307-CD3F-4DFB-9EA7-CFBF2510AAB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127DF1-EB9F-44FF-9481-C276FB9ACAD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9123CC-E359-42C6-852D-31D51C47726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479EAE-F3E1-4D4E-BE46-4E4B7F25B64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DF122D-99A4-49BA-99F1-DFBB4CBE4CB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5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CEB70F-1EC4-40F0-A1F0-E3DBBFB2419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77C3C3-B249-4603-9632-F648EA08D94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32EC88-9135-42D4-86B4-D1CFEA856CA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047369-51E4-4F78-821B-4683EC29A6B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D8C9CB-BE4A-4681-8869-52CB3D2B8D0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F76EBF-5ED4-41BD-97BC-0F3C93B40CA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E696A5-79FD-49CC-9617-1D7F524E417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63C9EB-EB58-4A2F-92E0-AC31D9AB485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DB447F-15E9-4E6E-9E7F-81B91A86BE8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4A9F01-6F28-4278-B0B0-11F3912E98F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8EAFDA-06CE-4E4F-B0CD-2804935E697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48737F-6C18-42B1-90BB-C6A64A6AC8E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B5EFB3-B7FE-48CB-B888-7B2AB25EB82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47880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8B9683-B119-452E-8E05-ABBB097B25C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4920" y="747720"/>
            <a:ext cx="4988160" cy="374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D33-6AC7-41D8-890A-14D10B27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865-57AE-4A33-B0C7-385CBFAB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66E-BA0D-408E-AB8A-E41078E8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344-3DAC-4EA1-A639-81AE14CB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0BE-79CC-4956-B7ED-BF1585C8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CD5-F94F-4137-957B-28D403A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DC6-BFFC-41EF-94F8-6E04A77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3F0-6A66-435E-88F9-BB131F9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A45-C455-49F2-ABC3-ED47DB62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5EC-FE64-4128-9E70-88A6337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E7B-3A60-48E1-9B37-83EC267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7CA-81FC-45FE-A782-1D38EA6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CB35-40CC-4895-A395-E0620B6CD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opcon.hkupop.hku.hk/" TargetMode="External"/><Relationship Id="rId2" Type="http://schemas.openxmlformats.org/officeDocument/2006/relationships/hyperlink" Target="http://popcon.hkupop.hku.h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Lecture at </a:t>
            </a:r>
            <a:r>
              <a:rPr b="1" i="1" lang="en-GB" sz="24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City University of Hong Kon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, 25 March 2011</a:t>
            </a:r>
            <a:br>
              <a:rPr sz="2400"/>
            </a:br>
            <a:r>
              <a:rPr b="1" i="1" lang="en-GB" sz="1000" spc="-1" strike="noStrike">
                <a:solidFill>
                  <a:srgbClr val="ffff99"/>
                </a:solidFill>
                <a:latin typeface="Times New Roman"/>
                <a:ea typeface="TSC USong S TT"/>
              </a:rPr>
              <a:t>    </a:t>
            </a:r>
            <a:br>
              <a:rPr sz="2400"/>
            </a:b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“</a:t>
            </a:r>
            <a:r>
              <a:rPr b="1" i="1" lang="en-US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TV Audience Studies: TVAI and QMI</a:t>
            </a:r>
            <a:r>
              <a:rPr b="1" i="1" lang="en-GB" sz="3000" spc="-1" strike="noStrike">
                <a:solidFill>
                  <a:srgbClr val="fffa06"/>
                </a:solidFill>
                <a:latin typeface="Times New Roman"/>
                <a:ea typeface="TSC USong S TT"/>
              </a:rPr>
              <a:t>”</a:t>
            </a:r>
            <a:br>
              <a:rPr sz="2800"/>
            </a:b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0" name="Object 205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1536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055"/>
          <p:cNvSpPr/>
          <p:nvPr/>
        </p:nvSpPr>
        <p:spPr>
          <a:xfrm>
            <a:off x="857160" y="5429160"/>
            <a:ext cx="75438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Line 2059"/>
          <p:cNvSpPr/>
          <p:nvPr/>
        </p:nvSpPr>
        <p:spPr>
          <a:xfrm>
            <a:off x="457200" y="311472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60"/>
          <p:cNvSpPr/>
          <p:nvPr/>
        </p:nvSpPr>
        <p:spPr>
          <a:xfrm>
            <a:off x="457200" y="48672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C762-E2AA-473F-AD06-38367429017F}" type="slidenum"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定質部分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觀眾意見交流會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– 從一般公眾或特定組群中，隨機抽出電視觀眾進行焦點討論，收集有關人士對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不同議題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的詳細意見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00"/>
                </a:solidFill>
                <a:latin typeface="新細明體"/>
              </a:rPr>
              <a:t>其他活動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網上平台</a:t>
            </a:r>
            <a:r>
              <a:rPr b="1" lang="zh-TW" sz="20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– 透過嶄新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的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網上平台，蒐集</a:t>
            </a:r>
            <a:r>
              <a:rPr b="0" lang="zh-HK" sz="2000" spc="-1" strike="noStrike">
                <a:solidFill>
                  <a:srgbClr val="ccecff"/>
                </a:solidFill>
                <a:latin typeface="新細明體"/>
              </a:rPr>
              <a:t>年青組群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的意見。網上平台將會包括娛樂、遊戲、討論、和其他公眾事務活動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ccec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舉辦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學術研討會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和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新細明體"/>
              </a:rPr>
              <a:t>專業工作坊</a:t>
            </a:r>
            <a:r>
              <a:rPr b="0" lang="zh-TW" sz="2000" spc="-1" strike="noStrike">
                <a:solidFill>
                  <a:srgbClr val="ccecff"/>
                </a:solidFill>
                <a:latin typeface="新細明體"/>
              </a:rPr>
              <a:t>，與業界和學界分享成果</a:t>
            </a:r>
            <a:r>
              <a:rPr b="0" lang="en-US" sz="20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74760" indent="0" algn="just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755640" y="1700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S Sur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v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2011 Round 1 Resul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84360" y="148428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a06"/>
                </a:solidFill>
                <a:latin typeface="Times New Roman"/>
              </a:rPr>
              <a:t>Audience size of new media (any last 7 day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84360" y="5157720"/>
            <a:ext cx="770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過去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七日內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，您有冇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連續收</a:t>
            </a:r>
            <a:r>
              <a:rPr b="0" lang="zh-HK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睇電視節目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鐘或以上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呢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收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定義係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包括透過電視機、互聯網、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、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手提電話、以及其他方法收睇直播、重播、或者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嘅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自己重溫電視節目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只要過去</a:t>
            </a:r>
            <a:r>
              <a:rPr b="0" lang="zh-HK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七日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內連續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5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分鐘或以上就算有</a:t>
            </a:r>
            <a:r>
              <a:rPr b="0" lang="zh-HK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。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問題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: 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咁您喺</a:t>
            </a:r>
            <a:r>
              <a:rPr b="0" lang="zh-TW" sz="16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透過乜野工具收睇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呢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D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電視節目</a:t>
            </a:r>
            <a:r>
              <a:rPr b="0" lang="zh-TW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?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2276640"/>
          <a:ext cx="7632720" cy="2199960"/>
        </p:xfrm>
        <a:graphic>
          <a:graphicData uri="http://schemas.openxmlformats.org/drawingml/2006/table">
            <a:tbl>
              <a:tblPr/>
              <a:tblGrid>
                <a:gridCol w="1163520"/>
                <a:gridCol w="1017720"/>
                <a:gridCol w="1120680"/>
                <a:gridCol w="1009440"/>
                <a:gridCol w="1516320"/>
                <a:gridCol w="18050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兩週調查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綜合結果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視機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電腦及其他工具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)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推算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整體樣本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1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4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56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特選群組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後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即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-29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歲人士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99%) 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br>
                        <a:rPr sz="1400"/>
                      </a:b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8%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8"/>
          <p:cNvSpPr/>
          <p:nvPr/>
        </p:nvSpPr>
        <p:spPr>
          <a:xfrm>
            <a:off x="684360" y="458136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電視機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數碼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高清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其他傳統電視機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而其他工具包括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電腦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手提電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HK" sz="1200" spc="-1" strike="noStrike">
                <a:solidFill>
                  <a:srgbClr val="ccecff"/>
                </a:solidFill>
                <a:latin typeface="Times New Roman"/>
              </a:rPr>
              <a:t>交通工具資訊系統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55640" y="1341360"/>
          <a:ext cx="7561440" cy="401796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1152360"/>
                <a:gridCol w="1584360"/>
                <a:gridCol w="1800360"/>
              </a:tblGrid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視人口推算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 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視機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腦及其他工具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觀眾人口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2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2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6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4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0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9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3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6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5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2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9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0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1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5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5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520"/>
          <p:cNvSpPr/>
          <p:nvPr/>
        </p:nvSpPr>
        <p:spPr>
          <a:xfrm>
            <a:off x="755640" y="54450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推算       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305"/>
          <p:cNvSpPr/>
          <p:nvPr/>
        </p:nvSpPr>
        <p:spPr>
          <a:xfrm>
            <a:off x="900000" y="33336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TV Audience S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文字方塊 1"/>
          <p:cNvSpPr/>
          <p:nvPr/>
        </p:nvSpPr>
        <p:spPr>
          <a:xfrm>
            <a:off x="755640" y="5878440"/>
            <a:ext cx="7561440" cy="368280"/>
          </a:xfrm>
          <a:prstGeom prst="rect">
            <a:avLst/>
          </a:prstGeom>
          <a:solidFill>
            <a:srgbClr val="2f79aa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每週電視觀眾數目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，以非電視機收看者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-40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755640" y="1052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20"/>
          <p:cNvSpPr/>
          <p:nvPr/>
        </p:nvSpPr>
        <p:spPr>
          <a:xfrm>
            <a:off x="826920" y="5445000"/>
            <a:ext cx="740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註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 *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次樣本數目不足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30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，數據從略            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根據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年年中的最新香港人口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總數為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ccecff"/>
                </a:solidFill>
                <a:latin typeface="Times New Roman"/>
              </a:rPr>
              <a:t>推算       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r>
              <a:rPr b="0" i="1" lang="en-US" sz="800" spc="-1" strike="noStrike">
                <a:solidFill>
                  <a:srgbClr val="ccecff"/>
                </a:solidFill>
                <a:latin typeface="Times New Roman"/>
                <a:ea typeface="標楷體"/>
              </a:rPr>
              <a:t>	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1413000"/>
          <a:ext cx="7417080" cy="3828960"/>
        </p:xfrm>
        <a:graphic>
          <a:graphicData uri="http://schemas.openxmlformats.org/drawingml/2006/table">
            <a:tbl>
              <a:tblPr/>
              <a:tblGrid>
                <a:gridCol w="2033640"/>
                <a:gridCol w="1312920"/>
                <a:gridCol w="1050840"/>
                <a:gridCol w="1443240"/>
                <a:gridCol w="1576440"/>
              </a:tblGrid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視人口推算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 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收看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視機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 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電腦及其他工具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觀眾人口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#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萬位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6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3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2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8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.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6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1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1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6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4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8.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05"/>
          <p:cNvSpPr/>
          <p:nvPr/>
        </p:nvSpPr>
        <p:spPr>
          <a:xfrm>
            <a:off x="539640" y="476280"/>
            <a:ext cx="815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TV Audience S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文字方塊 1"/>
          <p:cNvSpPr/>
          <p:nvPr/>
        </p:nvSpPr>
        <p:spPr>
          <a:xfrm>
            <a:off x="826920" y="6021360"/>
            <a:ext cx="7490160" cy="368280"/>
          </a:xfrm>
          <a:prstGeom prst="rect">
            <a:avLst/>
          </a:prstGeom>
          <a:solidFill>
            <a:srgbClr val="2f79aa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亞視每週觀眾數目超過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5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，以非電視機收看者約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-40 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萬。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84132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8424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44200" y="333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Programme Audienc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51040" y="4437000"/>
            <a:ext cx="7681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問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過去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七日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內，您有冇連續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鐘或以上收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睇亞視既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「</a:t>
            </a:r>
            <a:r>
              <a:rPr b="0" lang="zh-HK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新聞報導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？包括透過電視機、互聯網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、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手提電話、以及其他方法收睇直播、重播、或者自己重溫呢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 如有，請您話比我聽您有幾欣賞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亞視既新聞報導節目？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請您用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嚟評分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非常之唔欣賞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5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一半半，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100</a:t>
            </a:r>
            <a:r>
              <a:rPr b="0" lang="zh-TW" sz="1400" spc="-1" strike="noStrike">
                <a:solidFill>
                  <a:srgbClr val="fffa06"/>
                </a:solidFill>
                <a:latin typeface="Times New Roman"/>
                <a:ea typeface="Times New Roman"/>
              </a:rPr>
              <a:t>分代表非常之欣賞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問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過去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七日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內，您有冇連續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鐘或以上收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睇亞視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播放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既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「第 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3 </a:t>
            </a:r>
            <a:r>
              <a:rPr b="0" lang="zh-TW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屆十大中文金曲頒獎音樂會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？包括透過電視機、互聯網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Tub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、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手提電話、以及其他方法收睇直播、重播、或者自己重溫呢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如有，請您話比我聽您有幾欣賞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亞視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播放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既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「第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 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屆十大中文金曲頒獎音樂會」</a:t>
            </a:r>
            <a:r>
              <a:rPr b="0" lang="zh-HK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節目？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請您用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-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嚟評分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非常之唔欣賞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一半半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分代表非常之欣賞。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00000" y="3860640"/>
            <a:ext cx="746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#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根據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2010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年年中的最新香港人口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(9+)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總數為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6,345,600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推算。</a:t>
            </a:r>
            <a:br>
              <a:rPr sz="1200"/>
            </a:b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^ </a:t>
            </a: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為香港電台製作之節目，並於亞視率先播映。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1484280"/>
          <a:ext cx="7488360" cy="2243160"/>
        </p:xfrm>
        <a:graphic>
          <a:graphicData uri="http://schemas.openxmlformats.org/drawingml/2006/table">
            <a:tbl>
              <a:tblPr/>
              <a:tblGrid>
                <a:gridCol w="3240360"/>
                <a:gridCol w="2016000"/>
                <a:gridCol w="2232000"/>
              </a:tblGrid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首兩週綜合結果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樣本人數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br>
                        <a:rPr sz="1600"/>
                      </a:b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#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調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 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屆十大中文金曲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頒獎音樂會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^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調查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Line 5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S Survey 2011 Round 1s: VR and A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773360"/>
          <a:ext cx="7561080" cy="4332240"/>
        </p:xfrm>
        <a:graphic>
          <a:graphicData uri="http://schemas.openxmlformats.org/drawingml/2006/table">
            <a:tbl>
              <a:tblPr/>
              <a:tblGrid>
                <a:gridCol w="601560"/>
                <a:gridCol w="2206440"/>
                <a:gridCol w="1152720"/>
                <a:gridCol w="1439640"/>
                <a:gridCol w="1008360"/>
                <a:gridCol w="115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節目名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調查週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視人口推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位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收看 比率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欣賞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新聞報導節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十大中文金曲頒獎音樂會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7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回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系列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5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二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敗犬男大聯盟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亞洲早晨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五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.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品味珠三角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 go go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一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V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焦點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三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香港望族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第四週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.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848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udience Preferenc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989000"/>
          <a:ext cx="7345440" cy="3954600"/>
        </p:xfrm>
        <a:graphic>
          <a:graphicData uri="http://schemas.openxmlformats.org/drawingml/2006/table">
            <a:tbl>
              <a:tblPr/>
              <a:tblGrid>
                <a:gridCol w="4537080"/>
                <a:gridCol w="280836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節目類型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百分比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新聞報導／時事特輯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本地製作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外購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娛樂／消費／飲食／潮流資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Line 5"/>
          <p:cNvSpPr/>
          <p:nvPr/>
        </p:nvSpPr>
        <p:spPr>
          <a:xfrm>
            <a:off x="755640" y="1557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42920" y="1700280"/>
          <a:ext cx="7129440" cy="4392720"/>
        </p:xfrm>
        <a:graphic>
          <a:graphicData uri="http://schemas.openxmlformats.org/drawingml/2006/table">
            <a:tbl>
              <a:tblPr/>
              <a:tblGrid>
                <a:gridCol w="4543560"/>
                <a:gridCol w="2585880"/>
              </a:tblGrid>
              <a:tr h="75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節目種類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欣賞指數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新聞報導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時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財經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金融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紀綠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教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.2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體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賽事直播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.7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本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外購劇集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綜藝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/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娛樂節目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7.8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文字方塊 5"/>
          <p:cNvSpPr/>
          <p:nvPr/>
        </p:nvSpPr>
        <p:spPr>
          <a:xfrm>
            <a:off x="826920" y="47628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VAS Survey 2011 Round 1: Audience Prefer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755640" y="1268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915920"/>
            <a:ext cx="69865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a06"/>
                </a:solidFill>
                <a:latin typeface="新細明體"/>
              </a:rPr>
              <a:t>「電視節目優眾指數解說」</a:t>
            </a:r>
            <a:br>
              <a:rPr sz="3200"/>
            </a:br>
            <a:br>
              <a:rPr sz="3200"/>
            </a:br>
            <a:r>
              <a:rPr b="1" lang="zh-HK" sz="3200" spc="-1" strike="noStrike">
                <a:solidFill>
                  <a:srgbClr val="ffffff"/>
                </a:solidFill>
                <a:latin typeface="新細明體"/>
              </a:rPr>
              <a:t>（請</a:t>
            </a:r>
            <a:r>
              <a:rPr b="1" lang="en-US" sz="3200" spc="-1" strike="noStrike">
                <a:solidFill>
                  <a:srgbClr val="ffffff"/>
                </a:solidFill>
                <a:latin typeface="新細明體"/>
              </a:rPr>
              <a:t>參閱教材）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429000"/>
            <a:ext cx="61930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4360" y="9810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New SESE e-Platform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11280" y="2708280"/>
            <a:ext cx="792144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try the following e-platform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://popcon.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SESE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= Social-networking, Entertainment, Shopping and Edu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POPCON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= POP Consul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55640" y="234936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785880" y="1714680"/>
            <a:ext cx="7643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rse COM2116: Audience Analysis and Media Strategies – “to teach students variou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thods in audience analy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the purposes, philosophies, and methods of … evaluating programming content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ine referen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http://hkupop.hku/hk/english/tvai/index.htm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http://www.rthk.org.hk/special/tvai/2010/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tline of present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) TVAI surveys: design, operation and selected resul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b) QMI surveys: conceptualization and selected resul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) POPCON online platfor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4296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85880" y="164304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POP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/english/tvai/index.html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THK TVAI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rthk.org.hk/special/tvai/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References and column article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hkupop.hku.hk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unl.edu/wapor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aapo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esomar.org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www.ncpp.org </a:t>
            </a: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http://gallup.com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52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857160" y="1357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1357200" y="2928960"/>
            <a:ext cx="257184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643120"/>
            <a:ext cx="6858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make use of the HKU POP Site –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a06"/>
                </a:solidFill>
                <a:latin typeface="Times New Roman"/>
              </a:rPr>
              <a:t>CityU11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85880" y="357120"/>
            <a:ext cx="761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(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Quar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755640" y="1052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85880" y="1341360"/>
          <a:ext cx="7531200" cy="4919760"/>
        </p:xfrm>
        <a:graphic>
          <a:graphicData uri="http://schemas.openxmlformats.org/drawingml/2006/table">
            <a:tbl>
              <a:tblPr/>
              <a:tblGrid>
                <a:gridCol w="492120"/>
                <a:gridCol w="2604960"/>
                <a:gridCol w="1055880"/>
                <a:gridCol w="1055520"/>
                <a:gridCol w="1336680"/>
                <a:gridCol w="98604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dec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raters / TV audienc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nge in TVAI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日檔案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.27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.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國際博奕大事回顧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故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1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築跡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1.63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(Full Yea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85880" y="1773360"/>
          <a:ext cx="7458120" cy="4289400"/>
        </p:xfrm>
        <a:graphic>
          <a:graphicData uri="http://schemas.openxmlformats.org/drawingml/2006/table">
            <a:tbl>
              <a:tblPr/>
              <a:tblGrid>
                <a:gridCol w="439560"/>
                <a:gridCol w="2260800"/>
                <a:gridCol w="888840"/>
                <a:gridCol w="824040"/>
                <a:gridCol w="888840"/>
                <a:gridCol w="887400"/>
                <a:gridCol w="126864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of Program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VAI Q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43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火速救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43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5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鏗鏘集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.3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7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巾幗梟雄之義海豪情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反斗英語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政情大事回顧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日檔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9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2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1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愛回家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霎時感動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8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香港歷史系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港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marL="9540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聞透視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無綫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0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4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2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78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4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476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VAI Survey 2010 Year-end Comment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684360" y="1413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539640" y="17002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欣賞指數調查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的方法在兩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之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調查節目名單由各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台平均分配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透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提名方法建立，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財經報道節目則以整體評分取代個別節目評分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。微調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過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後，名列前茅的優質節目仍然可與微調以前的調查結果比較，兼可騰出資源測試更多有利業界發展的題目。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綜合過去一年四季的調查顯示，香港電台製作的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火速救兵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一炮而紅奪得全年最高欣賞指數，令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劇集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節目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連續兩年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奪得冠軍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無綫劇集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「巾幗梟雄之義海豪情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亦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三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令欣賞指數調查首年出現兩個劇集節目名列三甲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品牌節目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方面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，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鏗鏘集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、無綫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星期二／日檔案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新聞透視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繼續獲得佳績，分別排名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六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第十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此外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年終回顧節目繼續獲得好評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前二十位中包括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港台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香港政情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10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國際博奕大事回顧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，以及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視的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回首</a:t>
            </a:r>
            <a:r>
              <a:rPr b="0" lang="en-US" sz="2100" spc="-1" strike="noStrike">
                <a:solidFill>
                  <a:srgbClr val="fffa06"/>
                </a:solidFill>
                <a:latin typeface="Times New Roman"/>
              </a:rPr>
              <a:t>2009</a:t>
            </a:r>
            <a:r>
              <a:rPr b="0" lang="zh-TW" sz="2100" spc="-1" strike="noStrike">
                <a:solidFill>
                  <a:srgbClr val="fffa06"/>
                </a:solidFill>
                <a:latin typeface="Times New Roman"/>
              </a:rPr>
              <a:t>系列</a:t>
            </a:r>
            <a:r>
              <a:rPr b="0" lang="zh-HK" sz="2100" spc="-1" strike="noStrike">
                <a:solidFill>
                  <a:srgbClr val="fffa06"/>
                </a:solidFill>
                <a:latin typeface="Times New Roman"/>
              </a:rPr>
              <a:t>」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。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至於新聞財經報道節目方面，有線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電視得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分最高，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然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是無綫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ccecff"/>
                </a:solidFill>
                <a:latin typeface="Times New Roman"/>
              </a:rPr>
              <a:t>NOW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寬頻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、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亞洲電視</a:t>
            </a:r>
            <a:r>
              <a:rPr b="0" lang="zh-HK" sz="21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0" lang="zh-TW" sz="2100" spc="-1" strike="noStrike">
                <a:solidFill>
                  <a:srgbClr val="ccecff"/>
                </a:solidFill>
                <a:latin typeface="Times New Roman"/>
              </a:rPr>
              <a:t>香港寬頻電視。」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642960"/>
            <a:ext cx="761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「電視觀眾研究」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2692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785880" y="2060640"/>
            <a:ext cx="7643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發展一套科學、全面而具代表性的電視觀眾研究，範圍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覆蓋所有觀賞渠道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，包括新興網上媒體及流動電子裝置，與時並進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電視業界及廣告商戶提供多元價值指標，兼顧電視節目的</a:t>
            </a:r>
            <a:r>
              <a:rPr b="0" lang="zh-TW" sz="2400" spc="-1" strike="noStrike">
                <a:solidFill>
                  <a:srgbClr val="fffa06"/>
                </a:solidFill>
                <a:latin typeface="Times New Roman"/>
              </a:rPr>
              <a:t>「叫好」及「叫座」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能力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為學術界提供研究數據，透過深入分析和學術會議探討電視媒體的發展方向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85880" y="549360"/>
            <a:ext cx="7619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47920" y="2438280"/>
            <a:ext cx="6705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785880" y="1500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785880" y="1773360"/>
            <a:ext cx="7643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a06"/>
                </a:solidFill>
                <a:latin typeface="Times New Roman"/>
              </a:rPr>
              <a:t>研究特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a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港大民研計劃全權負責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「電視觀眾研究」所有設計及執行工作，對研究的方法和結果全面負責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整項研究將會圍繞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定質」和「定量」兩個主軸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發展，立體分析各個觀眾組群的意見和行為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針對年青組群的特質和新興媒體的作用，民研計劃會透過嶄新的網上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</a:t>
            </a:r>
            <a:r>
              <a:rPr b="0" lang="en-US" sz="2000" spc="-1" strike="noStrike">
                <a:solidFill>
                  <a:srgbClr val="fffa06"/>
                </a:solidFill>
                <a:latin typeface="Times New Roman"/>
              </a:rPr>
              <a:t>POPCON 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普及民意平台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蒐集意見和數據，網址為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popcon.hkupop.hku.hk/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研究計劃將會建構一個結合「收視比率」和「欣賞指數」，以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分為「正常基數」的</a:t>
            </a:r>
            <a:r>
              <a:rPr b="0" lang="zh-TW" sz="2000" spc="-1" strike="noStrike">
                <a:solidFill>
                  <a:srgbClr val="fffa06"/>
                </a:solidFill>
                <a:latin typeface="Times New Roman"/>
              </a:rPr>
              <a:t>「優眾指數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I, Quality-Mass Index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），反映電視節目的「叫好」和「叫座」能力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F15-E261-43A9-9E56-A7B067C7231D}" type="slidenum"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1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cing TVAS</a:t>
            </a:r>
            <a:r>
              <a:rPr b="1" lang="zh-TW" sz="3200" spc="-1" strike="noStrike">
                <a:solidFill>
                  <a:srgbClr val="fffa06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5423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新細明體"/>
              </a:rPr>
              <a:t>定量部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27120" indent="-2653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200" spc="-1" strike="noStrike" u="sng">
                <a:solidFill>
                  <a:srgbClr val="ffff00"/>
                </a:solidFill>
                <a:uFillTx/>
                <a:latin typeface="新細明體"/>
              </a:rPr>
              <a:t>追蹤電話調查</a:t>
            </a:r>
            <a:r>
              <a:rPr b="0" lang="zh-HK" sz="2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–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目標對象為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9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歲或以上之電視觀眾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每星期進行一次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每次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抽樣調查起碼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65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0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個成功樣本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以量度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電視節目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的「叫好」及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叫座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」程度，亦即觀眾人數及其對製作質素的評價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以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「優眾指數」進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立體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分析</a:t>
            </a:r>
            <a:r>
              <a:rPr b="0" lang="en-US" sz="2200" spc="-1" strike="noStrike">
                <a:solidFill>
                  <a:srgbClr val="ccecff"/>
                </a:solidFill>
                <a:latin typeface="新細明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627120" indent="-2653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200" spc="-1" strike="noStrike" u="sng">
                <a:solidFill>
                  <a:srgbClr val="ffff00"/>
                </a:solidFill>
                <a:uFillTx/>
                <a:latin typeface="新細明體"/>
              </a:rPr>
              <a:t>基準電話</a:t>
            </a:r>
            <a:r>
              <a:rPr b="1" lang="zh-TW" sz="2200" spc="-1" strike="noStrike" u="sng">
                <a:solidFill>
                  <a:srgbClr val="ffff00"/>
                </a:solidFill>
                <a:uFillTx/>
                <a:latin typeface="新細明體"/>
              </a:rPr>
              <a:t>調查</a:t>
            </a:r>
            <a:r>
              <a:rPr b="0" lang="zh-TW" sz="2200" spc="-1" strike="noStrike">
                <a:solidFill>
                  <a:srgbClr val="ffff00"/>
                </a:solidFill>
                <a:latin typeface="新細明體"/>
              </a:rPr>
              <a:t>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–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目標對象為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9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歲或以上之電視觀眾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，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每八個星期進行一次，每次抽樣調查起碼 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2,000 </a:t>
            </a:r>
            <a:r>
              <a:rPr b="0" lang="zh-HK" sz="2200" spc="-1" strike="noStrike">
                <a:solidFill>
                  <a:srgbClr val="ccecff"/>
                </a:solidFill>
                <a:latin typeface="新細明體"/>
              </a:rPr>
              <a:t>個成功樣本，</a:t>
            </a:r>
            <a:r>
              <a:rPr b="0" lang="zh-TW" sz="2200" spc="-1" strike="noStrike">
                <a:solidFill>
                  <a:srgbClr val="ccecff"/>
                </a:solidFill>
                <a:latin typeface="新細明體"/>
              </a:rPr>
              <a:t>為各項定量研究項目提供更加深入的分析</a:t>
            </a:r>
            <a:r>
              <a:rPr b="0" lang="en-US" sz="2200" spc="-1" strike="noStrike">
                <a:solidFill>
                  <a:srgbClr val="ccecff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755640" y="1628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</cp:lastModifiedBy>
  <cp:lastPrinted>2001-04-04T10:00:24Z</cp:lastPrinted>
  <dcterms:modified xsi:type="dcterms:W3CDTF">2011-03-25T05:28:38Z</dcterms:modified>
  <cp:revision>759</cp:revision>
  <dc:subject/>
  <dc:title>無投影片標題</dc:title>
</cp:coreProperties>
</file>