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7907E3-0E05-4213-BAE4-659D563F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172B0B-FA8E-4904-832A-F021E71BD32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80382D-C4C5-4CF2-B6FD-80784F1E25D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15F972-85B2-4D8B-ADFC-BE9D2B98762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9E784D-3FD1-4EA9-818B-CA1222126BB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B5790D-1843-4C47-84CC-77281430F29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61F172-76F1-4BF8-830A-B66123A3813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AA6A0B-979F-4FE0-83BA-378E77A9A53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E69E2B-26E8-4D47-8309-CFE538D5D34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1240A8-5D6A-45A1-A513-ECB9CBCA54E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B4A4F3-D978-42BA-BF0C-3212EC6AE6D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6C6-2529-440B-A708-E67FE94E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310-A469-4477-AEDD-B8A0920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A20-80FF-4983-8527-385FE5EE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D34-344E-4092-A5D2-DD7E9CD6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7CE-C4EA-4E8B-9459-C8146F01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69D-BAF1-4D8C-AB4D-C8919D8B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EB5-27A5-4E06-BA04-9CAADC4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C4A-10C5-4AAA-B6F2-DD7D1AE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F46-88DF-432F-9BC5-3573A36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EC1-DE8A-44B2-A9E0-AA31F9C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3C0-CCB4-456C-8E86-53243AA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2A2-8549-4EB6-BBE6-CE4D4EB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D2EA-6A40-44A4-8A8D-21CF723B4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2428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From TVAI to QMI</a:t>
            </a:r>
            <a:br>
              <a:rPr sz="3000"/>
            </a:br>
            <a:r>
              <a:rPr b="1" i="1" lang="en-GB" sz="28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從「欣賞指數」到「優眾指數」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19640" y="98100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26920" y="4653000"/>
            <a:ext cx="75438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Ting-yiu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(Director of Public Opinion Programme 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民意研究計劃總監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23/3/20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68360" y="278136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395280" y="4365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915920"/>
            <a:ext cx="69865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優眾指數優眾指數</a:t>
            </a:r>
            <a:br>
              <a:rPr sz="3200"/>
            </a:b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定義及計算方法</a:t>
            </a:r>
            <a:br>
              <a:rPr sz="3200"/>
            </a:br>
            <a:br>
              <a:rPr sz="3200"/>
            </a:br>
            <a:r>
              <a:rPr b="1" lang="zh-HK" sz="3200" spc="-1" strike="noStrike">
                <a:solidFill>
                  <a:srgbClr val="ffffff"/>
                </a:solidFill>
                <a:latin typeface="新細明體"/>
              </a:rPr>
              <a:t>（請</a:t>
            </a:r>
            <a:r>
              <a:rPr b="1" lang="en-US" sz="3200" spc="-1" strike="noStrike">
                <a:solidFill>
                  <a:srgbClr val="ffffff"/>
                </a:solidFill>
                <a:latin typeface="新細明體"/>
              </a:rPr>
              <a:t>參閱教材）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06720" y="3135240"/>
            <a:ext cx="5029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82480" y="290628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838080"/>
            <a:ext cx="7620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fere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參考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16000" y="2349360"/>
            <a:ext cx="685800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ick on HKU POP Site 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點擊港大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網上資源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Lectures and Workshops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講座及工作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今日講座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BU11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684360" y="1989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10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電視節目欣賞指數調查  第四季度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85880" y="1773360"/>
          <a:ext cx="7458120" cy="4200480"/>
        </p:xfrm>
        <a:graphic>
          <a:graphicData uri="http://schemas.openxmlformats.org/drawingml/2006/table">
            <a:tbl>
              <a:tblPr/>
              <a:tblGrid>
                <a:gridCol w="500040"/>
                <a:gridCol w="2565360"/>
                <a:gridCol w="1008000"/>
                <a:gridCol w="936720"/>
                <a:gridCol w="1008000"/>
                <a:gridCol w="144000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電視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認知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變化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日檔案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.2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國際博奕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故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1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築跡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6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矩形 7"/>
          <p:cNvSpPr/>
          <p:nvPr/>
        </p:nvSpPr>
        <p:spPr>
          <a:xfrm>
            <a:off x="719280" y="6093000"/>
            <a:ext cx="77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認知比率＝評分人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收看電視總人數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10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電視節目欣賞指數調查  全年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85880" y="1773360"/>
          <a:ext cx="7458120" cy="4289400"/>
        </p:xfrm>
        <a:graphic>
          <a:graphicData uri="http://schemas.openxmlformats.org/drawingml/2006/table">
            <a:tbl>
              <a:tblPr/>
              <a:tblGrid>
                <a:gridCol w="439560"/>
                <a:gridCol w="2260800"/>
                <a:gridCol w="888840"/>
                <a:gridCol w="824040"/>
                <a:gridCol w="888840"/>
                <a:gridCol w="887400"/>
                <a:gridCol w="126864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電視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247680"/>
                          <a:tab algn="l" pos="2381400"/>
                          <a:tab algn="l" pos="2990880"/>
                          <a:tab algn="l" pos="4743360"/>
                          <a:tab algn="l" pos="5686560"/>
                          <a:tab algn="l" pos="6108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3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反斗英語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二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日檔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9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愛回家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霎時感動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8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10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電視節目欣賞指數調查  全年結果評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539640" y="17002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欣賞指數調查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的方法在兩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之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調查節目名單由各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台平均分配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透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提名方法建立，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財經報道節目則以整體評分取代個別節目評分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。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名列前茅的優質節目仍然可與微調以前的調查結果比較，兼可騰出資源測試更多有利業界發展的題目。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綜合過去一年四季的調查顯示，香港電台製作的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火速救兵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一炮而紅奪得全年最高欣賞指數，令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節目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連續兩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奪得冠軍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無綫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巾幗梟雄之義海豪情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亦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三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令欣賞指數調查首年出現兩個劇集節目名列三甲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品牌節目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方面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鏗鏘集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、無綫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星期二／日檔案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透視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繼續獲得佳績，分別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六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十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終回顧節目繼續獲得好評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二十位中包括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香港政情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國際博奕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以及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視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回首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09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系列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至於新聞財經報道節目方面，有線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得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分最高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然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是無綫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en-US" sz="2100" spc="-1" strike="noStrike">
                <a:solidFill>
                  <a:srgbClr val="ccecff"/>
                </a:solidFill>
                <a:latin typeface="Times New Roman"/>
              </a:rPr>
              <a:t>NOW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寬頻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洲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香港寬頻電視。」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「電視觀眾研究」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785880" y="2060640"/>
            <a:ext cx="7643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目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發展一套科學、全面而具代表性的電視觀眾研究，範圍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覆蓋所有觀賞渠道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，包括新興網上媒體及流動電子裝置，與時並進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電視業界及廣告商戶提供多元價值指標，兼顧電視節目的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「叫好」及「叫座」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能力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學術界提供研究數據，透過深入分析和學術會議探討電視媒體的發展方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85880" y="696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「電視觀眾研究」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785880" y="1773360"/>
            <a:ext cx="76438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特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港大民研計劃全權負責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「電視觀眾研究」所有設計及執行工作，對研究的方法和結果全面負責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整項研究將會圍繞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定質」和「定量」兩個主軸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發展，立體分析各個觀眾組群的意見和行為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針對年青組群的特質和新興媒體的作用，民研計劃會透過嶄新的網上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000" spc="-1" strike="noStrike">
                <a:solidFill>
                  <a:srgbClr val="fffa06"/>
                </a:solidFill>
                <a:latin typeface="Times New Roman"/>
              </a:rPr>
              <a:t>POPCON 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普及民意平台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蒐集意見和數據，網址為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popcon.hkupop.hku.hk/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研究計劃將會建構一個結合「收視比率」和「欣賞指數」，以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分為「正常基數」的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優眾指數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I, Quality-Mass Index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），反映電視節目的「叫好」和「叫座」能力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第一輪「電視觀眾研究」調查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8424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042920" y="1484280"/>
            <a:ext cx="754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新興媒體觀眾數目 </a:t>
            </a: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(</a:t>
            </a: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以週眾計</a:t>
            </a:r>
            <a:r>
              <a:rPr b="0" lang="zh-TW" sz="2200" spc="-1" strike="noStrike">
                <a:solidFill>
                  <a:srgbClr val="fffa06"/>
                </a:solidFill>
                <a:latin typeface="新細明體"/>
              </a:rPr>
              <a:t>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4360" y="5157720"/>
            <a:ext cx="770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過去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七日內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，您有冇連續收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電視節目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分鐘或以上呢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收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定義係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包括透過電視機、互聯網、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、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手提電話、以及其他方法收睇直播、重播、或者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自己重溫電視節目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只要過去</a:t>
            </a:r>
            <a:r>
              <a:rPr b="0" lang="zh-HK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七日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內連續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分鐘或以上就算有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咁您喺透過乜野工具收睇呢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D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電視節目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2276640"/>
          <a:ext cx="7632720" cy="2199960"/>
        </p:xfrm>
        <a:graphic>
          <a:graphicData uri="http://schemas.openxmlformats.org/drawingml/2006/table">
            <a:tbl>
              <a:tblPr/>
              <a:tblGrid>
                <a:gridCol w="1162080"/>
                <a:gridCol w="1017360"/>
                <a:gridCol w="1120680"/>
                <a:gridCol w="1009800"/>
                <a:gridCol w="1515960"/>
                <a:gridCol w="18068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兩週調查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綜合結果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樣本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視機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腦及其他工具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整體樣本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1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4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56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特選群組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後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即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-2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歲人士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99%)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68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8"/>
          <p:cNvSpPr/>
          <p:nvPr/>
        </p:nvSpPr>
        <p:spPr>
          <a:xfrm>
            <a:off x="684360" y="458136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根據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2010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年年中的最新香港人口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(9+)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總數為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6,345,600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推算。</a:t>
            </a:r>
            <a:br>
              <a:rPr sz="1200"/>
            </a:b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電視機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數碼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高清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及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其他傳統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，而其他工具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腦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手提電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交通工具資訊系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等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第一輪「電視觀眾研究」調查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773360"/>
          <a:ext cx="7559640" cy="4332240"/>
        </p:xfrm>
        <a:graphic>
          <a:graphicData uri="http://schemas.openxmlformats.org/drawingml/2006/table">
            <a:tbl>
              <a:tblPr/>
              <a:tblGrid>
                <a:gridCol w="601560"/>
                <a:gridCol w="2206440"/>
                <a:gridCol w="1150920"/>
                <a:gridCol w="1441440"/>
                <a:gridCol w="1008360"/>
                <a:gridCol w="11509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 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新聞報導節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十大中文金曲頒獎音樂會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7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回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系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5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亞洲早晨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五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品味珠三角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 go go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V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焦點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望族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Valued Acer Customer</cp:lastModifiedBy>
  <cp:lastPrinted>2001-04-04T10:00:24Z</cp:lastPrinted>
  <dcterms:modified xsi:type="dcterms:W3CDTF">2011-03-23T02:11:05Z</dcterms:modified>
  <cp:revision>731</cp:revision>
  <dc:subject/>
  <dc:title>無投影片標題</dc:title>
</cp:coreProperties>
</file>