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3ABEAD-8E12-4E98-9CE3-FC2C840BE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20233E-4F95-420C-BB43-431C59FC06A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C0E55E-ADC1-474C-9602-4B12A16950E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5FAC87-37AF-4D2E-A0CD-6F80F04174D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3353C3-309C-42A9-980F-553BA41D3C8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C529F7-CBAD-4B78-AC20-98BB150EBA7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C7CAD3-9C1B-4D59-854A-81FD03AFE61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3E56DC-22AC-4F61-9B73-15870AD4F2F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0EBAE0-8762-45A6-AB8C-B0BB5851B28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250287-AAF2-439F-AD6D-F8ECC3793F7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809403-53FE-4B3B-B138-65545EE316A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B46D1A-33EA-4921-9448-144967B2199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963C50-48E4-434E-A2E4-FEB2F8FA61D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115-A9A6-4765-A53E-70BFC453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DF7-5F8A-4379-906F-950FBB74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4EB-AB19-4894-A74A-8AF4750A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34C-66AA-4391-ABBA-00F4980A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EDF-E2F4-415B-8614-F98F2BCF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C3E-C2F4-4378-969F-0D9516B6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FE9-519C-480D-82B9-BF67F052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873-34BA-4E2F-A03C-22BAA974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29C-F57F-4779-8E2F-C5E2FA1B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F89-A574-4544-851F-9FCE92BF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32B-56E9-48C5-A184-718EACF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6B6-44B0-455A-BC8E-53A30486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C929-43C2-4D9C-A8F9-CDD3B1466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12228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「如何進行科學民意調查」講座系列</a:t>
            </a:r>
            <a:br>
              <a:rPr sz="2000"/>
            </a:br>
            <a:r>
              <a:rPr b="1" i="1" lang="en-GB" sz="9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000"/>
            </a:b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「共創兩地民情新紀元」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06056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90792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785880" y="5157720"/>
            <a:ext cx="754380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香港大學 民意研究計劃 總監 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31/7/20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287964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63248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928800" y="1916280"/>
            <a:ext cx="757224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報導機構須要在發放調查結果後為公眾人士（包括傳媒及其他民意研究者）提供下列有關該等調查的資料：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研究機構的名稱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選樣的方法，及若果採用隨機抽樣的話，回應的比率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樣本的數目，及各項加權方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結果的準確程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問卷中有關部分的提問方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785880" y="15717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928800" y="2071800"/>
            <a:ext cx="757224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電子傳媒必須在報導民意調查時提供下列有 關該等調查的基本資料：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研究機構的名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樣本的數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42960" y="571680"/>
            <a:ext cx="7929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網上參考資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785880" y="1916280"/>
            <a:ext cx="774684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References and articles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POR (World Association for Public Opinion Research)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www.unl.edu/wapo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POR (American Association for Public Opinion Research)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www.aapor.or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www.esomar.or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CPP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National Council on Public Polls of USA) website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www.ncpp.or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allup polls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gallup.co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857160" y="1500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06720" y="320688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82480" y="2978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6922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香港大學民意網站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下載是次講座內容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網上資源  </a:t>
            </a:r>
            <a:r>
              <a:rPr b="1" lang="en-US" sz="26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民意研究講座及工作坊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如何進行科學民意調查講座系列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「共創兩地民情研究新紀元」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 “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macau10”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760320" y="19875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82480" y="39337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84360" y="333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民意網站：講座資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75564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82480" y="39337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84360" y="333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民意網站：澳門研究系列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75564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82480" y="39337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4360" y="333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民意網站：澳門研究系列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Line 6"/>
          <p:cNvSpPr/>
          <p:nvPr/>
        </p:nvSpPr>
        <p:spPr>
          <a:xfrm>
            <a:off x="75564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82480" y="39337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84360" y="333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民意網站：服務政策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75564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000080" y="1857240"/>
            <a:ext cx="735804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</a:rPr>
              <a:t>研究機構的責任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可自由地進行及發表各項民意研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接受專業或法律考慮以外的任何限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採用旨在誤導社會人士的研究工具或方法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刻意曲解研究結果以達致不準或不確的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在其研究結果被嚴重曲解時應要挺身而出，向傳媒或受眾發放 適當的數據或聲明以正視聽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928800" y="1714680"/>
            <a:ext cx="757224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研究機構須要在發放調查結果後為公眾人士（包括傳媒及其他民意研究者）提供下列有關該等調查的資料：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研究的目的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選樣的方法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回應的比率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被訪者的背景資料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各項統計程序及方法，包括樣本基數及加權方法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結果的準確度，包括抽樣誤差（如果適用的話）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問卷全份及訪問員守則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標準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1000080" y="1857240"/>
            <a:ext cx="73580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</a:rPr>
              <a:t>報導機構的責任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必須遵從一切現行有關傳媒工作的各項專業守則，尤其是關於報導事實及對資料準確性的要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應讓其受眾知道其已遵從本守則內的規範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倘若報導機構亦有進行民意調查的話，必須遵從本守則內一切有關民意研究者的各項規範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不得防礙其他民意研究者履行本守則內的各項責任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10-07-30T20:55:40Z</dcterms:modified>
  <cp:revision>767</cp:revision>
  <dc:subject/>
  <dc:title>無投影片標題</dc:title>
</cp:coreProperties>
</file>