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1481D9-C1CE-4DA1-9AF3-647C25B5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58A176-856A-4197-A13C-EE3C5CB03B8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B3AA36-92D9-42D9-9AE3-DA1DAE4A772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073E2D-1876-49A7-9033-96A9B01E981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9F12A1-DDD9-48F6-8825-BDDDFDCA9C9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3863B2-4016-47E2-83A0-36B1779773F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9D9F59-F7CD-4C70-AF1E-71FF937B3A0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EB5-7B59-4D5A-955F-D6734319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7AB-1D2B-4591-8C4A-83B5F8CE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FB4-9988-4C19-8BB2-CE9353ED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2DF-E2FE-4048-9AE4-C235640A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98E-CD8C-415C-9779-48E9FFF6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D52-2746-4A28-A2E2-6301AB34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F99-BBC3-4930-870F-E50FE577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0D4-50AB-4250-BA6F-F7616685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D69-9D73-468B-8384-CE0D005A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803-627E-4180-B99A-C80D6FC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93B-801B-4274-A5DE-55D3B5CE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1A6-1305-4121-8C75-6B9537D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238D-6BBA-42E1-A5E5-BA8D95070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9 February 2010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</a:t>
            </a:r>
            <a:r>
              <a:rPr b="1" i="1" lang="en-US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Television Appreciation Index Research</a:t>
            </a: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714680"/>
            <a:ext cx="76438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urse COM2116: Audience Analysis and Media Strategies – “to teach students variou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ethod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 audience analysis and the purposes,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philosoph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and methods of … evaluating programming content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pic for this week: 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levision Appreciation Index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ine referenc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http://hkupop.hku/hk/english/tvai/index.htm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http://www.rthk.org.hk/special/tvai/2009/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utline of present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Media reports of opinion survey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TVAI surveys: methodology and repo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10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dia Report of Opinion Survey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85880" y="1857240"/>
            <a:ext cx="764388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e example today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pularity of CE Donald Tsang and the principal offici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9 February 201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in all, CE Donald Tsang’s popularity i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till lo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ng Yan-lung remains to be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ost popula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Secretary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th the approval and disapproval rates of Eva Cheng have gone up by 7 percentage points, indicating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plit in opin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mong those who recently developed a view on her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official falls under the category of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de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performance … 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pressin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or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isastr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 for the reasons affecting the popularity change of these officials, readers can make their own judgment using detailed records shown in our ‘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Opinion Dai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 feature page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85880" y="35712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levision Appreciation Index Survey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714240" y="1000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785880" y="1214280"/>
            <a:ext cx="76438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I09w3_report.doc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I09w4_Intro_v1.doc”,  “AI09w4_contact info_v1.doc”, “AI09w4_result_v1.doc”, “AI09w4_app1_v1.doc”, “AI09w4_app2_DEMO.doc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85880" y="2786040"/>
          <a:ext cx="7643880" cy="3475080"/>
        </p:xfrm>
        <a:graphic>
          <a:graphicData uri="http://schemas.openxmlformats.org/drawingml/2006/table">
            <a:tbl>
              <a:tblPr/>
              <a:tblGrid>
                <a:gridCol w="500040"/>
                <a:gridCol w="2643120"/>
                <a:gridCol w="1071720"/>
                <a:gridCol w="1071360"/>
                <a:gridCol w="1357560"/>
                <a:gridCol w="1000080"/>
              </a:tblGrid>
              <a:tr h="42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of Program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raters / TV audienc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nge in 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世界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0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6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2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二檔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治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活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醫生與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大事回顧系列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.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3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.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0.5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霎時感動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2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海關故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.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765000" y="2774880"/>
          <a:ext cx="7655040" cy="3530520"/>
        </p:xfrm>
        <a:graphic>
          <a:graphicData uri="http://schemas.openxmlformats.org/drawingml/2006/table">
            <a:tbl>
              <a:tblPr/>
              <a:tblGrid>
                <a:gridCol w="7655040"/>
              </a:tblGrid>
              <a:tr h="35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85880" y="1643040"/>
            <a:ext cx="792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OP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/english/tvai/index.html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THK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rthk.org.hk/special/tvai/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ncpp.org 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857160" y="1357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357200" y="2928960"/>
            <a:ext cx="257184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0-02-09T04:56:43Z</dcterms:modified>
  <cp:revision>717</cp:revision>
  <dc:subject/>
  <dc:title>無投影片標題</dc:title>
</cp:coreProperties>
</file>