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7B1105-D0ED-4711-8A5A-360D5D400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5A52230-C010-45C2-912F-1EAF9533EE4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839EA0E-32C5-40C5-A660-6F03C325B04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0C6132-269A-4E31-816B-F3BDBF32F78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EF1E91A-734B-4008-AC71-9411922C5B3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3AF5240-A922-4901-BFAF-7FFE81ED967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D9C0C7A-38B7-43F7-992F-BA431C04F10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8E3-4C46-4450-AB57-67B2D6B1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722-A7E7-4255-B988-8CAF5513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12A-EE2F-41AB-B88F-14F517A2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F27C-7112-4645-B725-9CEC5A3E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E53-3C31-42AF-B808-2653F11C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FD5-ACE3-4AF2-BDB3-F3537951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C74-29B7-4D1A-AD5B-67B59DA3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E51-9F0C-4069-8212-5A9E3931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9F8-5E8B-478A-9556-ED2A6740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000-C126-491A-BCB2-2B1EFE6B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17E-6EAE-4537-A443-0944A64B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9A5-4B2B-4E1D-A3B4-6C6DE0A6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F190-CF48-42BE-B6A9-A6AA4FA9D7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57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Lecture at </a:t>
            </a:r>
            <a:r>
              <a:rPr b="1" i="1" lang="en-GB" sz="24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City University of Hong Kon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, 23 April 2009</a:t>
            </a:r>
            <a:br>
              <a:rPr sz="2400"/>
            </a:br>
            <a:r>
              <a:rPr b="1" i="1" lang="en-GB" sz="10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    </a:t>
            </a:r>
            <a:br>
              <a:rPr sz="2400"/>
            </a:br>
            <a:r>
              <a:rPr b="1" i="1" lang="en-GB" sz="30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“</a:t>
            </a:r>
            <a:r>
              <a:rPr b="1" i="1" lang="en-US" sz="30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The Ethics and Politics of Social Research</a:t>
            </a:r>
            <a:r>
              <a:rPr b="1" i="1" lang="en-GB" sz="30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”</a:t>
            </a:r>
            <a:br>
              <a:rPr sz="2800"/>
            </a:b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Rectangle 2052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0" name="Object 2053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153684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055"/>
          <p:cNvSpPr/>
          <p:nvPr/>
        </p:nvSpPr>
        <p:spPr>
          <a:xfrm>
            <a:off x="857160" y="5429160"/>
            <a:ext cx="7543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Line 2059"/>
          <p:cNvSpPr/>
          <p:nvPr/>
        </p:nvSpPr>
        <p:spPr>
          <a:xfrm>
            <a:off x="457200" y="311472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Line 2060"/>
          <p:cNvSpPr/>
          <p:nvPr/>
        </p:nvSpPr>
        <p:spPr>
          <a:xfrm>
            <a:off x="457200" y="486720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785880" y="1785960"/>
            <a:ext cx="764388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ourse COM2103: Quantitative Communicati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search</a:t>
            </a: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 Methods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- “designed to introduce the basic logic, concepts, and skills of quantitative research, with a special emphasis on survey method…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opic for this week: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Ethics and Politics of Social Research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d7e8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7e8f4"/>
                </a:solidFill>
                <a:latin typeface="Times New Roman"/>
              </a:rPr>
              <a:t>Suggested readings: (a) the "</a:t>
            </a: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West Kowloon</a:t>
            </a:r>
            <a:r>
              <a:rPr b="1" lang="en-US" sz="2400" spc="-1" strike="noStrike">
                <a:solidFill>
                  <a:srgbClr val="d7e8f4"/>
                </a:solidFill>
                <a:latin typeface="Times New Roman"/>
              </a:rPr>
              <a:t>" Incident, (b) </a:t>
            </a: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exit polls</a:t>
            </a:r>
            <a:r>
              <a:rPr b="1" lang="en-US" sz="2400" spc="-1" strike="noStrike">
                <a:solidFill>
                  <a:srgbClr val="d7e8f4"/>
                </a:solidFill>
                <a:latin typeface="Times New Roman"/>
              </a:rPr>
              <a:t> in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utline of presentation: (a) the </a:t>
            </a: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POP Site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, (b) WKCD, (c) exit polls, (d) online referenc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143000" y="264312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lease make use of the HKU POP Site –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en-US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[ today’s workshop, “</a:t>
            </a:r>
            <a:r>
              <a:rPr b="1" lang="en-US" sz="2800" spc="-1" strike="noStrike">
                <a:solidFill>
                  <a:srgbClr val="fffa06"/>
                </a:solidFill>
                <a:latin typeface="Times New Roman"/>
              </a:rPr>
              <a:t>CityU09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785880" y="500040"/>
            <a:ext cx="7619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"West Kowloon" Inciden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785880" y="13572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785880" y="1643040"/>
            <a:ext cx="757224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chnical or ethical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ssu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First level sampling: residential telephone numbers and household sampl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Second level sampling: Kish grid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birthday rule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Quality control measures: visual, tap-in, voice recording, listen-backs, call-backs, performance statistic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onomy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in consultancy researc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Academic versus business standard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Competition among academic institutio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owards a code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fessional ethics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nd practic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785880" y="500040"/>
            <a:ext cx="7619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Exit Poll Story in Hong Ko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Line 5"/>
          <p:cNvSpPr/>
          <p:nvPr/>
        </p:nvSpPr>
        <p:spPr>
          <a:xfrm>
            <a:off x="785880" y="13572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785880" y="1714680"/>
            <a:ext cx="7572240" cy="42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historical treatise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f exit polling in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“exit poll controversy” of 2008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Exit polls for Legislative Council Election </a:t>
            </a:r>
            <a:r>
              <a:rPr b="1" lang="en-US" sz="2000" spc="-1" strike="noStrike">
                <a:solidFill>
                  <a:srgbClr val="fffa06"/>
                </a:solidFill>
                <a:latin typeface="Times New Roman"/>
                <a:ea typeface="新細明體"/>
              </a:rPr>
              <a:t>Sep 200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Submission to Legislative Council 13 </a:t>
            </a:r>
            <a:r>
              <a:rPr b="1" lang="en-US" sz="2000" spc="-1" strike="noStrike">
                <a:solidFill>
                  <a:srgbClr val="fffa06"/>
                </a:solidFill>
                <a:latin typeface="Times New Roman"/>
                <a:ea typeface="新細明體"/>
              </a:rPr>
              <a:t>Mar 200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Submission to Electoral Affairs Commission 10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April 200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1160" indent="-453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Submission to Legislative Council 16 </a:t>
            </a:r>
            <a:r>
              <a:rPr b="1" lang="en-US" sz="2000" spc="-1" strike="noStrike">
                <a:solidFill>
                  <a:srgbClr val="fffa06"/>
                </a:solidFill>
                <a:latin typeface="Times New Roman"/>
                <a:ea typeface="新細明體"/>
              </a:rPr>
              <a:t>Mar 200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a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a06"/>
                </a:solidFill>
                <a:latin typeface="Times New Roman"/>
              </a:rPr>
              <a:t>WAPOR Guidelines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for Exit Polls and Election Forecas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owards a code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fessional ethics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nd practic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3352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857160" y="1571760"/>
            <a:ext cx="7715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References and column articles at 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http://hkupop.hku.hk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WAPOR website at 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http://www.unl.edu/wapor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AAPOR website at 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http://www.aapor.org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ESOMAR (World Association of Research Professionals) website at 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http://www.esomar.org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NCPP website at 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http://www.ncpp.org </a:t>
            </a: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(National Council on Public Polls of USA)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http://gallup.com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The Electoral Affairs Commission (“EAC”) website at </a:t>
            </a:r>
            <a:r>
              <a:rPr b="0" i="1" lang="en-US" sz="2200" spc="-1" strike="noStrike">
                <a:solidFill>
                  <a:srgbClr val="fffa06"/>
                </a:solidFill>
                <a:latin typeface="Times New Roman"/>
              </a:rPr>
              <a:t>http://www.eac.gov.hk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For listening to HK Legco meetings: </a:t>
            </a:r>
            <a:r>
              <a:rPr b="0" i="1" lang="en-US" sz="2200" spc="-1" strike="noStrike">
                <a:solidFill>
                  <a:srgbClr val="fffa06"/>
                </a:solidFill>
                <a:latin typeface="Times New Roman"/>
              </a:rPr>
              <a:t>http://www.legco.gov.hk </a:t>
            </a: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click “voice broadcast” and then search relevant meeting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857160" y="1285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</cp:lastModifiedBy>
  <cp:lastPrinted>2001-04-04T10:00:24Z</cp:lastPrinted>
  <dcterms:modified xsi:type="dcterms:W3CDTF">2009-04-23T06:05:32Z</dcterms:modified>
  <cp:revision>668</cp:revision>
  <dc:subject/>
  <dc:title>無投影片標題</dc:title>
</cp:coreProperties>
</file>