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9AB4EA-5DC5-4382-8122-923EC9B9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62C56B-DC12-408D-8912-6546BB766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A39DDF-E047-4131-9A44-0F30DC85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B5A336-AF68-4AA3-B199-710EF069F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5C5B52-D2F1-48E4-A2F9-EE105B2B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5B11D7-B160-4E9E-BC68-5A96DD241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F3AD5E-939B-4E39-A93F-1DA7F408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2D3EE5-7F4E-4B2B-9E34-899A38B60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C92F96-C912-4BB6-A416-0FF24B90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749B3D-2D09-4016-A06C-86E85C36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2EEC31-AAB0-4D24-8F40-88C6143B9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C75A3F-170F-46E0-ADDD-3D432946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AAD720-84AE-410E-8DDB-5D537AB5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A928B3-8DBE-4032-A02B-B588E5B1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6EA0D0-8B5C-4DC4-8C71-BA061DEF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889562-AE10-4292-AA61-0D5E30D9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4C0347-1FB4-445F-9A71-1E8A6170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AE1DF0-2D1C-4BEF-96C4-EAAB69E8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F2D0A2-9AAA-4DE0-BB97-6C07BB234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E9C9F6-EEF4-473E-9FE0-17AD5B79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5271AD-8D6A-4CFF-9C67-5DB7D7D4F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350246-4898-4AB3-8BA1-F94D9D36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1D90B7-0854-493A-A4B7-3BBA7E40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C39C5C-7301-4CF1-AB80-574FE3CE1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F0EFD5-A674-4387-84EB-5C1D790C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0B2-22E7-4F9B-AAB0-C112E0EA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BC2-AC52-4D3B-9442-62D39DD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7ED-4AAF-4D5E-A96E-CEE3F11B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43F-F871-4F49-A8BD-F738687F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066-7673-4CD3-B088-9B0DC66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80A-99F6-4AC1-9EAC-F17A8AD5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A3A-5BEF-484F-A24C-70F888F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030-BAAC-406A-87AC-2C7269E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8B8-06D2-4FBC-9D22-347AC9B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F13-B420-4602-B036-2748E12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C4E-4E8E-4069-B247-15A4183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05F-D8FE-4891-9202-56C4926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F09-209D-44F5-A137-B8B0684D0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「工聯愛國工運發展」研討會</a:t>
            </a:r>
            <a:br>
              <a:rPr sz="800"/>
            </a:br>
            <a:br>
              <a:rPr sz="800"/>
            </a:br>
            <a:r>
              <a:rPr b="1" lang="zh-TW" sz="2800" spc="-1" strike="noStrike">
                <a:solidFill>
                  <a:srgbClr val="e9ad17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「香港工會聯合會民調評分概覽」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523880" y="99072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7"/>
          <p:cNvSpPr/>
          <p:nvPr/>
        </p:nvSpPr>
        <p:spPr>
          <a:xfrm>
            <a:off x="1071720" y="557208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</a:rPr>
              <a:t>鍾庭耀博士（香港大學民意研究計劃主任）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14720" y="4929120"/>
            <a:ext cx="5410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Rectangle 2052"/>
          <p:cNvSpPr/>
          <p:nvPr/>
        </p:nvSpPr>
        <p:spPr>
          <a:xfrm>
            <a:off x="3429000" y="1000080"/>
            <a:ext cx="50292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Line 2059"/>
          <p:cNvSpPr/>
          <p:nvPr/>
        </p:nvSpPr>
        <p:spPr>
          <a:xfrm>
            <a:off x="428760" y="300024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Line 2059"/>
          <p:cNvSpPr/>
          <p:nvPr/>
        </p:nvSpPr>
        <p:spPr>
          <a:xfrm>
            <a:off x="500040" y="45720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中學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00040" y="1241280"/>
            <a:ext cx="814392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大專或以上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95360" y="1214280"/>
            <a:ext cx="8148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行政及專業人員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86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文職及服務人員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勞動工人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學生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71600" y="1214280"/>
            <a:ext cx="81723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全職主婦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非登記選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00040" y="1211400"/>
            <a:ext cx="81439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148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2209680" y="36576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14240" y="1000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下載講座資料方法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785880" y="23572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57160" y="2790720"/>
            <a:ext cx="7715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香港大學民意網站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6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 民意研究講座及工作坊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「工聯愛國工運發展」研討會（密碼 “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hkftu”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0040" y="1228680"/>
            <a:ext cx="814860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82202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職業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60" name="Picture 2" descr="c:\program files\eudora71_07oct\data\attach\FTU_workshop_occ_chart.jpg"/>
          <p:cNvPicPr/>
          <p:nvPr/>
        </p:nvPicPr>
        <p:blipFill>
          <a:blip r:embed="rId1"/>
          <a:stretch/>
        </p:blipFill>
        <p:spPr>
          <a:xfrm>
            <a:off x="428760" y="1214280"/>
            <a:ext cx="820080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交叉分析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登記選民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08/1997 - 02/2008)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報告完畢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整體評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男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性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女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92120" y="1214280"/>
            <a:ext cx="8151840" cy="53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8-29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30-49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374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年齡組別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50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或以上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85880" y="28584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政治團體評分比較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教育程度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</a:rPr>
              <a:t>小學或以下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 (08/1997 - 02/2008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4280" y="2428920"/>
            <a:ext cx="6705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14200" y="928800"/>
            <a:ext cx="8715600" cy="4608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00040" y="1192320"/>
            <a:ext cx="8143920" cy="53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08-05-09T10:18:15Z</dcterms:modified>
  <cp:revision>718</cp:revision>
  <dc:subject/>
  <dc:title>無投影片標題</dc:title>
</cp:coreProperties>
</file>