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2BFD5B-B441-4491-B4BC-1EF50E036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803AAA-E98A-4214-8741-7265650AB00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832B1E-39B1-4BA3-A0E7-BF2AEA9F033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F1D50F-BC59-45CF-9F09-25EB81EDC73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A2CA56-4292-429E-A79F-CB9C27BD0BE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83483B-10A5-4F1C-AA37-3FC8E441BF1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DAB9A6-6A00-410B-A22E-9DD022E5357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C62E3F-0FB6-48A3-A17D-9D8DA6593D8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3F72F7-554A-4A0F-8394-28B8844F807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35B3D4-5467-4245-B82F-158414A27AD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4E11CA-9D82-4AA6-B1BF-7A4871C4E28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E7DCD2-1595-45A4-A5E5-71719D81994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C6F1C3-0C50-4C77-84EC-CCEEE9B5E80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74197B-0A4C-4569-A344-6C9F9FE01DA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2B8215-F355-4EBD-AA4E-B3BA0E6E16E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5B3AC6-0457-4282-A523-FAC46136D9C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15F298-929D-4AC9-B3D2-69B914686AE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65FA9A-C7DE-4278-8687-AB8C220D7AC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3829AC-8235-4297-8FAA-40C33C9EADC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83E-921F-46D9-A0F7-EDEE0ECC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1F8-AC62-4DD3-A29D-F9310AAC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400-9D2B-4AAF-88BF-DAB21354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F20-7573-40F6-8A3B-28C6384D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892-F2AD-40B8-95B3-9D1D696A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114-4AFD-4F8E-9C7D-E618BA03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657-C799-4689-9FBE-696D61B5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9F5-22F2-4590-A20D-C47971ED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C8A-A15A-4320-A265-CAC9EE0D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BD8-CE9A-4ACB-9733-A958EB1A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887-1B81-4CC7-9328-FC972CA7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A91-1246-4C97-AB76-6A86C2AB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FF34-1226-4BB0-AA1E-0D334A7CD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從民意數字看新聞自由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429000" y="10666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1523880" y="99072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7"/>
          <p:cNvSpPr/>
          <p:nvPr/>
        </p:nvSpPr>
        <p:spPr>
          <a:xfrm>
            <a:off x="1143000" y="5500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鍾庭耀博士（香港大學民意研究計劃主任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071800" y="4786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008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Line 2059"/>
          <p:cNvSpPr/>
          <p:nvPr/>
        </p:nvSpPr>
        <p:spPr>
          <a:xfrm>
            <a:off x="571680" y="307188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Line 2059"/>
          <p:cNvSpPr/>
          <p:nvPr/>
        </p:nvSpPr>
        <p:spPr>
          <a:xfrm>
            <a:off x="571680" y="428616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新聞自由滿意程度：移民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" name="圖片 2" descr="bar06.jpg"/>
          <p:cNvPicPr/>
          <p:nvPr/>
        </p:nvPicPr>
        <p:blipFill>
          <a:blip r:embed="rId1"/>
          <a:stretch/>
        </p:blipFill>
        <p:spPr>
          <a:xfrm>
            <a:off x="285840" y="1214280"/>
            <a:ext cx="85723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新聞自由滿意程度：移民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圖片 2" descr="bar07.jpg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新聞自由滿意程度：移民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0" name="圖片 2" descr="bar02.jpg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新聞自由滿意程度：移民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5" name="圖片 2" descr="bar05.jpg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85880" y="4287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「八卦」雜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214200" y="121428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1235160" y="2571840"/>
          <a:ext cx="790884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5160" y="2571840"/>
                    <a:ext cx="7908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矩形 6"/>
          <p:cNvSpPr/>
          <p:nvPr/>
        </p:nvSpPr>
        <p:spPr>
          <a:xfrm>
            <a:off x="642960" y="1500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不論你有冇睇娛樂「八卦」雜誌，就你所知，呢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雜誌有冇侵犯公眾人物既私隱？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85840" y="5357880"/>
            <a:ext cx="54291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6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9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7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4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8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或以上操粵語的香港居民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由訪問員直接進行電話訪問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,015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58.0% 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（以符合資格的目標對象計算 ）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85880" y="4287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「八卦」雜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214200" y="121428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642960" y="1500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有意見認為現時法例對公眾人物私隱保障不足，需要加強立法；但又有意見認為加強立法會削弱新聞自由，妨礙傳媒既新聞調查報告，只需加強刑罰而毋須加強立法。你傾向支持邊種意見？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2428920" y="2286000"/>
          <a:ext cx="6429240" cy="43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2286000"/>
                    <a:ext cx="642924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矩形 9"/>
          <p:cNvSpPr/>
          <p:nvPr/>
        </p:nvSpPr>
        <p:spPr>
          <a:xfrm>
            <a:off x="357120" y="5357880"/>
            <a:ext cx="5357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6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9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7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至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4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8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或以上操粵語的香港居民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由訪問員直接進行電話訪問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1,015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0" lang="en-US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58.0% </a:t>
            </a:r>
            <a:r>
              <a:rPr b="0" lang="zh-TW" sz="10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（以符合資格的目標對象計算 ）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國際民意調查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6" name="圖片 6" descr="WPO_PressFreedom_May08_graph5.jpg"/>
          <p:cNvPicPr/>
          <p:nvPr/>
        </p:nvPicPr>
        <p:blipFill>
          <a:blip r:embed="rId1"/>
          <a:stretch/>
        </p:blipFill>
        <p:spPr>
          <a:xfrm>
            <a:off x="285840" y="1143000"/>
            <a:ext cx="4143240" cy="5500800"/>
          </a:xfrm>
          <a:prstGeom prst="rect">
            <a:avLst/>
          </a:prstGeom>
          <a:ln w="0">
            <a:noFill/>
          </a:ln>
        </p:spPr>
      </p:pic>
      <p:pic>
        <p:nvPicPr>
          <p:cNvPr id="137" name="圖片 7" descr="WPO_PressFreedom_May08_graph6.jpg"/>
          <p:cNvPicPr/>
          <p:nvPr/>
        </p:nvPicPr>
        <p:blipFill>
          <a:blip r:embed="rId2"/>
          <a:stretch/>
        </p:blipFill>
        <p:spPr>
          <a:xfrm>
            <a:off x="4714920" y="1143000"/>
            <a:ext cx="421488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國際民意調查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圖片 8" descr="WPO_PressFreedom_May08_graph4.jpg"/>
          <p:cNvPicPr/>
          <p:nvPr/>
        </p:nvPicPr>
        <p:blipFill>
          <a:blip r:embed="rId1"/>
          <a:stretch/>
        </p:blipFill>
        <p:spPr>
          <a:xfrm>
            <a:off x="214200" y="1143000"/>
            <a:ext cx="4286520" cy="5500800"/>
          </a:xfrm>
          <a:prstGeom prst="rect">
            <a:avLst/>
          </a:prstGeom>
          <a:ln w="0">
            <a:noFill/>
          </a:ln>
        </p:spPr>
      </p:pic>
      <p:pic>
        <p:nvPicPr>
          <p:cNvPr id="143" name="圖片 11" descr="WPO_PressFreedom_May08_graph3.jpg"/>
          <p:cNvPicPr/>
          <p:nvPr/>
        </p:nvPicPr>
        <p:blipFill>
          <a:blip r:embed="rId2"/>
          <a:stretch/>
        </p:blipFill>
        <p:spPr>
          <a:xfrm>
            <a:off x="4643280" y="1143000"/>
            <a:ext cx="428652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642960" y="20001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785880" y="428616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2286000"/>
            <a:ext cx="91440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瀏覽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http://hkupop.hku.hk 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網上資源：民意研究講座及工作坊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及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http://www.WorldPublicOpinion.or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社會指標走勢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0" name="圖片 7" descr="social_indicators_halfyr1.gif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自由指標走勢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" name="圖片 9" descr="chart01.jpg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傳媒公信力走勢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0" name="圖片 2" descr="chart02.jpg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4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傳媒發揮新聞自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圖片 6" descr="use freedom yr1.gif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傳媒誤用新聞自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0" name="圖片 7" descr="misuse freedom yr1.gif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傳媒報道負責程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圖片 6" descr="responsible yr1.gif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傳媒有否自我審查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0" name="圖片 6" descr="self censorship yr1.gif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785880" y="28584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新聞自由滿意程度：移民因素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圖片 2" descr="bar01.jpg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42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 Chung</cp:lastModifiedBy>
  <cp:lastPrinted>2001-04-04T10:00:24Z</cp:lastPrinted>
  <dcterms:modified xsi:type="dcterms:W3CDTF">2008-05-01T21:45:25Z</dcterms:modified>
  <cp:revision>792</cp:revision>
  <dc:subject/>
  <dc:title>無投影片標題</dc:title>
</cp:coreProperties>
</file>