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D9A1B58-EF2C-4ED7-BF36-A8AF3DDC8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5E69D23-399D-438D-848D-85D764CB65C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D9EC965-607E-485D-ADB3-44009206647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29BDE9F-DEAB-4F9B-880F-35CB7CA91B0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7AED1BD-3AA5-4907-B950-A34F7AE4C61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038D0DC-E78A-4C3C-9EBA-FEFB8997111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0D8-27B7-4E38-A985-772029E5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E73-43BE-45AD-A571-D9F6E200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B401-884C-478D-8A7F-4B031538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0082-DAB6-4FE6-AC76-3EB3DC4D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4EC-3EA0-454E-AC67-71DB7668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1F0-F36C-4FE3-B0A1-3A9BEC89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C8C6-0044-4E00-A51A-4E365E7A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5869-7136-4766-A58F-F5DD75DE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636A-1525-44F4-8E9A-8CE75388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A47-5556-4ABB-9FE8-F81BAFA8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E09-D1AB-4E47-9DEE-CD841F71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3942-C4D8-4391-81BD-C236C215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500"/>
            </a:gs>
            <a:gs pos="50000">
              <a:srgbClr val="006600"/>
            </a:gs>
            <a:gs pos="100000">
              <a:srgbClr val="002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B79C-8D80-4136-8492-C94F547542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7152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Student Workshop on the Basics of Sample Surveys</a:t>
            </a:r>
            <a:br>
              <a:rPr sz="28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for the Statistics and Actuarial Science Society, HKUSU</a:t>
            </a:r>
            <a:br>
              <a:rPr sz="2800"/>
            </a:br>
            <a:br>
              <a:rPr sz="8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24 January 2007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Rectangle 2052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0" name="Object 2053"/>
          <p:cNvGraphicFramePr/>
          <p:nvPr/>
        </p:nvGraphicFramePr>
        <p:xfrm>
          <a:off x="1523880" y="114300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0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2055"/>
          <p:cNvSpPr/>
          <p:nvPr/>
        </p:nvSpPr>
        <p:spPr>
          <a:xfrm>
            <a:off x="928800" y="5214960"/>
            <a:ext cx="75438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Robert CHUNG Ting-yiu, Karie PANG Ka-lai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and Cliff CHOW Kwong-po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Line 2059"/>
          <p:cNvSpPr/>
          <p:nvPr/>
        </p:nvSpPr>
        <p:spPr>
          <a:xfrm>
            <a:off x="457200" y="297180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Line 2060"/>
          <p:cNvSpPr/>
          <p:nvPr/>
        </p:nvSpPr>
        <p:spPr>
          <a:xfrm>
            <a:off x="457200" y="4724280"/>
            <a:ext cx="815328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SimSun"/>
              </a:rPr>
              <a:t>Things to Avoid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609480" y="1905120"/>
            <a:ext cx="7848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jargons, slang and abbrevi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double-barreled ques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double negative expression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leading questions, emotional word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rompt a list with too many item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rofound and complicated ideas / concept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>
            <a:off x="68580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191120" y="2743200"/>
            <a:ext cx="3733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  <a:ea typeface="SimSun"/>
              </a:rPr>
              <a:t>Interview Skill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Line 4"/>
          <p:cNvSpPr/>
          <p:nvPr/>
        </p:nvSpPr>
        <p:spPr>
          <a:xfrm>
            <a:off x="914400" y="2590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Line 5"/>
          <p:cNvSpPr/>
          <p:nvPr/>
        </p:nvSpPr>
        <p:spPr>
          <a:xfrm>
            <a:off x="914400" y="40384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0" name="Picture 6" descr="C:\Program Files\Common Files\Microsoft Shared\Clipart\cagcat50\BD05296_.WMF"/>
          <p:cNvPicPr/>
          <p:nvPr/>
        </p:nvPicPr>
        <p:blipFill>
          <a:blip r:embed="rId1"/>
          <a:stretch/>
        </p:blipFill>
        <p:spPr>
          <a:xfrm>
            <a:off x="838080" y="762120"/>
            <a:ext cx="33530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SimSun"/>
              </a:rPr>
              <a:t>Skills &amp; Techniqu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838080" y="1981080"/>
            <a:ext cx="7543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Interviewer handbook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Qualities of a good interviewer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honest, accurate, mature, responsible, punctual, moderately intelligent, articulate, patient, stable, self-motivated, hardworking, proficient in multiple languages……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Demo clip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68580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utline of Workshop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857160" y="2571840"/>
            <a:ext cx="76438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art 1: Brief introduction of opinion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31720" indent="-53172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art 2: Questionnaire design and interview skil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31720" indent="-53172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art 3: Practical operation and data analysi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31720" indent="-53172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art 4: Open discus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Line 5"/>
          <p:cNvSpPr/>
          <p:nvPr/>
        </p:nvSpPr>
        <p:spPr>
          <a:xfrm>
            <a:off x="785880" y="200016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143000" y="251460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ake use of the HKU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en-US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[ today’s workshop, “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ass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ternship Programme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00080" y="2214720"/>
            <a:ext cx="721512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Each participant of today’s workshop (23 January 2008) is offered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10 internship interview sessions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at POP’s call centre up to 29 February 2008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All interns will be trained and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aid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as ordinary POP telephone interviewer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Upon satisfactory completion of the internship, an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appraisal report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for each intern will be sent to each individual plus the representative of SAS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Line 6"/>
          <p:cNvSpPr/>
          <p:nvPr/>
        </p:nvSpPr>
        <p:spPr>
          <a:xfrm>
            <a:off x="785880" y="19288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838080" y="1928880"/>
            <a:ext cx="7391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A brief introduction of opinion surveys –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rom a TV programme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Line 4"/>
          <p:cNvSpPr/>
          <p:nvPr/>
        </p:nvSpPr>
        <p:spPr>
          <a:xfrm>
            <a:off x="714240" y="164304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Line 5"/>
          <p:cNvSpPr/>
          <p:nvPr/>
        </p:nvSpPr>
        <p:spPr>
          <a:xfrm>
            <a:off x="785880" y="521496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SimSun"/>
                <a:ea typeface="SimSu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Line 5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5" name="Picture 6" descr="D:\Program Files\Common Files\Microsoft Shared\Clipart\cagcat50\BS00580_.wmf"/>
          <p:cNvPicPr/>
          <p:nvPr/>
        </p:nvPicPr>
        <p:blipFill>
          <a:blip r:embed="rId1"/>
          <a:stretch/>
        </p:blipFill>
        <p:spPr>
          <a:xfrm>
            <a:off x="5029200" y="3505320"/>
            <a:ext cx="358128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SimSun"/>
              </a:rPr>
              <a:t>General Principl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14400" y="1828800"/>
            <a:ext cx="7543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 fulfill the research objectiv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mple, direct &amp; unambiguou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levant and meaningful to respondent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ength to be as short as practicable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- Acceptable to an average pers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- To avoid respondent fatig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- Directly related to response rate &amp; cos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68580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SimSun"/>
              </a:rPr>
              <a:t>Question Format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62120" y="1676520"/>
            <a:ext cx="76197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Simple yes-no ques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3-pt or 5-pt scale (with mid-point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Prompted or unprompt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Open vs. close end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Answers should be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mutually exclusive, exhaustive and balance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SimSun"/>
              </a:rPr>
              <a:t>Also include “don’t know / hard to say” and “refuse to answer”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Line 6"/>
          <p:cNvSpPr/>
          <p:nvPr/>
        </p:nvSpPr>
        <p:spPr>
          <a:xfrm>
            <a:off x="68580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SimSun"/>
              </a:rPr>
              <a:t>Question Order (flow)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762120" y="1828800"/>
            <a:ext cx="78483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Funneling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, i.e. from general to specific,  from public to persona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To arrange questions logically (by topics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To avoid order effect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Unaided </a:t>
            </a:r>
            <a:r>
              <a:rPr b="0" lang="en-US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aided ques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Sensitive / difficult questions at the las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End by mapping demographic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Line 6"/>
          <p:cNvSpPr/>
          <p:nvPr/>
        </p:nvSpPr>
        <p:spPr>
          <a:xfrm>
            <a:off x="68580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cliff</cp:lastModifiedBy>
  <cp:lastPrinted>2001-04-04T10:00:24Z</cp:lastPrinted>
  <dcterms:modified xsi:type="dcterms:W3CDTF">2008-02-01T10:02:30Z</dcterms:modified>
  <cp:revision>599</cp:revision>
  <dc:subject/>
  <dc:title>無投影片標題</dc:title>
</cp:coreProperties>
</file>