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065-770D-4B43-95CE-2A140ECF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CFB-D523-431A-AE0A-336F42E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4CE-62CA-4BD0-BADB-69505BFE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D6C-DD8B-4791-B050-89CE847F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DEA-E172-428B-A447-ACB71178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579-8884-4989-BDFD-7EB2293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047-2995-4D2A-BA99-C66DFA66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080-33D7-439E-99C5-720BAA6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42A-7960-42D6-9A11-855C072F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F9C-0D40-4CD6-B1CC-1AF094D6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8AC-31B2-4C8B-9871-4B355E6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5A1-BDD4-4154-B5E3-F9A0C0E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7DD-D825-4243-835B-3A28BDFF468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第十二屆上海電影節“白玉蘭”國際電視論壇</a:t>
            </a:r>
            <a:br>
              <a:rPr sz="1000"/>
            </a:br>
            <a:br>
              <a:rPr sz="1000"/>
            </a:b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香港電視節目欣賞指數調查與節目品質管理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」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0666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06668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如何讓「香港經驗」開花結果？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須要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結合不同社會的特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包括各地社會獨特的經濟、政治和生活文化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要凝聚和協調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學術界、傳播界、廣告界和研究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共同參與，建立欣賞指數調查的公信力和認受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適用於受眾調查，亦可伸延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專業評審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兩岸三地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學界和業界應該加強交流合作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建立共同的調查方法和獎勵制度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帶動華人社會的優質製作，優化所有華人社會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75248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報告完畢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發言綱領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緒論香港電視節目欣賞指數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簡述欣賞指數在香港發展的歷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的調查方法和發放形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與節目管理：個案討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「香港經驗」帶出來的幾個問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讓「香港經驗」開花結果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858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緒論「香港經驗」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86000"/>
            <a:ext cx="5257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播放「第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16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屆電視欣賞指數調查最佳節目頒獎禮」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2005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）片斷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由香港電台製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播放「第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17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屆電視欣賞指數調查最佳節目頒獎禮」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）片斷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由香港電台製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介紹由蘇鑰機及鍾庭耀編寫之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《電視節目欣賞指數：香港經驗》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01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年出版，共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3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頁。（在論壇專場派發）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36700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576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2514600" cy="3429000"/>
          </a:xfrm>
          <a:prstGeom prst="rect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緒論「香港經驗」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電視欣賞指數調查和頒獎，已經成為香港電視製作的另類指標。與收視率不同之處，在於顯示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何謂優質節目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優質指標不單是提升電視製作的問題，還關乎到整個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社會生活質素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的問題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著眼點不止是收視現狀，而是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推動優質節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的發展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調查採用的方法，應可適用於各種不同華人社會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已經累積接近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年數據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有很大參考價值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模式包涵學界、媒界、廣告界、和研究界的共同參與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在香港的發展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香港媒體一向由市場主導，電視製作以收視率為準，直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香港電台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989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年開始尋求另類指標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1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香港電台進行了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次黃金時段電視節目欣賞指數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，香港電台推動成立「電視節目欣賞指數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調查顧問團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」，負責審議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起，調查由香港大學民意研究計劃執行，範圍擴展所有本地製作節目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調查三次，以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每年四次，即每季一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的調查方法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隨機抽樣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對象為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歲或以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操粵語的香港居民。號碼由電話簿中抽取，入戶後再抽樣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每次調查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節目名單由「顧問團」商議確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由於節目繁多，調查採用了兩組分拆問卷同步進行，而每組問卷的樣本總數都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,00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以上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「顧問團」在公佈結果之前，會舉行會議，審閱調查報告和決定發放安排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結果通常在季度結束後兩個月內公佈。全年總結兼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頒獎典禮一般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月舉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由香港電台負責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與節目管理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057400"/>
            <a:ext cx="7467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每次調查結果可以按照節目類別分析、亦可按照電視頻道和觀眾類別分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按照香港調查的分類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「時事及公共事務」節目的欣賞指數最高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然後是「資訊」和「娛樂」節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綜合長期調查結果，可以把優質節目分成「長期優質時事資訊節目」、「類近長期優質時事資訊節目」、「優質長篇劇集」、「優質短篇劇集」、「優質遊戲節目」等，進行深入分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近年來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年終回顧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亦開始成為優質節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欣賞指數與節目管理：個案分析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鏗鏘集」、「新聞透視」、「星期某天檔案」、 「新聞報告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長期優質節目，反映觀眾對新聞時事節目的喜好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尋找他鄉的故事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奪得五連冠，結合了人物描繪、異鄉情懷、天涯遊歷和民族感情，用游子的故事訴說歷史，切合了香港人的徬徨心態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傑出華人系列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人物檔案故事，要投入不少資源，兼且要策劃周詳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百萬富翁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01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年上榜，但熱潮轉眼即逝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年終回顧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系列節目－－反映溫故知新的訴求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75248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「香港經驗」的問題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平衡電視節目欣賞指數調查由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公營廣播機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發起的利弊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增加欣賞指數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製作人及廣告商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參考價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增加欣賞指數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市場價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調查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應否涵蓋其他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包括外地製作、重播、配音、體育節目等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把欣賞指數推廣到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其他影藝事業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範圍，包括電影藝術、廣告製作、電台節目、和表演藝術等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17T11:17:36Z</dcterms:modified>
  <cp:revision>763</cp:revision>
  <dc:subject/>
  <dc:title>無投影片標題</dc:title>
</cp:coreProperties>
</file>