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D478-5BFC-4DA0-A6C1-91A10C230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9B60-98D3-4D45-AB26-2715DE899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0720-6481-49E8-9BC5-FD11F4BD3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3C01-4D3C-4DC1-908D-6866EF2FB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6927-F637-4C8A-9352-5266C9CE1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37FF-922B-4B12-8555-629B162CA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78B9-5D15-4688-A41D-D36582815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31CD-1400-4FD2-9F51-82DEBC23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88F6-5F06-4F00-A722-847883D0A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6246-34A9-4EE9-8AA0-F92FBC99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3DCA-1613-4AC8-B136-F57B4F0E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48ED-BB22-46DC-AAAB-3834CC9D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EA486-2975-44A2-9330-A75E9DF2EDDE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hkupop.hku.hk/" TargetMode="External"/><Relationship Id="rId2" Type="http://schemas.openxmlformats.org/officeDocument/2006/relationships/hyperlink" Target="http://hkupop.hku.hk/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1143000"/>
            <a:ext cx="807732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ffff99"/>
                </a:solidFill>
                <a:latin typeface="Times New Roman"/>
              </a:rPr>
              <a:t>香港教育學院講座</a:t>
            </a:r>
            <a:endParaRPr b="0" lang="en-US" sz="3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2006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年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3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月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16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日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14600" y="5029200"/>
            <a:ext cx="57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香港大學民意研究計劃主任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鍾庭耀博士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3124080"/>
            <a:ext cx="76964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「</a:t>
            </a:r>
            <a:r>
              <a:rPr b="1" lang="zh-TW" sz="4000" spc="-1" strike="noStrike">
                <a:solidFill>
                  <a:srgbClr val="ffff00"/>
                </a:solidFill>
                <a:latin typeface="Times New Roman"/>
              </a:rPr>
              <a:t>民意搜集及意見表達技巧</a:t>
            </a:r>
            <a:r>
              <a:rPr b="1" lang="zh-TW" sz="4000" spc="-1" strike="noStrike">
                <a:solidFill>
                  <a:srgbClr val="ffff00"/>
                </a:solidFill>
                <a:latin typeface="新細明體"/>
              </a:rPr>
              <a:t>」</a:t>
            </a:r>
            <a:r>
              <a:rPr b="1" lang="zh-TW" sz="4000" spc="-1" strike="noStrike">
                <a:solidFill>
                  <a:srgbClr val="ff0000"/>
                </a:solidFill>
                <a:latin typeface="新細明體"/>
              </a:rPr>
              <a:t> </a:t>
            </a:r>
            <a:r>
              <a:rPr b="1" lang="zh-TW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895480"/>
            <a:ext cx="754380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4495680"/>
            <a:ext cx="754380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2362320"/>
            <a:ext cx="73915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</a:rPr>
              <a:t>自由討論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21337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838080"/>
            <a:ext cx="7619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600" spc="-1" strike="noStrike">
                <a:solidFill>
                  <a:srgbClr val="ffff00"/>
                </a:solidFill>
                <a:latin typeface="Times New Roman"/>
              </a:rPr>
              <a:t>大綱</a:t>
            </a:r>
            <a:endParaRPr b="0" lang="en-US" sz="4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7920" y="2514600"/>
            <a:ext cx="68580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20000"/>
              </a:lnSpc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簡介香港大學民意網站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571680" indent="-571680">
              <a:lnSpc>
                <a:spcPct val="120000"/>
              </a:lnSpc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民意調查的理論和實踐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571680" indent="-571680">
              <a:lnSpc>
                <a:spcPct val="120000"/>
              </a:lnSpc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校園內外的民意調查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571680" indent="-571680">
              <a:lnSpc>
                <a:spcPct val="120000"/>
              </a:lnSpc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香港大學學生研究隊的經驗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571680" indent="-571680">
              <a:lnSpc>
                <a:spcPct val="120000"/>
              </a:lnSpc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自由討論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20574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09680" y="3657600"/>
            <a:ext cx="502920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838080"/>
            <a:ext cx="7620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Times New Roman"/>
              </a:rPr>
              <a:t>香港大學民意網站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2133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19320" y="2743200"/>
            <a:ext cx="68580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ff"/>
                </a:solidFill>
                <a:latin typeface="Times New Roman"/>
              </a:rPr>
              <a:t>下載是次講座內容 –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zh-TW" sz="36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http:/</a:t>
            </a:r>
            <a:r>
              <a:rPr b="0" lang="zh-TW" sz="36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/hkupop.hku.hk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網上資源 </a:t>
            </a:r>
            <a:r>
              <a:rPr b="1" lang="zh-TW" sz="2800" spc="-1" strike="noStrike">
                <a:solidFill>
                  <a:srgbClr val="ccffff"/>
                </a:solidFill>
                <a:latin typeface="Wingdings"/>
                <a:ea typeface="Wingdings"/>
              </a:rPr>
              <a:t>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 民意研究講座及工作坊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香港教育學院講座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- “ied2006”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838080"/>
            <a:ext cx="7620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Times New Roman"/>
              </a:rPr>
              <a:t>香港大學民意網站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2133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2514600"/>
            <a:ext cx="6858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其他參考資料</a:t>
            </a:r>
            <a:r>
              <a:rPr b="1" lang="zh-TW" sz="3600" spc="-1" strike="noStrike">
                <a:solidFill>
                  <a:srgbClr val="ccffff"/>
                </a:solidFill>
                <a:latin typeface="Times New Roman"/>
              </a:rPr>
              <a:t> –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新聞公報 </a:t>
            </a:r>
            <a:r>
              <a:rPr b="1" lang="zh-TW" sz="2800" spc="-1" strike="noStrike">
                <a:solidFill>
                  <a:srgbClr val="ccffff"/>
                </a:solidFill>
                <a:latin typeface="Wingdings"/>
                <a:ea typeface="Wingdings"/>
              </a:rPr>
              <a:t>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 附加資料「民研問與答」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民意調查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研究報告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網上資源 </a:t>
            </a:r>
            <a:r>
              <a:rPr b="1" lang="zh-TW" sz="2800" spc="-1" strike="noStrike">
                <a:solidFill>
                  <a:srgbClr val="ccffff"/>
                </a:solidFill>
                <a:latin typeface="Wingdings"/>
                <a:ea typeface="Wingdings"/>
              </a:rPr>
              <a:t>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 中學師生民意研究習作計劃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838080" y="21337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Times New Roman"/>
              </a:rPr>
              <a:t>民意調查小常識 ……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2590920"/>
            <a:ext cx="6477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74560" indent="-574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ffff00"/>
                </a:solidFill>
                <a:uFillTx/>
                <a:latin typeface="Times New Roman"/>
              </a:rPr>
              <a:t>民意的特質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4560" indent="-574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574560" indent="-57456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量與質的矛盾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574560" indent="-57456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民意的可變和可塑性，傳媒的中介角色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574560" indent="-57456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意見與態度的分別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574560" indent="-57456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品牌效應的理性和感性空間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574560" indent="-57456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市場的價值和價值的市場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574560" indent="-57456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民意的力量和價值的力量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838080" y="21337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Times New Roman"/>
              </a:rPr>
              <a:t>民意調查小常識 ……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23880" y="2590920"/>
            <a:ext cx="6477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74560" indent="-574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ffff00"/>
                </a:solidFill>
                <a:uFillTx/>
                <a:latin typeface="Times New Roman"/>
              </a:rPr>
              <a:t>如何設計一個民意調查？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4560" indent="-574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574560" indent="-57456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參閱文獻，確立研究及調查目的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574560" indent="-57456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資源考慮：有沒有其他更好的研究方法？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574560" indent="-57456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設計抽樣方法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574560" indent="-57456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設計問卷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574560" indent="-57456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設立執行及管理機制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574560" indent="-57456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草擬報告內容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574560" indent="-57456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設定發放方式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838080" y="21337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Times New Roman"/>
              </a:rPr>
              <a:t>民意調查小常識 ……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23880" y="2666880"/>
            <a:ext cx="647712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74560" indent="-574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ffff00"/>
                </a:solidFill>
                <a:uFillTx/>
                <a:latin typeface="Times New Roman"/>
              </a:rPr>
              <a:t>如何執行一個民意調查？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4560" indent="-5745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marL="574560" indent="-57456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面訪調查、自填問卷、電話訪問、網上調查的分別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574560" indent="-57456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如何控制訪員的質素？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574560" indent="-57456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如何控制答案的質素？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574560" indent="-57456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電腦輔助系統的重要性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574560" indent="-57456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正確理解民意的本質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38080" y="21337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Times New Roman"/>
              </a:rPr>
              <a:t>校園內外的調查 ……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28800" y="2590920"/>
            <a:ext cx="6172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74560" indent="-57456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</a:rPr>
              <a:t>為什麼進行民意調查？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4560" indent="-57456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</a:rPr>
              <a:t>什麼議題？如何執行？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4560" indent="-57456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</a:rPr>
              <a:t>同學意見？青年意見？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4560" indent="-57456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</a:rPr>
              <a:t>老師意見？巿民意見？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4560" indent="-57456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</a:rPr>
              <a:t>群眾意見？專業意見？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4560" indent="-57456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</a:rPr>
              <a:t>香港大學學生會的經驗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4560" indent="-57456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</a:rPr>
              <a:t>香香港大學學生研究隊的經驗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網上參考資料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66680" y="205740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ffffff"/>
                </a:solidFill>
                <a:latin typeface="Times New Roman"/>
              </a:rPr>
              <a:t>HKU POP Site at </a:t>
            </a:r>
            <a:r>
              <a:rPr b="0" i="1" lang="zh-TW" sz="2500" spc="-1" strike="noStrike">
                <a:solidFill>
                  <a:srgbClr val="ffff99"/>
                </a:solidFill>
                <a:latin typeface="Times New Roman"/>
              </a:rPr>
              <a:t>http://hkupop.hku.hk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ffffff"/>
                </a:solidFill>
                <a:latin typeface="Times New Roman"/>
              </a:rPr>
              <a:t>WAPOR website at </a:t>
            </a:r>
            <a:r>
              <a:rPr b="0" i="1" lang="zh-TW" sz="2500" spc="-1" strike="noStrike">
                <a:solidFill>
                  <a:srgbClr val="ffff99"/>
                </a:solidFill>
                <a:latin typeface="Times New Roman"/>
              </a:rPr>
              <a:t>http://www.unl.edu/wapor</a:t>
            </a:r>
            <a:r>
              <a:rPr b="0" lang="zh-TW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ffffff"/>
                </a:solidFill>
                <a:latin typeface="Times New Roman"/>
              </a:rPr>
              <a:t>AAPOR website at </a:t>
            </a:r>
            <a:r>
              <a:rPr b="0" i="1" lang="zh-TW" sz="2500" spc="-1" strike="noStrike">
                <a:solidFill>
                  <a:srgbClr val="ffff99"/>
                </a:solidFill>
                <a:latin typeface="Times New Roman"/>
              </a:rPr>
              <a:t>http://www.aapor.org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ffffff"/>
                </a:solidFill>
                <a:latin typeface="Times New Roman"/>
              </a:rPr>
              <a:t>ESOMAR (World Association of Research Professionals) website at </a:t>
            </a:r>
            <a:r>
              <a:rPr b="0" i="1" lang="zh-TW" sz="2500" spc="-1" strike="noStrike">
                <a:solidFill>
                  <a:srgbClr val="ffff99"/>
                </a:solidFill>
                <a:latin typeface="Times New Roman"/>
              </a:rPr>
              <a:t>http://www.esomar.org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ffffff"/>
                </a:solidFill>
                <a:latin typeface="Times New Roman"/>
              </a:rPr>
              <a:t>NCPP website at </a:t>
            </a:r>
            <a:r>
              <a:rPr b="0" i="1" lang="zh-TW" sz="2500" spc="-1" strike="noStrike">
                <a:solidFill>
                  <a:srgbClr val="ffff99"/>
                </a:solidFill>
                <a:latin typeface="Times New Roman"/>
              </a:rPr>
              <a:t>http://www.ncpp.org</a:t>
            </a:r>
            <a:r>
              <a:rPr b="0" i="1" lang="zh-TW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TW" sz="2500" spc="-1" strike="noStrike">
                <a:solidFill>
                  <a:srgbClr val="ffffff"/>
                </a:solidFill>
                <a:latin typeface="Times New Roman"/>
              </a:rPr>
              <a:t>(National Council on Public Polls of USA)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ffffff"/>
                </a:solidFill>
                <a:latin typeface="Times New Roman"/>
              </a:rPr>
              <a:t>Gallup polls at </a:t>
            </a:r>
            <a:r>
              <a:rPr b="0" i="1" lang="zh-TW" sz="2500" spc="-1" strike="noStrike">
                <a:solidFill>
                  <a:srgbClr val="ffff99"/>
                </a:solidFill>
                <a:latin typeface="Times New Roman"/>
              </a:rPr>
              <a:t>http://gallup.com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HKUPOP</cp:lastModifiedBy>
  <cp:lastPrinted>2001-04-04T10:00:24Z</cp:lastPrinted>
  <dcterms:modified xsi:type="dcterms:W3CDTF">2006-03-31T02:21:54Z</dcterms:modified>
  <cp:revision>673</cp:revision>
  <dc:subject/>
  <dc:title>無投影片標題</dc:title>
</cp:coreProperties>
</file>