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8C9F8A-7B14-4578-A1C3-54E778B8059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Jun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4BD-8BB2-4732-8AD4-87A792F2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7D0-AA63-493B-8319-0D5FF591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4F2-FBDD-4959-ADF0-FF71B1F6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B72-78F0-43FF-A2AF-77711E16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AD8-E5E2-47C7-A18A-167A9E53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BB8-BC50-4C5C-BC37-19845F42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949-7092-4F3D-8718-7C774AC7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8CA-EC23-4419-A028-F833D964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BC8-FEA2-479A-9481-CD9B245A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118-A00B-4399-B85C-5ABDF40B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8F1-A28F-4676-9700-142464A2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F5A-F00A-419D-88C9-0E2575AA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5BFE-B526-4BA8-A6BF-C028C93170D8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60217/20060210_TP0206B_Chan%20Sin%20Ting_1944.mp3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762120"/>
            <a:ext cx="80773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Hong Kong University of Sciences and Technolog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General Education Lectu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17 February 200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5181480"/>
            <a:ext cx="60962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99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800" spc="-1" strike="noStrike">
                <a:solidFill>
                  <a:srgbClr val="ffff99"/>
                </a:solidFill>
                <a:latin typeface="Times New Roman"/>
              </a:rPr>
              <a:t>Director of Public Opinion Programm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8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3048120"/>
            <a:ext cx="7696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The Politics of Polling”</a:t>
            </a:r>
            <a:br>
              <a:rPr sz="3600"/>
            </a:br>
            <a:r>
              <a:rPr b="1" lang="zh-TW" sz="3400" spc="-1" strike="noStrike">
                <a:solidFill>
                  <a:srgbClr val="ffff00"/>
                </a:solidFill>
                <a:latin typeface="新細明體"/>
              </a:rPr>
              <a:t>「</a:t>
            </a:r>
            <a:r>
              <a:rPr b="1" lang="zh-TW" sz="3400" spc="-1" strike="noStrike">
                <a:solidFill>
                  <a:srgbClr val="ffff00"/>
                </a:solidFill>
                <a:latin typeface="Times New Roman"/>
              </a:rPr>
              <a:t>民意調查的政治</a:t>
            </a:r>
            <a:r>
              <a:rPr b="1" lang="zh-TW" sz="3400" spc="-1" strike="noStrike">
                <a:solidFill>
                  <a:srgbClr val="ffff00"/>
                </a:solidFill>
                <a:latin typeface="新細明體"/>
              </a:rPr>
              <a:t>」</a:t>
            </a:r>
            <a:r>
              <a:rPr b="1" lang="zh-TW" sz="3600" spc="-1" strike="noStrike">
                <a:solidFill>
                  <a:srgbClr val="ff0000"/>
                </a:solidFill>
                <a:latin typeface="新細明體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2895480"/>
            <a:ext cx="7543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495680"/>
            <a:ext cx="7543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38280" y="3352680"/>
            <a:ext cx="4343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362320"/>
            <a:ext cx="76201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ports by the electronic media (radio &amp; TV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RTHK news, 15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CR1 news, 18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ATV news, 18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ATV world news, 193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 Daily      17 Febr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443040" cy="33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5715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adline Daily      17 Febr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9420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2193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2971800"/>
            <a:ext cx="38098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Hong Kong Commercial Daily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17 February 2006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284940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5238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952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Ming Pao         17 February 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248600" cy="16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5791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    17 Febr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435400" y="2043000"/>
            <a:ext cx="427320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3716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304812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Ta Kung Pao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7 Febr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273204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867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Wen Wei Po     17 Febr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89284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3200400"/>
            <a:ext cx="480060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ccecff"/>
                </a:solidFill>
                <a:latin typeface="Times New Roman"/>
              </a:rPr>
              <a:t>SCMP    </a:t>
            </a:r>
            <a:endParaRPr b="0" lang="en-US" sz="23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0" lang="zh-TW" sz="2300" spc="-1" strike="noStrike">
                <a:solidFill>
                  <a:srgbClr val="ccecff"/>
                </a:solidFill>
                <a:latin typeface="Times New Roman"/>
              </a:rPr>
              <a:t>17 February 2006</a:t>
            </a:r>
            <a:endParaRPr b="0" lang="en-US" sz="23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1355760" cy="549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514600"/>
            <a:ext cx="6781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6840" indent="-4543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36840" indent="-45432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6840" indent="-45432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1536840" indent="-45432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1536840" indent="-45432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1536840" indent="-45432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Graphics and visual effec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1536840" indent="-45432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pecial treatment of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99"/>
                </a:solidFill>
                <a:latin typeface="Times New Roman"/>
              </a:rPr>
              <a:t>Outline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514600"/>
            <a:ext cx="6858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 story unfoldi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politics of polling and the politicization of polli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Lessons learnt and the way ahead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Q &amp; 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6668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10-minute brea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838080"/>
            <a:ext cx="7467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The Politics of Polling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209680"/>
            <a:ext cx="76964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Politics is a process by which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collective decisions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 are made within groups… Politics is also defined as “the art and science of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government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.” Harold Lasswell defined politics as “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who gets what, when, and how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----  from Wikipedia, the on-line encyclopedi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Opinion polling thrives in democratic societi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Opinion polling is a part of the freedom of expres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Opinion polling in the Hong Kong contex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838080"/>
            <a:ext cx="7467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The Politicization of Polling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Politicization" is often a negative label to mean that some people bring up certain issue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rely for political gain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ne typical example – How the HK British Government handled the 1988 Direct Election issue. See “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The Politics of Collating Public Opinion: Two Cases of Misrepresentation of Public Opinion in Hong Kong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”, a paper presented at the World Association for Public Opinion Research (WAPOR) 2003 Annual Conference. Available also from the HKU POP Site under “POP Colum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8288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838080"/>
            <a:ext cx="7467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The Politicization of Polling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5000" indent="-3902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y are opinion polls “politicized”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The mandate of governa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765000" indent="-3902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w can opinion polls be “politicized”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Improper use of pol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Use of improper “polls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765000" indent="-3902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w can opinion polling be “de-politicized”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The role of independent research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The need for professional codes of practi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Respect for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imes New Roman"/>
                <a:ea typeface="新細明體"/>
              </a:rPr>
              <a:t>academic freedom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 and scientific investig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8288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14400" y="2743200"/>
            <a:ext cx="7467480" cy="3200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The De-politicization of Polling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971800"/>
            <a:ext cx="71625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troducing the preliminary findings of the MRSHK Project (19-25/8/200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principle of “minimum disclosure” and a proposed code of professional ethics and practices for public opinion research in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3808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The De-politicization of Polling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5000" indent="-39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Some personal effor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765000" indent="-390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765000" indent="-3902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OP’s special service polic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765000" indent="-3902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POP Express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 since 1996, HKU POP Site since 200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without comments until January 200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with summary tables in PRs from July 200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with FAQs in PRs from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POP Column established in January 2003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765000" indent="-3902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Call for professional practices and coope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765000" indent="-3902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Call for more public and general educ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765000" indent="-3902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Defending academic freedom and our own IQ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2193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HKU POP 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WAPOR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AAPOR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esoma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NCPP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ncpp.org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(National Council on Public Polls of USA)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End of Presentat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&amp;A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Make use of the HKU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today’s lecture, “hkustge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One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2743200"/>
            <a:ext cx="7238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lease of 16 February 2006 (Thursday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Popularity of SAR and Central Governmen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People’s confidence in the future of Hong Kong, China and “One Country, Two Systems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rust and Confiden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9-14 February 2006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On the whole, do you trust the HKSAR Government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On the whole, do you trust the Beijing Central Government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Do you have confidence in Hong Kong’s future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Do you have confidence in China’s futur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Do you have confidence in “One Country, Two Systems”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2666880"/>
            <a:ext cx="7010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egistered voter? Any voting experienc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Gender, age, education attainment, occup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Housing typ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lass statu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lace of birth, years of residence in 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248520" y="316224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3733920"/>
            <a:ext cx="571500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CATI and WEBCATI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(Audio: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TP0602b</a:t>
            </a:r>
            <a:r>
              <a:rPr b="0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WEBCATI input demonstratio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Quality control (q/c) measures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2004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200400"/>
            <a:ext cx="632448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POP’s Releas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438280"/>
            <a:ext cx="7619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Original POP press releases of 16 February 200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Press release in Chinese, 13:4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Press release in English, 13:4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Bulkfax to all media, 13:4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Bulkmail via the POP Network, 13:5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90920" y="3429000"/>
            <a:ext cx="3809880" cy="2209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362320"/>
            <a:ext cx="76201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Reports by the electronic media (web page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Ming Pao, 15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THK, 14:5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CR, 15:19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3-31T02:23:13Z</dcterms:modified>
  <cp:revision>669</cp:revision>
  <dc:subject/>
  <dc:title>無投影片標題</dc:title>
</cp:coreProperties>
</file>