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5F7661-9E06-4AAF-8FE3-E9466EDD4EC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574E82-7AB1-4270-9B91-AC68C995972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BFB-EF07-4934-BF63-55BE89B4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0E1-14B7-42C0-813A-5E73278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D4D-FFD3-42E8-AEF4-7A1D0FA6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096-8241-41F4-8A88-F732A821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679-C701-41B7-B6E7-13A0B22A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E76-2209-44C8-AED8-CEEE644A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3A4-A0B7-48A5-BD4E-C14EB2C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E5A-A459-496D-8BC4-C5739D17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D27-5FD4-4068-9BBD-FDD24ACE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921-0F6C-43F1-B63B-BD70281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337-150D-4CB5-A3AA-AA8BE71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942-6F8F-4A49-9703-02A8B02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9A3-4FE9-41BD-8ABE-E5EEC6D113B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60126/20060110_bulkmail.html" TargetMode="External"/><Relationship Id="rId2" Type="http://schemas.openxmlformats.org/officeDocument/2006/relationships/hyperlink" Target="http://hkupop.hku.hk/chinese/resources/workshops/20060126/20060110_bulkmail.html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gallup.com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6 January 2006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819520"/>
            <a:ext cx="7010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0 January 2006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CE Donald Tsang and the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3-6 Jan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Executive Donald Tsang Yam-kuen, with 0 indicating absolutely not supportive, 100 indicating absolutely supportive and 50 indicating half-half.  How would you rate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officials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3-6 Jan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Secretary for Administration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fael Hui Si-ya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Chief Secretary for Administration Rafael Hui Si-ya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Financial Secretary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Henry Tang Ying-y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Financial Secretary Henry Tang Ying-y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officials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3-6 January 2006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1337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Secretary for Justice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ng Yan-lung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Secretary for Justice Elsie Leung Oi-si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[Similar questions for John Tsang Chun-wah, Michael Suen Ming-yeung, Arthur Li Kwok-cheung, York Chow Yat-ngok, Joseph Wong Wing-ping, Patrick Ho Chi-ping, Ambrose Lee Siu-kwong , Stephen Ip Shu-kwan, Sarah Liao Sau-tung, Frederick Ma Si-hang and Stephen Lam Sui-lung.]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438280"/>
            <a:ext cx="8077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10 January 200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Chinese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Press release in English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Bulkfax to all media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via the POP Network, 15:0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3200400"/>
            <a:ext cx="5867640" cy="3048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209680"/>
            <a:ext cx="7620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electronic media (web page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RTHK news, 15:45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Ming Pao, 15:53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CR news, 17:19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Metro Radio news, 18:43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3880" y="3429000"/>
            <a:ext cx="624852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ports by electronic media (radio and TV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RTHK news, 16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R1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ATV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1240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Hong Kong Economic Journal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ra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81952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urse outline and workshop outlin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2578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38320" y="1828800"/>
            <a:ext cx="686736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0666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25720" y="1371600"/>
            <a:ext cx="254628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4864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870200"/>
            <a:ext cx="6029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87692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4400" y="2554200"/>
            <a:ext cx="7853400" cy="17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90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4100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1357200"/>
            <a:ext cx="526896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48006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63990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33412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649520"/>
            <a:ext cx="648828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56386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1265400"/>
            <a:ext cx="48099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92440" y="1143000"/>
            <a:ext cx="2779560" cy="54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990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1 January 20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306360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urse outline and workshop outlin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114800"/>
            <a:ext cx="6705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105520"/>
            <a:ext cx="67057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705720" y="457200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96252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a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TP0601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TP0601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already discussed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esigning an opinion surve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/ 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202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bjectives of this cours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239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o develop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ritical thinking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actical skill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in reading, conducting and managing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ocial research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projec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is course i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concerned with the management of 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rchitectural, engineering or development project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 (again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6 January 2006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8 January 2006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6 Feb 2006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6 Feb 2006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3 March 2006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5–21 March 200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Plan a comprehensive study to gauge people’s view 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different disciplinary force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different disciplinary forces and can they be compared on equal ground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structure your study report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plan to repeat your measurement over tim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Plan a comprehensive study to gauge people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uation of correctional service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y is it important to conduct the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there any previous studie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structure your study repor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o are the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media angle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Plan a comprehensive stud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 the morale of CSD officer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y is it important to conduct the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there any previous studie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do you foresee are the main difficulties in conducting the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ould you use questionnaire survey or focus group discussions or other method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guarantee the anonymity of the respondent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plan to repeat your measurement over time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4)  Plan a comprehensive study to gauge people’s view on building a super priso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key issues involved in building a super prison, with reference to public discussions in the pas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plan to repeat your measurement over tim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Findings of the MRSHK pilot study of August 2002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Proposed Code of Professional Ethics and Practices for Public Opinion Research in Hong Ko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gallup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Zimmerman, D.E. and Muraski, M.L. (1995). </a:t>
            </a:r>
            <a:r>
              <a:rPr b="0" i="1" lang="zh-TW" sz="2000" spc="-1" strike="noStrike">
                <a:solidFill>
                  <a:srgbClr val="ccecff"/>
                </a:solidFill>
                <a:latin typeface="Times New Roman"/>
              </a:rPr>
              <a:t>The Elements of Information Gatheri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. Arizona: Oryx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Babbie, E.R. (1990). </a:t>
            </a:r>
            <a:r>
              <a:rPr b="0" i="1" lang="zh-TW" sz="2000" spc="-1" strike="noStrike">
                <a:solidFill>
                  <a:srgbClr val="ccecff"/>
                </a:solidFill>
                <a:latin typeface="Times New Roman"/>
              </a:rPr>
              <a:t>Survey Research Methods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, 2nd ed. California: Wadsworth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666880"/>
            <a:ext cx="7467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ll course materials are placed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n-line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n-line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pen forum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to promote discussion among participa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Build-in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urse evaluation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to facilitate future planning, as well as actual example of opinion survey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82880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 Timelin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6 Jan 06, during workshop – Formation of project gro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6 Jan 06, afternoon - Division of labour among group memb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8 Jan 06, 2359 the latest - 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6 Feb 06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, 2359 the latest - Submission of first assignments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6 Feb 06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3 Mar 06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- Submission of group project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5-21 Mar 06 - 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524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opics for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"/>
              </a:rPr>
              <a:t>Plan a comprehensive study to gauge people’s view 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different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isciplinary forc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2) Plan a comprehensive study to gauge people’s evaluation of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orrectional service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3) Plan a comprehensive study on th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orale of CSD officers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(4) Plan a comprehensive study to gauge people’s view on building a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uper prison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Demonstr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csd0601”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Demonstr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wnloading powerpoint presentation file used on 26 January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wnloading course instructions (in pdf format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On-line completion of workshop evaluation questionnaire, by 2359 on 28 January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Submission of first assignments on-line, by 2359 on 6 Feb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Submission of group project to CSD, by 13 March 2006, cannot be done on-lin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On-line completion of programme evaluation questionnaire, 15–21 March 2006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Submit questions or comments to the open forum for course participants, 26 January to 16 February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1-26T09:43:10Z</dcterms:modified>
  <cp:revision>666</cp:revision>
  <dc:subject/>
  <dc:title>無投影片標題</dc:title>
</cp:coreProperties>
</file>