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51E0AA-242F-416C-82E3-DEC901B6911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Jun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836AD9-55CE-44B0-9333-1207205815C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65634E-0AFF-49D0-BEE4-6F8351C78E8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C60-A621-4FF0-A48A-0C218C22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71E-368B-4554-B0AB-97E119D8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7AB-EE06-4BBE-8887-DD197E0F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7AC-DA1B-4826-A872-6CEF194A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852-35B6-46EF-A023-D762A4CE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29B-BED6-4E74-8FCB-BAA880ED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14A-8E58-4AC7-81A1-EFD2214B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CB5-0CEF-42C7-BA41-F939DAF3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43F-C107-47B8-90FA-7867DC80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663-F5AB-42E4-81D3-F4ED8071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DF7-D922-4BA1-B76C-CD53220A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BF8-64A2-4790-A4ED-E069FFC0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8503-D621-480F-9C37-8DDFECC84E6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721/bulkmail.htm" TargetMode="External"/><Relationship Id="rId2" Type="http://schemas.openxmlformats.org/officeDocument/2006/relationships/hyperlink" Target="http://hkupop.hku.hk/chinese/resources/workshops/20050721/bulkmail.htm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721/tp0507a_que.html" TargetMode="External"/><Relationship Id="rId2" Type="http://schemas.openxmlformats.org/officeDocument/2006/relationships/hyperlink" Target="http://hkupop.hku.hk/chinese/resources/workshops/20050721/tp0507a_admin.html" TargetMode="External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Workshop on Project Management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for Correctional Services Department Officer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1 July 2005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14400" y="495288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Acting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4 - 6 Jul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1337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Chief Secretary for Administration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Rafael Hui Si-ya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, with 0 indicating absolutely not supportive, 100 indicating absolutely supportive and 50 indicating half-half. How would you rate Chief Secretary for Administration Rafael Hui Si-ya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Financial Secretary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Henry Tang Ying-ye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, with 0 indicating absolutely not supportive, 100 indicating absolutely supportive and 50 indicating half-half. How would you rate Financial Secretary Henry Tang Ying-ye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Acting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4 - 6 Jul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133720"/>
            <a:ext cx="7619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Secretary for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Justice Elsie Leung Oi-sie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, with 0 indicating absolutely not supportive, 100 indicating absolutely supportive and 50 indicating half-half. How would you rate Secretary for Justice Elsie Leung Oi-sie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[Similar questions for John Tsang Chun-wah, Michael Suen Ming-yeung, Arthur Li Kwok-cheung, York Chow Yat-ngok, Joseph Wong Wing-ping, Patrick Ho Chi-ping, Ambrose Lee Siu-kwong , Stephen Ip Shu-kwan, Sarah Liao Sau-tung, Frederick Ma Si-hang and Stephen Lam Sui-lung.]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2666880"/>
            <a:ext cx="7010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egistered voter? Any voting experienc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Gender, age, education attainment, occup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Housing typ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lass statu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lace of birth, years of residence in 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anaging the Medi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00200" y="3276720"/>
            <a:ext cx="632448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2438280"/>
            <a:ext cx="7543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The original POP press release of 12 July 2005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Chinese, 13:59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English, 13:59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388ec8"/>
                </a:solidFill>
                <a:latin typeface="Times New Roman"/>
              </a:rPr>
              <a:t>Bulkfax to all media, 14:0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Bulkmail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 via the POP Network, 14:0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0" y="3429000"/>
            <a:ext cx="4419720" cy="2514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Reports by the electronic med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Metro Radio news, 15:01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 news, 15:01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Ming Pao, 15:19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3880" y="3429000"/>
            <a:ext cx="6248520" cy="281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Reports by the electronic med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 news, 18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CR news, 15:28 (web),</a:t>
            </a:r>
            <a:r>
              <a:rPr b="1" lang="zh-TW" sz="2600" spc="-1" strike="noStrike">
                <a:solidFill>
                  <a:srgbClr val="000066"/>
                </a:solidFill>
                <a:latin typeface="Times New Roman"/>
              </a:rPr>
              <a:t> 18</a:t>
            </a: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:00 (audio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ATV news, 18:00 </a:t>
            </a: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(Webpage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VB news, 18:3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30481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2a_20050713_Apple%20Daily_曾蔭權民望跌%20許仕仁逾60分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243828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Wen Wei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2a_20050713_Wen%20Wei%20Pao_曾蔭權支持率%20升至77%25" descr=""/>
          <p:cNvPicPr/>
          <p:nvPr/>
        </p:nvPicPr>
        <p:blipFill>
          <a:blip r:embed="rId1"/>
          <a:stretch/>
        </p:blipFill>
        <p:spPr>
          <a:xfrm>
            <a:off x="1496880" y="1295280"/>
            <a:ext cx="307512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Standard    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2a_20050713_HK%20Standard_Chief's%20popularity%20lifting%20his%20associates,%20says%20poll" descr=""/>
          <p:cNvPicPr/>
          <p:nvPr/>
        </p:nvPicPr>
        <p:blipFill>
          <a:blip r:embed="rId1"/>
          <a:stretch/>
        </p:blipFill>
        <p:spPr>
          <a:xfrm>
            <a:off x="380880" y="2427120"/>
            <a:ext cx="8458200" cy="21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Workshop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514600"/>
            <a:ext cx="7467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ne case study of opinion resear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operation and management research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mpilation of project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xplanation and assignment of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ses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Mi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2a_20050713_Ming%20Pao_官員民望許仕仁入三甲" descr=""/>
          <p:cNvPicPr/>
          <p:nvPr/>
        </p:nvPicPr>
        <p:blipFill>
          <a:blip r:embed="rId1"/>
          <a:stretch/>
        </p:blipFill>
        <p:spPr>
          <a:xfrm>
            <a:off x="1339920" y="1066680"/>
            <a:ext cx="31878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   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20050713_oriental%20daily" descr=""/>
          <p:cNvPicPr/>
          <p:nvPr/>
        </p:nvPicPr>
        <p:blipFill>
          <a:blip r:embed="rId1"/>
          <a:stretch/>
        </p:blipFill>
        <p:spPr>
          <a:xfrm>
            <a:off x="762120" y="2228760"/>
            <a:ext cx="7772400" cy="24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Si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7" name="2a_20050713_Sing%20Pao_許仕仁初上任民望超60分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214632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Tai Ku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2" name="2a_20050713_Ta%20Kung%20Pao_許仕仁民望逾60分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216720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2a_20050713_Sing%20Tao%20Daily_許仕仁民望排第三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266688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Jou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2" name="2a_20050713_HK%20Economic%20Journal_許仕仁民望受惠於特首" descr=""/>
          <p:cNvPicPr/>
          <p:nvPr/>
        </p:nvPicPr>
        <p:blipFill>
          <a:blip r:embed="rId1"/>
          <a:stretch/>
        </p:blipFill>
        <p:spPr>
          <a:xfrm>
            <a:off x="1371600" y="1150920"/>
            <a:ext cx="2908440" cy="54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3048120"/>
            <a:ext cx="2590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Tim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7" name="20050713_hket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441972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2514600"/>
            <a:ext cx="6324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6668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10-minute brea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Workshop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514600"/>
            <a:ext cx="7467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ne case study of opinion resear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operation and management research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mpilation of project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xplanation and assignment of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ses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648320"/>
            <a:ext cx="64767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581280"/>
            <a:ext cx="64767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248520" y="3162240"/>
            <a:ext cx="11430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2004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 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(Audio: TP0507a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705720" y="4572000"/>
            <a:ext cx="91440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3962520"/>
            <a:ext cx="91440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TP0507a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TP0507a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s (to be discussed later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752480"/>
            <a:ext cx="7391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/ 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68580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The Basics of Project Manageme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243828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ying down objectives and activi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rawing network diagram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stimating activity du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ol: analyze, re-plan, and upda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sources conside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ingency pla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A Sample Project Schedu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40384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an 26:  Briefing and orient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1:  Literature review; initial design of the stud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rch 13-19:  Finalizing research strateg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2:  Fieldwork and confronting practical problem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3:  Data analysis and report compil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y 3:  Final touch-up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91080" y="2209680"/>
            <a:ext cx="7085520" cy="1573200"/>
            <a:chOff x="991080" y="2209680"/>
            <a:chExt cx="7085520" cy="1573200"/>
          </a:xfrm>
        </p:grpSpPr>
        <p:grpSp>
          <p:nvGrpSpPr>
            <p:cNvPr id="196" name=""/>
            <p:cNvGrpSpPr/>
            <p:nvPr/>
          </p:nvGrpSpPr>
          <p:grpSpPr>
            <a:xfrm>
              <a:off x="991080" y="3120120"/>
              <a:ext cx="7085520" cy="662760"/>
              <a:chOff x="991080" y="3120120"/>
              <a:chExt cx="7085520" cy="662760"/>
            </a:xfrm>
          </p:grpSpPr>
          <p:sp>
            <p:nvSpPr>
              <p:cNvPr id="197" name=""/>
              <p:cNvSpPr/>
              <p:nvPr/>
            </p:nvSpPr>
            <p:spPr>
              <a:xfrm>
                <a:off x="1073520" y="312012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cc99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79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9910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67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18016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83212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5744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14612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735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866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9994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006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264080" y="34758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1157040" y="2209680"/>
              <a:ext cx="2667600" cy="15192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25000" y="2513160"/>
              <a:ext cx="20844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09400" y="2817000"/>
              <a:ext cx="18342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Background Reading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immerman, D.E. and Muraski, M.L. (1995). The Elements of Information Gathering. Arizona: Oryx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Babbie, E.R. (1990)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 Survey Research Methods, 2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ed. California: Wadsworth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KU POP Site a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terature review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(if applicable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Project schedu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udge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team memb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research problem? How wide? How deep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desired method of data collec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en must it be finish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w should the finding be presen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academic/intellectual value of the study? What further questions have been genera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fferent Methods of Data Collection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4792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erviews: face-to-fa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bserv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Focus grou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Electronic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brary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47920" y="251424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Executive summar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nclusions with or without recommend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questionnaire (in appendix, if applicabl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ther document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team member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2590920"/>
            <a:ext cx="7315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Features of this cours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ll course material placed on-l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Communication with lecturer and instructors any ti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On-line forum to promote open discussion among participan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Build-in course evaluation to facilitate future planning, as well as actual example of opinion surve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6668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10-minute brea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roup Projects and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dividual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imelines for Group Projects (again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21 July 2005, afterno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ivision of labour among group members fix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23 July 2005, by 2359 the late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On-line completion of workshop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1 August 2005, by 2359 -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Submission of first assignments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 on-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11 August 2005 - First assignments marked and return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1 September 2005 -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Submission of group project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 to CS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3 – 9 September 20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On-line completion of programme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"/>
              </a:rPr>
              <a:t>(1)  Plan and conduct a study on Hong Kong people’s reaction to Hong Kong stag the 2008 Olympic Equestrian Event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Give a background of the even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public’s initial rea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o were the  opinion leader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government’s rol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o people support the government? How do you know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collect data for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is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Are you going to make some policy recommendati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2)  Plan and conduct a study on Hong Kong people’s reaction to Donald Tsang’s being elected the Chief Executive of the HKSAR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measure people’s support of the CE candidates? How many ways are ther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as the public’s reaction before, during and after the ele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collect your data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has the media influence public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is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"/>
              </a:rPr>
              <a:t>(3) Plan and conduct a study on Hong Kong people’s reaction to Ma Ying-jeou’s being elected Chairman of Kuomintang in Taiwa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Give a background of the even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y should we be interested in studying this ele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reaction of the Hong Kong public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reaction of Hong Kong’s opinion leader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collect data for your study? 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lessons does Hong Kong learn from this ele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estions and Answer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ojects and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me Reference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1447920"/>
            <a:ext cx="7543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Workshop teaching aid: </a:t>
            </a:r>
            <a:r>
              <a:rPr b="0" lang="zh-TW" sz="2000" spc="-1" strike="noStrike" u="sng">
                <a:solidFill>
                  <a:srgbClr val="ccecff"/>
                </a:solidFill>
                <a:uFillTx/>
                <a:latin typeface="Times New Roman"/>
              </a:rPr>
              <a:t>Findings of the MRSHK pilot study of August 2002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Workshop teaching aid: </a:t>
            </a:r>
            <a:r>
              <a:rPr b="0" lang="zh-TW" sz="2000" spc="-1" strike="noStrike" u="sng">
                <a:solidFill>
                  <a:srgbClr val="ccecff"/>
                </a:solidFill>
                <a:uFillTx/>
                <a:latin typeface="Times New Roman"/>
              </a:rPr>
              <a:t>Proposed Code of Professional Ethics and Practices for Public Opinion Research in Hong Kong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WAPOR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AAPOR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NCPP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ncpp.org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(National Council on Public Polls of USA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12193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Make use of the HKU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[ today’s workshop, “july05”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4572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600200"/>
            <a:ext cx="7543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A quick look at the assignmen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The Timelin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21 July 2005, during workshop – Formation of project group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21 July 2005, afternoon - Division of labour among group memb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23 July 2005, 2359 the latest - On-line completion of workshop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1 August 2005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, 2359 the latest - Submission of first assignments on-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11 August 2005 - First assignments marked and return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1 September 2005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- Submission of group project to CS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3-9 September 2005 - On-line completion of programme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572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600200"/>
            <a:ext cx="76960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A quick look at the assignmen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Topics for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(1) Plan and conduct a study on Hong Kong people’s reaction to Hong Kong stag the 2008 </a:t>
            </a:r>
            <a:r>
              <a:rPr b="0" lang="zh-TW" sz="2400" spc="-1" strike="noStrike">
                <a:solidFill>
                  <a:srgbClr val="ffff99"/>
                </a:solidFill>
                <a:latin typeface="Times New Roman"/>
              </a:rPr>
              <a:t>Olympic Equestrian Events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(2) Plan and conduct a study on Hong Kong people’s reaction to </a:t>
            </a:r>
            <a:r>
              <a:rPr b="0" lang="zh-TW" sz="2400" spc="-1" strike="noStrike">
                <a:solidFill>
                  <a:srgbClr val="ffff99"/>
                </a:solidFill>
                <a:latin typeface="Times New Roman"/>
              </a:rPr>
              <a:t>Donald Tsang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’s being elected the Chief Executive of the HKSAR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(3) Plan and conduct a study on Hong Kong people’s reaction to </a:t>
            </a:r>
            <a:r>
              <a:rPr b="0" lang="zh-TW" sz="2400" spc="-1" strike="noStrike">
                <a:solidFill>
                  <a:srgbClr val="ffff99"/>
                </a:solidFill>
                <a:latin typeface="Times New Roman"/>
              </a:rPr>
              <a:t>Ma Ying-jeou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’s being elected Chairman of Kuomintang in Taiwa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590920"/>
            <a:ext cx="7010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lease of 12 July 2005 (Tuesda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Latest popularity figures of CE Donald Tsang and the Principal Officia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16  key opinion questions + a standard set of demographic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Acting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4 - 6 Jul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28600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Chief Executive Donald Tsang Yam-kuen, with 0 indicating absolutely not supportive, 100 indicating absolutely supportive and 50 indicating half-half.  How would you rate Chief Executive Donald Tsang Yam-kuen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If a general election of the Chief Executive were to be held tomorrow, and you had the right to vote,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would you vote for Donald Tsang Yam-kue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3-31T02:25:06Z</dcterms:modified>
  <cp:revision>633</cp:revision>
  <dc:subject/>
  <dc:title>無投影片標題</dc:title>
</cp:coreProperties>
</file>