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B0B6D6-1449-4175-BD30-2A84918E4B7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26E0A8-7B5E-4834-AE2A-A24D1B1B6F7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BC2E42-EFE6-43FC-814C-D457B1AB5C0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AEF15F-98F6-447A-A563-B3F1327CEF1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2FB-D9DA-43F1-BA52-95E86844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C81-0A52-494C-BA82-476275C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A12-5FAE-41CC-B1A6-F9A1D05E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6D9-83B6-4F70-9DAB-3C9452FB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FC1-00F6-41B5-BF81-F48A018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75A-2FAA-49BD-9693-1E09939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2AB-5CF7-4A6F-ABAE-7390E06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F79-4CEA-4756-994A-630A2F36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82B-0C31-472B-A520-1101DEFF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306-A02D-40E8-B2F5-75E7F5B8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F40-D9C6-45BA-83C8-685E449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A26-633C-43E0-85A5-6A93781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2686-DC7E-4CAC-A49F-460EB415B18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621/20050531_pr_chi.htm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RESARCH WORKSHOP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工作坊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22/6/2005, 1830-21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1460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91440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Lee Shiu Socio-Economic Study Project 2005</a:t>
            </a:r>
            <a:r>
              <a:rPr b="0" lang="zh-TW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ccec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ccecff"/>
                </a:solidFill>
                <a:latin typeface="MingLiU"/>
              </a:rPr>
              <a:t>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31 May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Press release in Chinese, 13:4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4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66880" y="3429000"/>
            <a:ext cx="381024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5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2a_20050601_Apple%20Daily_56%25受訪者支持平反六四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7631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8769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2a_20050601_Oriental%20Daily%20News_支聯會評分跌破50分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8148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327672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2a_20050601_Ming%20Pao_56%25支持平反六四回歸新高" descr=""/>
          <p:cNvPicPr/>
          <p:nvPr/>
        </p:nvPicPr>
        <p:blipFill>
          <a:blip r:embed="rId1"/>
          <a:stretch/>
        </p:blipFill>
        <p:spPr>
          <a:xfrm>
            <a:off x="762120" y="1085760"/>
            <a:ext cx="563868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 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2a_20050601_HK%20Economic%20Times_支持平反六四創新高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51814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Hong Kong Daily News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（新報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2a_20050601_HK%20Daily%20News_五成六人支持平反六四" descr=""/>
          <p:cNvPicPr/>
          <p:nvPr/>
        </p:nvPicPr>
        <p:blipFill>
          <a:blip r:embed="rId1"/>
          <a:stretch/>
        </p:blipFill>
        <p:spPr>
          <a:xfrm>
            <a:off x="1523880" y="1914480"/>
            <a:ext cx="603576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2a_20050601_Sing%20Pao_支持平反六四回歸新高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043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M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2a_20050601_SCMP_Rising%20sympathy%20for%20Tiananmen%20sturdent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2847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514600"/>
            <a:ext cx="6324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514600"/>
            <a:ext cx="6705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e case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e case of field observ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basics of social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2514600"/>
            <a:ext cx="746748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ield Observat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0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香港大學學生會、香港大學學生研究隊主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004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7-20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9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名同學 ＋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名單位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author has been to Taiwan to observe the elections there for many years, he has always kept an eye on the development of the public opinion survey in Taiwan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first exit poll of the presidential election in Taiwan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roblems observed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 media in Taiwan is not neutra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academics in Taiwan also not neutra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 civil service also not neutral civil service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re is a serious lack of independent middle force in Taiwan society, which is not good for democratic development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As a result, they cannot provide a credible middle force to societ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62320" y="5257800"/>
            <a:ext cx="5257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724280"/>
            <a:ext cx="52578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4267080"/>
            <a:ext cx="5029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0" lang="zh-TW" sz="3000" spc="-1" strike="noStrike">
                <a:solidFill>
                  <a:srgbClr val="ccecff"/>
                </a:solidFill>
                <a:latin typeface="Times New Roman"/>
              </a:rPr>
              <a:t>Inadequate Support Mechanisms in Taiwan’s Democratic System”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ecff"/>
                </a:solidFill>
                <a:latin typeface="Times New Roman"/>
              </a:rPr>
              <a:t>「台灣民主制度配套不足」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The Chinese version at POP Site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The English version at POP Site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51460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Basic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cial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net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-depth 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 leeshiu0506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f applicable, 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419112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rch 10:  Finalizing research strate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70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ree Discuss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Topics for Discuss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How would you conduct a study on Hong Kong people’s receptiveness to the proposed abolition of estate duty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initial reaction of the public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the initial reaction of the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different opinions from different secto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Workshop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31 May 2005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Annual survey on June Fourt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11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Beijing students did the right thing in the June 4 Incid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Chinese Government did the right thing in the June 4 Incid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ared to 1989, do you think China's human right condition has become better or wors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human right condition in China will be better or even worse in three years' tim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286000"/>
            <a:ext cx="7924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have a responsibility to instigate the development of democracy in China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have a responsibility to instigate economic development in China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should put more effort on instigating development in China's economy or democracy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ch do you think China needs more: economic or democratic developm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743200"/>
            <a:ext cx="7086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support a reversion of the official stand on the June 4 Incid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Alliance should be disbanded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ting of the Hong Kong Alliance in Support of the Patriotic Democratic Movement in China before June 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Coverag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6:21Z</dcterms:modified>
  <cp:revision>631</cp:revision>
  <dc:subject/>
  <dc:title>無投影片標題</dc:title>
</cp:coreProperties>
</file>