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D46E44-4304-4D0F-BA4D-C95C1E91DD2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BDA09E-D9B6-4711-BBFE-6C686796BD9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4A341E-7759-4B53-99E3-5A9B755F282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77F-7A75-498B-AD7D-07814802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3B8-377D-466E-822B-CC68CDB7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918-3482-457D-93A7-996079F7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E6E-0FC9-41D1-9320-DA812E07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FCA-1550-4DF9-8479-CAF51A0B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86A-3A87-4286-914E-E7AD6349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F93-6C1F-4AFD-B550-3B285688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4C1-D729-4C2E-9453-702CB02B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A61-DD8F-4D5A-AB27-182B2C11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300-EA7E-47F8-BE29-6B2D45CB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AD63-7A4F-494D-95A6-088FB83A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A3E-3FFC-4589-9552-9923A8C9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3F54-490C-42C5-AE06-1B225F581A09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510/20050418_TP0504C_Chan%20To%20Lam_%202006.mp3" TargetMode="Externa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510/tp0504c_que.htm" TargetMode="External"/><Relationship Id="rId2" Type="http://schemas.openxmlformats.org/officeDocument/2006/relationships/hyperlink" Target="http://hkupop.hku.hk/chinese/resources/workshops/20050510/tp0504c_admin_2.html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Workshop on Project Management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for Correctional Services Department Officer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10 May 2005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14400" y="495288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867280" y="3200400"/>
            <a:ext cx="121932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ATI and WEBCATI   (</a:t>
            </a:r>
            <a:r>
              <a:rPr b="0" lang="zh-TW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audio</a:t>
            </a: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32004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477120" y="4419720"/>
            <a:ext cx="121896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809880"/>
            <a:ext cx="121932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(demo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(demo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Press releases (to be discussed later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676520"/>
            <a:ext cx="7238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8580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The Basics of Project Managemen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2438280"/>
            <a:ext cx="6781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ying down objectives and activi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rawing network diagram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stimating activity du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ol: analyze, re-plan, and upda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sources conside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ingency pla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A Sample Project Schedu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403848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an 26:  Briefing and orient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1:  Literature review; initial design of the stud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rch 13-19:  Finalizing research strateg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2:  Fieldwork and confronting practical problem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3:  Data analysis and report compil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y 3:  Final touch-up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91080" y="2209680"/>
            <a:ext cx="7085520" cy="1573200"/>
            <a:chOff x="991080" y="2209680"/>
            <a:chExt cx="7085520" cy="1573200"/>
          </a:xfrm>
        </p:grpSpPr>
        <p:grpSp>
          <p:nvGrpSpPr>
            <p:cNvPr id="112" name=""/>
            <p:cNvGrpSpPr/>
            <p:nvPr/>
          </p:nvGrpSpPr>
          <p:grpSpPr>
            <a:xfrm>
              <a:off x="991080" y="3120120"/>
              <a:ext cx="7085520" cy="662760"/>
              <a:chOff x="991080" y="3120120"/>
              <a:chExt cx="7085520" cy="662760"/>
            </a:xfrm>
          </p:grpSpPr>
          <p:sp>
            <p:nvSpPr>
              <p:cNvPr id="113" name=""/>
              <p:cNvSpPr/>
              <p:nvPr/>
            </p:nvSpPr>
            <p:spPr>
              <a:xfrm>
                <a:off x="1073520" y="312012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cc99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79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910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67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18016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3212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45744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4612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35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866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994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6006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264080" y="34758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157040" y="2209680"/>
              <a:ext cx="2667600" cy="15192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25000" y="2513160"/>
              <a:ext cx="20844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09400" y="2817000"/>
              <a:ext cx="18342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Background Reading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immerman, D.E. and Muraski, M.L. (1995). The Elements of Information Gathering. Arizona: Oryx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Babbie, E.R. (1990)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. Survey Research Methods, 2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ed. California: Wadsworth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KU POP Site a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/hkupop.hku.hk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terature review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(if applicable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Project schedu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udge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team memb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research problem? How wide? How deep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desired method of data collectio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en must it be finish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ow should the finding be presen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academic/intellectual value of the study? What further questions have been genera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fferent Methods of Data Collection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92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erviews: face-to-fa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bserv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Focus grou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Electronic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brary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Workshop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514600"/>
            <a:ext cx="7467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A case study of opinion researc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operation and management research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mpilation of project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Managing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xplanation and assignment of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iscussion ses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7920" y="251424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Executive summar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nclusions with or without recommend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questionnaire (in appendix, if applicabl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ther document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team member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anaging the Medi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00200" y="3276720"/>
            <a:ext cx="632448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543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The original POP press release of 26 April 2005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Chinese, 13:3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English, 13:3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388ec8"/>
                </a:solidFill>
                <a:latin typeface="Times New Roman"/>
              </a:rPr>
              <a:t>Bulkfax to all media, 13:3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mail via the POP Network, 13:4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66880" y="3429000"/>
            <a:ext cx="3810240" cy="2286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43828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Reports by the electronic med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THK news, 18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ATV news on-line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VB news, 23:3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5181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    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1" name="2a_20050427_Apple%20Daily_曾蔭權民望跌3.5分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68152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Wen Wei Po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6" name="2a_20050427_Wen%20Wei%20Po_72%25市民望曾蔭權當特首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4419720" cy="41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5486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Standard     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1" name="2a_20050427_HK%20Standard_Tsang's%20ratings%20dip%20on%20%60snobbish'%20mien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55496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3124080"/>
            <a:ext cx="2667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Jou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6" name="2a_20050427_HK%20Economic%20Journal_曾蔭權民望七天跌3.5分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3790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2743200"/>
            <a:ext cx="2819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Tim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1" name="2a_20050427_HK%20Economic%20Times_座駕切綫拖累%20民望跌3.5分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2743200" cy="48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5486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Commercial Daily    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6" name="2a_20050427_HK%20Commercial%20Daily_港府民望3個月來最高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724640" cy="29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438280"/>
            <a:ext cx="7086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Features of this cours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All course material placed on-li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ommunication with lecturer and instructors any tim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Open discussion among participants most welcom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Your evaluation of all activities invit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30481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iental Daily New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2a_20050427_Oriental%20Daily%20News_曾蔭權支持度仍高企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27432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he Sun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6" name="2a_20050427_The%20Sun_曾蔭權民望回落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36115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Ta Kung Pao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1" name="2a_20050427_Ta%20Kung%20Pao_曾蔭權民望有回落%20明出席答問大會民建聯關注民生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518148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327672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Si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6" name="2a_20050427_Sing%20Pao_董建華再籲社會支持曾蔭權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550080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2514600"/>
            <a:ext cx="6324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2514600"/>
            <a:ext cx="7467480" cy="358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2743200"/>
            <a:ext cx="7162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the preliminary findings of the MRSHK Project (19-25/8/200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principle of “minimum disclosure” (For reference: Proposed Code of Professional Ethics and Practices for Public Opinion Research in Hong Ko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roup Projects and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dividual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imeline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10 May 2005, afterno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ivision of labour among group members fix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12 May 2005, by 2359 the late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On-line completion of workshop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20 May 2005, by 2359 -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Submission of first assignments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 on-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30 May 2005 - First assignments marked and return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6 June 2005 -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Submission of group project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 to CS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8-14 June 20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On-line completion of programme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1)  Plan and conduct a study on Hong Kong people’s support of the government in the last three month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measure the government’s popularity? How many ways are ther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o you need to, or have time for, a primary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secondary sources which would be relevant to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reliable and unreliable informa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is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e you going to make some policy recommendation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"/>
              </a:rPr>
              <a:t>(2)  Plan and conduct a study on Hong Kong people’s reaction to the latest toll increase at the Eastern Harbour Tunnel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Give a background of the latest tunnel toll increase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public’s initial rea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government’s initial rea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o people support the government? How do you know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collect data for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is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Are you going to make some policy recommendation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Make use of the HKU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[ today’s workshop, “ csd0505 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3)  Plan a comprehensive study to gauge Hong Kong people’s view on building a super priso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many ways are there to measure people’s view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key issues involved in building a super prison, with reference to public discussions in the past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many modules are there in your study?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questions would you use in a questionnaire surve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do you know that your sample is representativ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reliable and unreliable informa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often would you conduct your measurement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"/>
              </a:rPr>
              <a:t>(4)  Plan a comprehensive study to gauge Hong Kong people’s view on cross-strait relation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Give a background of the latest events, including the recent visits of Lien Chan and James Soong Chu-yu to the mainland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ould be the importance of conducting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ould be the implication of your findings on the administration of our local government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many modules are there in your study?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questions would you use in a questionnaire surve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do you know that your sample is representativ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distinguish between reliable and unreliable informa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ould b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Questions and Answer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ojects and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me Reference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1905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HKU POP 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WAPOR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AAPOR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esoma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NCPP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ncpp.org </a:t>
            </a: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(National Council on Public Polls of USA)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ne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743200"/>
            <a:ext cx="7238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OP release of 26 April 2005 (Tuesd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Latest popularity figures of Acting CE and the HKSAR Govern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8  key opinion questions + demographic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Acting C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28600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the Acting Chief Executive Donald Tsang Yam-kuen, with 0 indicating absolutely not supportive, 100 indicating absolutely supportive and 50 indicating half-half.  How would you rate the Acting Chief Executive Donald Tsang Yam-kuen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If a general election of the Chief Executive were to be held tomorrow, and you had the right to vote,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would you vote for Donald Tsang Yam-kue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7621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HKSAR Governmen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overall performance of the HKSAR Government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maintenance of </a:t>
            </a:r>
            <a:r>
              <a:rPr b="0" lang="en-US" sz="2600" spc="-1" strike="noStrike" u="sng">
                <a:solidFill>
                  <a:srgbClr val="ffff99"/>
                </a:solidFill>
                <a:uFillTx/>
                <a:latin typeface="Times New Roman"/>
              </a:rPr>
              <a:t>economic prosperity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improvement of </a:t>
            </a:r>
            <a:r>
              <a:rPr b="0" lang="en-US" sz="2600" spc="-1" strike="noStrike" u="sng">
                <a:solidFill>
                  <a:srgbClr val="ffff99"/>
                </a:solidFill>
                <a:uFillTx/>
                <a:latin typeface="Times New Roman"/>
              </a:rPr>
              <a:t>people’s livelihood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7621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HKSAR Governmen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51460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protection of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human rights and freedom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pace of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mocratic developmen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overall performance of the HKSAR Government’s handling of its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relation with the Central Governmen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2666880"/>
            <a:ext cx="7010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egistered voter? Any voting experienc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Gender, age, education attainment, occup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Housing typ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lass statu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lace of birth, years of residence in 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5-05-10T09:20:45Z</dcterms:modified>
  <cp:revision>604</cp:revision>
  <dc:subject/>
  <dc:title>無投影片標題</dc:title>
</cp:coreProperties>
</file>