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C93-DC4B-46CE-A1F1-C9DC419F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C68-1FF0-49D0-9AD5-56A6489E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760-85D8-4915-8851-9AAA20EE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6C9-4765-441E-AC5A-48AA3D95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2F3-A7C6-4831-84E2-67326E31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D9D-BAF3-49F5-B6B0-C940100B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207-BA4E-4AEB-9432-05289F05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BBE-8838-4A74-AAE4-F854259B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076-917A-40FF-AB68-E09E5292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EB0-4256-4D0B-8F8C-3E26E3E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7C3-140F-4AEA-AAE4-856F2F8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BF5-D043-46B9-A8B1-CF829C5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B26E-E60C-44BE-BD2E-554DE7737D40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30/tp0504c_que.htm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chinese/resources/workshops/20050430/bulkmail.htm" TargetMode="External"/><Relationship Id="rId4" Type="http://schemas.openxmlformats.org/officeDocument/2006/relationships/hyperlink" Target="http://hkupop.hku.hk/chinese/resources/workshops/20050430/bulkmail.htm" TargetMode="External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30/N_TP_20050426_RTHK_1800.mp3" TargetMode="External"/><Relationship Id="rId2" Type="http://schemas.openxmlformats.org/officeDocument/2006/relationships/hyperlink" Target="http://hkupop.hku.hk/chinese/resources/workshops/20050430/HKATV.ht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ublic Lecture on the Analysis of Sample Surveys: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ublic Opinion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HKU Course STAT1304, 30 April 200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 (audi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he POP Site at 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OP press release of 26 April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fax to all media, 13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Bulkmail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 via the POP Network, 13:4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How the story was reported by the electronic medi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RTHK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TV news on-line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VB news, 2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82880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The 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ESOMAR’s (The 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NCPP’s website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(The 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Please visit the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talk, “ stat05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133720"/>
            <a:ext cx="7391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Lectu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1440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74320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 case stud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edia report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reference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 release of 26 April 2005 (Tue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Acting CE and HKSAR Govern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8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1337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Please use a scale of 0-100 to rate your extent of support to the Acting Chief Executive Donald Tsang Yam-kuen, with 0 indicating absolutely not supportive, 100 indicating absolutely supportive and 50 indicating half-half. How would you rate the Acting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would you vote for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0"/>
            <a:ext cx="7696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 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maintenance of economic prosperity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improvement of people’s livelihood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28600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rotection of human rights and freedom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ace of democratic developm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’s handling of its relation with the Central Governm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3:19:40Z</dcterms:modified>
  <cp:revision>570</cp:revision>
  <dc:subject/>
  <dc:title>無投影片標題</dc:title>
</cp:coreProperties>
</file>