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3723-10CE-4794-8987-2228BC1E3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E3E2-3EFA-46C4-AF33-CAA937CC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16F9-0D1A-412F-BD4E-D4EFDDEFF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99E9-E992-4CD3-A34C-5EE08CC93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5930-3745-44C3-853B-AB9DF07A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60F9-7F62-4EF4-9630-8C8C80A7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1C40-2D15-4CAF-A15F-8C0C3ED9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E5BA-AAF6-4936-9672-99C09B27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6A16-15CC-44B3-885F-8E37C571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C4CF-811D-4804-830A-A8692155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8BDA-C20B-4741-9297-9FC77DB6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45C6-FE41-4C86-B67F-43261809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54A0-AC82-4342-B554-99F722CB228A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kupop.hku.hk/chinese/resources/workshops/20050407/tp0503b_que.htm" TargetMode="External"/><Relationship Id="rId2" Type="http://schemas.openxmlformats.org/officeDocument/2006/relationships/hyperlink" Target="http://hkupop.hku.hk/chinese/resources/workshops/20050407/tp0503c_que.htm" TargetMode="External"/><Relationship Id="rId3" Type="http://schemas.openxmlformats.org/officeDocument/2006/relationships/hyperlink" Target="http://hkupop.hku.hk/chinese/resources/workshops/20050407/tp0503b_admin.html" TargetMode="External"/><Relationship Id="rId4" Type="http://schemas.openxmlformats.org/officeDocument/2006/relationships/hyperlink" Target="http://hkupop.hku.hk/chinese/resources/workshops/20050407/tp0503c_admin.html" TargetMode="External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hyperlink" Target="http://hkupop.hku.hk/" TargetMode="External"/><Relationship Id="rId3" Type="http://schemas.openxmlformats.org/officeDocument/2006/relationships/hyperlink" Target="http://hkupop.hku.hk/" TargetMode="External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hkupop.hku.hk/chinese/resources/workshops/20050407/rthk/rthk.htm" TargetMode="External"/><Relationship Id="rId2" Type="http://schemas.openxmlformats.org/officeDocument/2006/relationships/hyperlink" Target="http://hkupop.hku.hk/chinese/resources/workshops/20050407/Metro%20Radio.htm" TargetMode="External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9718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 Media and Public Opinion </a:t>
            </a:r>
            <a:br>
              <a:rPr sz="3600"/>
            </a:b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(Lecture for S4 and S6 students of Queen’s College)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9880" y="1295280"/>
            <a:ext cx="4648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676520" y="1066680"/>
          <a:ext cx="17557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17557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609480" y="5257800"/>
            <a:ext cx="815364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Dr Robert Chung, Director of Public Opinion Programm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7 April 2005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9144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eration of the Survey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514600"/>
            <a:ext cx="7696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emonstration of the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CATI and WEBCATI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WEBCATI input demonstration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(1)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,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(2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Quality control (q/c) measures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(1)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,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4"/>
              </a:rPr>
              <a:t>(2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Press releas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43000" y="2819520"/>
            <a:ext cx="72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438280"/>
            <a:ext cx="76960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emonstration of the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CATI and WEBCATI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WEBCATI input demonst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Quality control (q/c) measur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Press releas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057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2286000"/>
            <a:ext cx="6400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The POP Site at </a:t>
            </a:r>
            <a:r>
              <a:rPr b="0" lang="zh-TW" sz="2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</a:t>
            </a:r>
            <a:r>
              <a:rPr b="0" lang="zh-TW" sz="26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/hkupop.hku.hk</a:t>
            </a:r>
            <a:r>
              <a:rPr b="0" lang="zh-TW" sz="26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/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POP press release of 6 April 2005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Press release in Chinese, 14:07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Press release in English, 14:07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Bulkfax to all media, 14:13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Bulkmail via the POP Network, 14:16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8288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2438280"/>
            <a:ext cx="76960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emonstration of the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CATI and WEBCATI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WEBCATI input demonst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Quality control (q/c) measur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Press release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How it was reported by medi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2590920"/>
            <a:ext cx="50292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CR news, 15:13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Ming Pao website, 15:30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RTHK news, 15:33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  (voice clip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Metro news, 15:38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2057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66880" y="60199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pple Daily    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2" name="apple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8137440" cy="30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61722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K Economic Times      7 April 2005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7" name="hket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5719680" cy="42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14800" y="39625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etro Daily      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2" name="metro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235584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58672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Ming Pao 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7" name="mingpao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5943600" cy="285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1460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Please visit the POP Site –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/hkupop.hku.hk/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OP Resources </a:t>
            </a:r>
            <a:r>
              <a:rPr b="1" lang="en-US" sz="2800" spc="-1" strike="noStrike">
                <a:solidFill>
                  <a:srgbClr val="cc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Public Opinion Lectures and Workshop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[ today’s talk, “ queen’s ” ]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2133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4120" y="3733920"/>
            <a:ext cx="5486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Oriental Daily News   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2" name="oriental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383220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867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CMP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7" name="scmp" descr=""/>
          <p:cNvPicPr/>
          <p:nvPr/>
        </p:nvPicPr>
        <p:blipFill>
          <a:blip r:embed="rId1"/>
          <a:stretch/>
        </p:blipFill>
        <p:spPr>
          <a:xfrm>
            <a:off x="3276720" y="1828800"/>
            <a:ext cx="266544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5867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Sing Pao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2" name="singpao" descr=""/>
          <p:cNvPicPr/>
          <p:nvPr/>
        </p:nvPicPr>
        <p:blipFill>
          <a:blip r:embed="rId1"/>
          <a:stretch/>
        </p:blipFill>
        <p:spPr>
          <a:xfrm>
            <a:off x="2819520" y="1828800"/>
            <a:ext cx="3456000" cy="37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57800" y="342900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ing Tao Daily   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7" name="singtao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289548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57150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ing Tao Daily     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2" name="singtao2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5065560" cy="263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66880" y="5257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The Sun  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   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7" name="sun" descr=""/>
          <p:cNvPicPr/>
          <p:nvPr/>
        </p:nvPicPr>
        <p:blipFill>
          <a:blip r:embed="rId1"/>
          <a:stretch/>
        </p:blipFill>
        <p:spPr>
          <a:xfrm>
            <a:off x="2362320" y="2317680"/>
            <a:ext cx="4601880" cy="22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71800" y="53341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Wen Wei Pao    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2" name="wenwei" descr=""/>
          <p:cNvPicPr/>
          <p:nvPr/>
        </p:nvPicPr>
        <p:blipFill>
          <a:blip r:embed="rId1"/>
          <a:stretch/>
        </p:blipFill>
        <p:spPr>
          <a:xfrm>
            <a:off x="762120" y="1927080"/>
            <a:ext cx="7543800" cy="30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2514600"/>
            <a:ext cx="63244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aracteristics of “media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Agenda settin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end to focus on negative feeling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ensationalis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Rich graphics to achieve visual impact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Extensive coverage for exclusive poll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800"/>
            </a:gs>
            <a:gs pos="50000">
              <a:srgbClr val="006600"/>
            </a:gs>
            <a:gs pos="100000">
              <a:srgbClr val="003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76212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2743200"/>
            <a:ext cx="71625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just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ntroducing the preliminary findings of the MRSHK Project (19-25/8/2002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he principle of “minimum disclosure” (For reference: Proposed Code of Professional Ethics and Practices for Public Opinion Research in Hong Kong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21337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14400" y="26668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914400"/>
            <a:ext cx="7619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2743200"/>
            <a:ext cx="6858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A case study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Media reports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Some closing remarks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22860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048120"/>
            <a:ext cx="67053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Please visit the POP Site –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zh-TW" sz="3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/hkupop.hku.hk/</a:t>
            </a: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22860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2819520"/>
            <a:ext cx="67053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9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he basis of  professionalism –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24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ccffff"/>
                </a:solidFill>
                <a:latin typeface="Times New Roman"/>
              </a:rPr>
              <a:t>I Q</a:t>
            </a: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22860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2362320"/>
            <a:ext cx="7543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Thank you very much 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057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ne Case Study…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2743200"/>
            <a:ext cx="72388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POP release of 6 April 2005 (Wednesday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People's appraisal of merits and faults of Tung Chee-Hwa and some deceased Chinese leaders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7  key opinion questions + demographic ques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22096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685800"/>
            <a:ext cx="7467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Questions the Appraisal of CH Tung</a:t>
            </a:r>
            <a:r>
              <a:rPr b="1" lang="zh-TW" sz="26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99"/>
                </a:solidFill>
                <a:latin typeface="Times New Roman"/>
              </a:rPr>
              <a:t>( 20 – 22 March 2005 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133720"/>
            <a:ext cx="7467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董建華已經辭任特首，你認為董建華對香港既整體發展功績多定過失多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你認為董建華既功過比例大概係點分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你認為董建華管治香港，主要既功績係屬於政治方面、定係經濟民生方面、定係其他方面、定係冇功績呢？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你認為董建華管治香港，主要既過失係屬於政治方面、定係經濟民生方面、定係其他方面、定係冇過失呢？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9051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762120"/>
            <a:ext cx="8076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uestions on the Appraisal of Chinese Leaders</a:t>
            </a: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( 14 - 17 March 2005 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2286000"/>
            <a:ext cx="6933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4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你認為趙紫陽對中國既發展功多定過多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4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你認為楊尚昆對中國既發展功多定過多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4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你認為鄧小平對中國既發展功多定過多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400"/>
              </a:spcBef>
              <a:buClr>
                <a:srgbClr val="388ec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88ec8"/>
                </a:solidFill>
                <a:latin typeface="Times New Roman"/>
              </a:rPr>
              <a:t>你認為毛澤東對中國既發展功多定過多</a:t>
            </a:r>
            <a:r>
              <a:rPr b="1" lang="zh-TW" sz="2800" spc="-1" strike="noStrike">
                <a:solidFill>
                  <a:srgbClr val="388ec8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400"/>
              </a:spcBef>
              <a:buClr>
                <a:srgbClr val="388ec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88ec8"/>
                </a:solidFill>
                <a:latin typeface="Times New Roman"/>
              </a:rPr>
              <a:t>你認為周恩來對中國既發展功多定過多</a:t>
            </a:r>
            <a:r>
              <a:rPr b="1" lang="zh-TW" sz="2800" spc="-1" strike="noStrike">
                <a:solidFill>
                  <a:srgbClr val="388ec8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400"/>
              </a:spcBef>
              <a:buClr>
                <a:srgbClr val="388ec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88ec8"/>
                </a:solidFill>
                <a:latin typeface="Times New Roman"/>
              </a:rPr>
              <a:t>你認為蔣介石對中國既發展功多定過多</a:t>
            </a:r>
            <a:r>
              <a:rPr b="1" lang="zh-TW" sz="2800" spc="-1" strike="noStrike">
                <a:solidFill>
                  <a:srgbClr val="388ec8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9907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Standard Demographic Question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2590920"/>
            <a:ext cx="67057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3920" indent="-285480">
              <a:lnSpc>
                <a:spcPct val="100000"/>
              </a:lnSpc>
              <a:spcBef>
                <a:spcPts val="14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是否登記選民、有否投票經驗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4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性別、年齡、教育程度、職業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4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房屋類別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4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家庭階級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4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出生地、居港年期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90720" y="2590920"/>
            <a:ext cx="72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he Operation of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inion Research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1752480"/>
            <a:ext cx="7238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Different stages in conducting an “opinion poll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Identification of research objectives and areas of investig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ing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uestionnaire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Fieldwor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Data analysis and clean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port compil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lease of finding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6-03-31T03:20:59Z</dcterms:modified>
  <cp:revision>592</cp:revision>
  <dc:subject/>
  <dc:title>無投影片標題</dc:title>
</cp:coreProperties>
</file>