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120-BF59-43A0-A0B7-5DF664B1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5FB-BF4F-47C4-AE11-FB7C9D78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90F-DBB8-4297-94EB-DCF6973D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9F2-C217-48E5-9398-8E6AA0BC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D61-16DD-4C40-B5E4-DA2E785E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D9C-15E0-4F84-8F68-8441D046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BF4-E311-44FE-A400-9826679A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47C-2554-45B4-A490-FD4F8910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FD4-F7D1-4AF9-8EB2-9E97631E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D3C-5D20-4841-8CB9-CE203627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5C4-6AB9-475E-A770-D056407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CE7-6CF6-4695-AD80-8375672B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BED6-B234-4707-9C47-08E9B137A7BA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121/pr_chi.htm" TargetMode="External"/><Relationship Id="rId2" Type="http://schemas.openxmlformats.org/officeDocument/2006/relationships/hyperlink" Target="http://hkupop.hku.hk/chinese/resources/workshops/20050121/pr_eng.htm" TargetMode="External"/><Relationship Id="rId3" Type="http://schemas.openxmlformats.org/officeDocument/2006/relationships/hyperlink" Target="http://hkupop.hku.hk/chinese/resources/workshops/20050121/POP%20Instant%20Poll%20on%20Policy%20Address.htm" TargetMode="External"/><Relationship Id="rId4" Type="http://schemas.openxmlformats.org/officeDocument/2006/relationships/hyperlink" Target="http://hkupop.hku.hk/chinese/resources/workshops/20050121/POP%20Instant%20Poll%20on%20Policy%20Address.htm" TargetMode="External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121/N_PA05_20050113_RTHK_1500.mp3" TargetMode="External"/><Relationship Id="rId2" Type="http://schemas.openxmlformats.org/officeDocument/2006/relationships/hyperlink" Target="http://hkupop.hku.hk/chinese/resources/workshops/20050121/mingpao.htm" TargetMode="External"/><Relationship Id="rId3" Type="http://schemas.openxmlformats.org/officeDocument/2006/relationships/hyperlink" Target="http://hkupop.hku.hk/chinese/resources/workshops/20050121/mingpao.htm" TargetMode="External"/><Relationship Id="rId4" Type="http://schemas.openxmlformats.org/officeDocument/2006/relationships/hyperlink" Target="http://hkupop.hku.hk/chinese/resources/workshops/20050121/mingpao.htm" TargetMode="External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121/N_PA05_20050113_ATV_1800.mpg" TargetMode="External"/><Relationship Id="rId2" Type="http://schemas.openxmlformats.org/officeDocument/2006/relationships/hyperlink" Target="http://hkupop.hku.hk/chinese/resources/workshops/20050121/N_PA05_20050113_ATV_2230.mpg" TargetMode="External"/><Relationship Id="rId3" Type="http://schemas.openxmlformats.org/officeDocument/2006/relationships/hyperlink" Target="http://hkupop.hku.hk/chinese/resources/workshops/20050121/N_PA05_20050113_TVB_1830.asf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ublic Opinion in Hong Kong: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Use and Misuse of Opinion Polls</a:t>
            </a:r>
            <a:br>
              <a:rPr sz="28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(Talk for MA Journalism Students, CUHK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66"/>
                    </a:outerShdw>
                  </a:effectLst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525780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By Karie Pang,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15 February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762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uestions for Instant Poll on 12 January 2005 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209680"/>
            <a:ext cx="7543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整體黎講，你對特首董建華今日發表既施政報告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滿唔滿意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呢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宜家想請你對特首董建華今日發表既施政報告既滿意程度進行評分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,0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分代表非常不滿，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00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分代表非常滿意，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50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分代表一半半，你會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俾幾多分今年既施政報告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呢？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係特首董建華今日發表佢第八份施政報告後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對香港前途既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信心增加定減少左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5238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762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uestions for Instant Poll on 12 January 2005 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7696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特首承認左政府「未能確立『以民為本』的施政理念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...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未能充分顧及社會的承受能力和政策本身可能引起的爭議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...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缺乏危機意識和政治意識，缺乏應付政經轉變所需的經驗和才能，處理一些突發事件時顯得進退失據。」你認為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特首呢番說話可唔可以平復巿民既不滿情緒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特首今年發表施政報告既主題係「合力發展經濟、共建和諧社會」，你認為呢個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主題是否切合社會需要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特首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有冇需要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係發表施政報告後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直接同市民對話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5238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OP press release of 13 January 200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he POP Site at http://hkupop.hku.hk/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Press release in Chinese, 1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Press release in English, 1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Bulkmail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 via the POP Network, 1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fax to all media, 13:4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ess releas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How it was reported by local media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590920"/>
            <a:ext cx="5029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R news, 14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14:57  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(Voice clip)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Ming 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Pao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 website, 15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90920"/>
            <a:ext cx="5486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V   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13 January 2005 (180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V   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13 January 2005 (223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VB   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13 January 2005 (183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VB    13 January 2005 (2345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orld    13 January 2005 (230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66688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don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reported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: Professional cod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8288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791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Journal 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2a_20050114_HK%20Economic%20Journal_45％受訪者指董認錯未息不滿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85144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5943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2a_20050114_Apple%20Daily_63%25%20人指董難達施政目標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779720" cy="36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Economic Times      14 January 2005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2a_20050114_HK%20Economic%20Times「董認不足%20為改善市民關係」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410080" cy="34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9" name="2a_20050114_Oriental%20Daily%20News_63%25市民對董無信心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211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73392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Sun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4" name="2a_20050114_The%20Sun_董認施政失誤　45%25市民仍不滿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56544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6095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Standard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9" name="2a_20050114_HK%20Standard_Speech%20wins%20higher%20rating%20than%20in%20previous%20years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9932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5791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Commercial Daily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4" name="2a_20050114_HK%20Commercial%20Daily_董報告民調創新高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38956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9" name="2a_20050114_Ming%20Pao_施政報告6年最多人滿意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153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5791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Daily News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4" name="2a_20050114_HK%20Daily%20News_近四成人滿意施政報告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336564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ro Daily 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9" name="2a_20050114_Metro_施政報告民調評分%206年最高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171288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289548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4" name="2a_20050114_Sing%20Tao%20Daily_《施政報告》評分七年新高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97376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715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2a_20050114_Sing%20Tao%20Dailyl_特首施政報告評分創新高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608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5812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 Kung Pa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4" name="2a_20050114_Ta%20Kung%20Pao_施政報告評分創新高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257004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42900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a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9" name="2a_20050114_Wen%20Wei%20Pao_最新民調：特首評分上升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26668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aspec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clusivity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poon-feeding, “quotable quote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5146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.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2133720"/>
            <a:ext cx="7010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A collection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Short-term judgment, changes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74"/>
              </a:spcBef>
              <a:spcAft>
                <a:spcPts val="774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Various snapshots to be taken in order to track the opinion chang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: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e.g. CPU, HA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 and pressure gro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791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*Between 19/8 - 25/8/2002, 72 poll reports were carried by local newspapers in a week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057400"/>
            <a:ext cx="7467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s -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從晴朗的一天出發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為人民服務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左右大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-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s -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星期日檔案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82880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: press release, press confere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 Recent Operation on Policy Addres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590920"/>
            <a:ext cx="7010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A recent case….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POP release of 13 January 2005 (Thur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eople's instant reaction to the policy addr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9 opinion questions + 2 rating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5-02-15T07:41:48Z</dcterms:modified>
  <cp:revision>595</cp:revision>
  <dc:subject/>
  <dc:title>無投影片標題</dc:title>
</cp:coreProperties>
</file>