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25B9E-7473-461D-AF34-0870A030DC1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FD6-FB9F-4893-A60F-5FA0C4B5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968-78A1-47E8-BDB6-AE94BA51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BB4-7EFA-461B-B76E-541FEE48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0D0-F5F2-4852-9A7D-63EF019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17F7-1BD3-437F-AE11-0C47016A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3E3A-92D1-467D-8109-F1AA60F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780-AE2A-4B55-8565-EF3024B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FBC6-420D-47B2-832B-E645A67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9E3-6F57-489D-9F31-CDFFB45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B2D8-260A-487B-A094-4DAF1A22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4757-591B-4FD2-AE84-A4DC8BB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C85-DAB6-448F-823D-E4CA7D1E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DE3-1780-43DD-9097-63FA01E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3B5-BB3D-4256-A3E6-956AE48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AF6-9A76-469E-BB34-44F0A02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836-A929-46C9-BEFA-E7191371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9E5-EE58-473D-808A-FD651E10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E70-F86E-400B-AF94-C40A515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87E-1546-4A68-9625-E061D37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59A-FB77-4111-A671-13222BAA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E1B-13EB-4A35-8BE8-C445FCF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086-AD10-49DC-B0D3-F52E08E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B60-EEB2-4FEF-8DAD-9C42356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A61-9AB2-4E90-959F-0AE6013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6E57-361C-4924-A273-4450EF2A0EE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FF9-AFE9-465C-AA88-B7CD2C21DE8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97.html" TargetMode="External"/><Relationship Id="rId2" Type="http://schemas.openxmlformats.org/officeDocument/2006/relationships/hyperlink" Target="http://hkupop.hku.hk/english/release/release197.html" TargetMode="External"/><Relationship Id="rId3" Type="http://schemas.openxmlformats.org/officeDocument/2006/relationships/hyperlink" Target="http://hkupop.hku.hk/english/resources/workshops/20040728/20040727_bulkmail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84836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760572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香港大學民意研究計劃</a:t>
            </a:r>
            <a:br>
              <a:rPr sz="2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與抽樣方法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004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8-29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日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W Kwong-pok Cliff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周廣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OI Pui-shing Ton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蔡沛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-man Carmen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陳嘉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位於香港大學明華綜合大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ku1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ku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8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位於九龍漾日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ahab01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ahb02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hab5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hab6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hab1" descr=""/>
          <p:cNvPicPr/>
          <p:nvPr/>
        </p:nvPicPr>
        <p:blipFill>
          <a:blip r:embed="rId1"/>
          <a:stretch/>
        </p:blipFill>
        <p:spPr>
          <a:xfrm>
            <a:off x="0" y="12600"/>
            <a:ext cx="9296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活 動 內 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講座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計劃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日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「民意網站」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調查抽樣方法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參觀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介紹電腦輔助電話調查系統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訪問示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圖片展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hab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hab4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66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研究計劃成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出席論壇、研討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及新聞發佈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resscon1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resscon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resscon8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esscon9" descr=""/>
          <p:cNvPicPr/>
          <p:nvPr/>
        </p:nvPicPr>
        <p:blipFill>
          <a:blip r:embed="rId1"/>
          <a:stretch/>
        </p:blipFill>
        <p:spPr>
          <a:xfrm>
            <a:off x="0" y="-355680"/>
            <a:ext cx="1074420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esscon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esscon11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0512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謝謝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民意研究計劃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日 新聞公報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公報原文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民意網站內中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民意網站內英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民意網絡集體電郵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本地傳媒集體傳真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22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「民意網站」簡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最新內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調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報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專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網上資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檔案資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於我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訪者留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82560"/>
            <a:ext cx="66294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號碼抽樣方法是從住宅電話簿中首先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法抽取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種籽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加一減一加二減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的方法產生另一組號碼，然後在混合後再過濾重覆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排列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式排次成為最後樣本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抽取住戶成員的方法是由訪員在成功接觸目標住戶後，用「即將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出生日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的方法由當時在家的成員抽取其中一人進行訪問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各次調查的成功樣本數目都在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。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2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月份起，成功樣本數目更增加至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，兼且根據香港人口的年齡性別分佈加權調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所有調查都是在嚴格督導下由訪員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親身進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訪問，對象皆為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歲或以上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之操粵語的香港市民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簡單總結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一般而論，成功樣本數目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便算可以接受，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個可算符合國際標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科學化的抽樣方法比樣本數目更加重要，因為可以用統計理論推算抽樣誤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因此，一般街頭訪問或音頻互動電話錄音訪問不可接受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民意研究者和傳媒工作者都有責任維護民意調查的專業水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歡迎瀏覽 香港大學 民意網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bcbcb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09960" y="4191120"/>
            <a:ext cx="6348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我們的工作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8-17T04:06:46Z</dcterms:modified>
  <cp:revision>137</cp:revision>
  <dc:subject/>
  <dc:title>Project Overview</dc:title>
</cp:coreProperties>
</file>