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0B368F-72AE-4617-9F1A-24F6EB68568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137-C379-4780-9753-868F8CC5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A8B-1BB0-4CC3-8EF6-C5F2BC4D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557-FBE4-4D3D-B1C6-1958E70F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245-9025-4150-B574-91EB8CC6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4ADA-84DE-460D-A44E-DD3FCC88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4FD-5F0F-44B9-8158-70470336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A927-2162-4059-B7DE-9CC946C5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5EA8-36EF-472B-8BE2-736234EA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5A60-897A-421B-BD20-1E9C31D6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4B43-3ECE-4321-871E-3AFA3794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443C-C058-4AAB-9EAD-26BF524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65C-081A-4BB3-A328-42151EF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A2FA-609C-4E80-94AD-B2E1DE5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6A3-E01D-40D7-AEC3-7B1F2EBE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C015-4163-461D-BB15-AC4B3D55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F7DB-724E-46E1-BE60-24EEFF7D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285A-CF02-4BE5-A409-3985C4DB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16E-9922-4449-BC0F-8659ECC3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74C-A3C8-4D05-83C3-2F28599B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1D0-89A5-435A-9DD3-FB8E1BD7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4FD-E170-43F3-8A2E-AD113D9F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220-1B96-409D-A45B-3C3777E0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AB6-09AB-4DFB-A93A-2A2218E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14D-7608-49F1-8E16-E8818F2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2CAF-F4E7-4AD2-8C65-19D7E1CC5D8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0D62-4AED-40D3-9BC7-D76C269D364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Shiu Socio-Economic Study Project 200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4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RKSHOP ON SOCIAL SURVEYS AND FIELD OBSERVATION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調研、考察理論及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76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/6/2004, 1830-2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20040616_Apple%20Daily_港人反台獨比率微升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696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n Wei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20040616_Wen%20Wei%20Pao_民調反台獨人數上升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20040616_Sing%20Pao_市民對兩岸統一信心回升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019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ro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20040616_都市日報_調查指港人多反對台獨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9718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5638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andard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20040616_HK%20Standard_SAR%20model%20takes%20hit%20in%20poll%20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8483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eld Observ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oject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台灣總統大選研習團</a:t>
            </a: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200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大學學生會、香港大學學生研究隊主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透過到台灣觀選，讓同學感受大選氣氛，了解台灣政黨發展以及台灣學界、傳媒和民眾對大選的關注；從而引發同學對香港政黨發展，政制改革的探討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7-20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同學 ＋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單位代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eld Observation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uthor has been to Taiwan to observe the elections there for many years, he has always kept an eye on the development of the public opinion survey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exit poll of the presidential election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observed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edia in Taiwan is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cs in Taiwan also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ivil service also not neutral civil servi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serious lack of independent middle force in Taiwan society, which is not good for democratic develop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 result, they cannot provide a credible middle force to socie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Column Article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adequate Support Mechanisms in Taiwan’s Democratic System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「台灣民主制度配套不足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ng Kong Economic Journ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hinese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glish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Basics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27432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ase of public opinion surv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 One case of field obser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s of social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Questions and answ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5: Closing rema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5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5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estions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http:/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ckground Read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/hkupop.hku.h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 Public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Findings were Dispatch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 press release of 15 June 20:0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Chinese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English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mail via the POP Network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fax to all media, 13:5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THK news,15:1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g Pao website, 15:3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21T02:37:17Z</dcterms:modified>
  <cp:revision>100</cp:revision>
  <dc:subject/>
  <dc:title>Project Overview</dc:title>
</cp:coreProperties>
</file>