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7532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53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911160" y="739440"/>
            <a:ext cx="49341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27160" y="-36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0" y="937224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27160" y="937224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72695E5-D86D-47EA-A5C1-C8DCEC0864F4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new cou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urse may not be opened ag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this course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student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new cou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urse may not be opened ag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this course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student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new cou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urse may not be opened ag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this course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student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new cou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urse may not be opened ag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this course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student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new cou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urse may not be opened ag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this course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student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3880-BEA8-4C0D-8210-A7125EB0C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8FA3-7A70-4C00-8C73-7778BC003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0CDA-FF2C-4322-9DE1-A3AAE18F1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2036-47E9-4F88-9B83-50554E7F9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A8385-A8F7-42A2-9943-5A3EB7C02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802EE-C842-4F2D-87DE-7227A60FE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22178-9968-4899-930B-331D5CF32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6A2BC-9CE4-4902-AEFC-CA54C18EB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772FB-2D02-4539-8611-FA57C339A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28222-A30C-47AB-9ABA-53AFC4B93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F102E-F544-448E-BEA4-E83477967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CF9B-94F8-4CB4-AA03-ACCCE8C72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971AE-012F-40A2-B11A-03849A292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4499A-8BC3-4EC3-B64B-2BAE6866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9DFAF-CAC9-412E-B63D-39541E8C1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3FC3B-94F0-4A15-A3BE-655529093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66C4D-D0BA-482B-8763-B67D5FAD6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3854-8C86-4CA6-AAD4-4F751920F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38EB-7429-40C2-A23C-6030A0399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C124-7009-444A-9125-AF3A3E515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AC97-0FCD-429C-BB00-503E6452B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3599-5832-497D-829F-0F3339F4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63D4-E67D-44DB-8AB3-43F50C930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96F9-F2BA-43F8-BA2F-DAC812BAD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89157-AFC9-4704-963B-4935A16D961E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95034-9FFA-4357-9B62-01EAE62C0C35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hkupop.hku.hk/chinese/release/release187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92468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fied Learning Opportunity Programm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(ILOP, 2004) </a:t>
            </a:r>
            <a:br>
              <a:rPr sz="2800"/>
            </a:b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WORKSHOP ON SOCIAL RESEACH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KILLS</a:t>
            </a:r>
            <a:br>
              <a:rPr sz="3600"/>
            </a:b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社會研究技巧工作坊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43000" y="4800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UNG Ting-yiu Robert 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鍾庭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31/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/2004, 1100-1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 Sample Project Sch</a:t>
            </a:r>
            <a:r>
              <a:rPr b="1" lang="en-GB" sz="4000" spc="-1" strike="noStrike">
                <a:solidFill>
                  <a:srgbClr val="ffff00"/>
                </a:solidFill>
                <a:latin typeface="Times New Roman"/>
              </a:rPr>
              <a:t>edul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n 26: Ori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1: Learning basic concepts; designing a surve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rch 13-19: Taiwan trip (optio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2: Fieldwork and confronting practical proble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3: Data analysis and report compil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y 3: Final revis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991080" y="2286000"/>
            <a:ext cx="7085520" cy="1573200"/>
            <a:chOff x="991080" y="2286000"/>
            <a:chExt cx="7085520" cy="1573200"/>
          </a:xfrm>
        </p:grpSpPr>
        <p:grpSp>
          <p:nvGrpSpPr>
            <p:cNvPr id="117" name=""/>
            <p:cNvGrpSpPr/>
            <p:nvPr/>
          </p:nvGrpSpPr>
          <p:grpSpPr>
            <a:xfrm>
              <a:off x="991080" y="3196440"/>
              <a:ext cx="7085520" cy="662760"/>
              <a:chOff x="991080" y="3196440"/>
              <a:chExt cx="7085520" cy="662760"/>
            </a:xfrm>
          </p:grpSpPr>
          <p:sp>
            <p:nvSpPr>
              <p:cNvPr id="118" name=""/>
              <p:cNvSpPr/>
              <p:nvPr/>
            </p:nvSpPr>
            <p:spPr>
              <a:xfrm>
                <a:off x="1073520" y="3196440"/>
                <a:ext cx="7003080" cy="483840"/>
              </a:xfrm>
              <a:prstGeom prst="rightArrow">
                <a:avLst>
                  <a:gd name="adj1" fmla="val 36602"/>
                  <a:gd name="adj2" fmla="val 59504"/>
                </a:avLst>
              </a:prstGeom>
              <a:gradFill rotWithShape="0">
                <a:gsLst>
                  <a:gs pos="0">
                    <a:srgbClr val="00ffcc"/>
                  </a:gs>
                  <a:gs pos="100000">
                    <a:srgbClr val="00ccff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00799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991080" y="35503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2/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567080" y="355032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16/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180160" y="355032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23/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832120" y="35503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1/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457440" y="35503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8/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146120" y="355032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22/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735080" y="355032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29/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386680" y="35503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5/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999400" y="355032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12/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600600" y="355032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19/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264080" y="355212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26/5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1157040" y="2286000"/>
              <a:ext cx="2667600" cy="151920"/>
            </a:xfrm>
            <a:prstGeom prst="flowChartProcess">
              <a:avLst/>
            </a:prstGeom>
            <a:solidFill>
              <a:srgbClr val="00ccff"/>
            </a:solidFill>
            <a:ln w="0">
              <a:noFill/>
            </a:ln>
            <a:effectLst>
              <a:outerShdw dist="17819" dir="2700000" blurRad="0" rotWithShape="0">
                <a:srgbClr val="00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825000" y="2589480"/>
              <a:ext cx="2084400" cy="151560"/>
            </a:xfrm>
            <a:prstGeom prst="flowChartProcess">
              <a:avLst/>
            </a:prstGeom>
            <a:solidFill>
              <a:srgbClr val="00ccff"/>
            </a:solidFill>
            <a:ln w="0">
              <a:noFill/>
            </a:ln>
            <a:effectLst>
              <a:outerShdw dist="17819" dir="2700000" blurRad="0" rotWithShape="0">
                <a:srgbClr val="00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909400" y="2893320"/>
              <a:ext cx="1834200" cy="151560"/>
            </a:xfrm>
            <a:prstGeom prst="flowChartProcess">
              <a:avLst/>
            </a:prstGeom>
            <a:solidFill>
              <a:srgbClr val="00ccff"/>
            </a:solidFill>
            <a:ln w="0">
              <a:noFill/>
            </a:ln>
            <a:effectLst>
              <a:outerShdw dist="17819" dir="2700000" blurRad="0" rotWithShape="0">
                <a:srgbClr val="00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Opinion Surveys and HKU POP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676160" y="2362320"/>
            <a:ext cx="609588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POP Site at http://hkupop.hku.hk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OP press release of 25 May 2004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3300"/>
                </a:solidFill>
                <a:uFillTx/>
                <a:latin typeface="Arial"/>
                <a:hlinkClick r:id="rId1"/>
              </a:rPr>
              <a:t>Press release in Chinese, 1415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ess release in English, 1415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ulkmail via the POP Network, 1415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ulkfax to all media, 1415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THK news,1629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ing Pao website, 1558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VB story, 1830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TV story, 2315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ree Topics for Class Discussion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94920" y="2437920"/>
            <a:ext cx="723924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are going to study the staff morale of a company, what do you foresee are the main problems, and how would you overcome them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are going to visit a public relations consultant company for day, what would you like to find out, and how would you prepare for your visit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would like to find out the views of tourists visiting Hong Kong, how would you conduct your study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815328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ART 2</a:t>
            </a:r>
            <a:br>
              <a:rPr sz="4000"/>
            </a:br>
            <a:br>
              <a:rPr sz="2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GROUP DISCUSS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ree Topics for Class Discussion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94920" y="2437920"/>
            <a:ext cx="723924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are going to study the staff morale of a company, what do you foresee are the main problems, and how would you overcome them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are going to visit a public relations consultant company for day, what would you like to find out, and how would you prepare for your visit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would like to find out the views of tourists visiting Hong Kong, how would you conduct your study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815328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ART 3</a:t>
            </a:r>
            <a:br>
              <a:rPr sz="4000"/>
            </a:br>
            <a:br>
              <a:rPr sz="2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GROUP PRESENT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815328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OME FINAL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REMARKS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HKU Student Research Team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92504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team of volunteer student researchers supported by PO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vides opportunities for students to learn, organize and practice social re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vides data for public consumption and academic studi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ject DC03 – 23/11/03, pre-election observations and exit pol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ject Jan1 – 1/1/04 – head counts of New Year Ral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ject TW04 – 17-20/3/04, a study trip to Taiwa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ject SU04 – opinion survey of HKU stud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ject Jun4 – provides support for head counts at June 4 candlelight vigil, and for on-site and on-line survey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ject LC04 – studies on LC election 2004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HKU POP SITE again…..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90720" y="2971440"/>
            <a:ext cx="76197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ttp://hkupop.hku.hk/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Outline of This Session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240" y="2437920"/>
            <a:ext cx="716292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147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 1: Corporate values and professional ethic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147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 2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tion of social research, opinion surveys, and HKU PO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147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 3: Group discussions on three study topic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147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 4: Short presentation by participa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tensified Learning Opportunity Programme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47920" y="2285640"/>
            <a:ext cx="68580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LOP is designed for students who aspire to become visionary,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respons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responsive leaders with strong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integrit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commitment to society and life.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47920" y="3886200"/>
            <a:ext cx="6858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spcBef>
                <a:spcPts val="15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 Education Unit, HK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-378000">
              <a:lnSpc>
                <a:spcPct val="100000"/>
              </a:lnSpc>
              <a:spcBef>
                <a:spcPts val="15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nsified Learning Opportunity Program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-378000">
              <a:lnSpc>
                <a:spcPct val="100000"/>
              </a:lnSpc>
              <a:spcBef>
                <a:spcPts val="15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porate Values and Professional Ethics Programme (6 compani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-378000">
              <a:lnSpc>
                <a:spcPct val="100000"/>
              </a:lnSpc>
              <a:spcBef>
                <a:spcPts val="15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al Research Skil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815328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ocial Research, 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Opinion Surveys,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nd HKU POP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ifferent Kinds of Social Research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2437920"/>
            <a:ext cx="6858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brary researc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et researc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serv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stionnaire surv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cus group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-depth interviews: face-to-fa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se stud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pproaching a Research Problem…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47920" y="2362320"/>
            <a:ext cx="68580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research problem? How wide? How deep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desired method of data collection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must it be finished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should the finding be presented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academic/intellectual value of the study? What further questions have been generated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ifferent Parts of a Research Proposal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47920" y="2133360"/>
            <a:ext cx="68580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tion/preamb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terature revie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arch design or methodolog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stionnaire (if applicabl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ct schedu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arch team memb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ifferent Parts of a Study Report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47920" y="2362320"/>
            <a:ext cx="68580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xecutive summ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oduction/preamb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arch design or methodolog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arch finding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questionnaire (if applicabl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docu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arch team memb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Basics of Project Management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47920" y="2133360"/>
            <a:ext cx="68580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ying down objectives and activit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wing network diagra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imating activity dur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: analyze, re-plan, and up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ources consider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ingency pla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5T15:43:38Z</dcterms:created>
  <dc:creator>CHUNG Ting-yiu Robert</dc:creator>
  <dc:description/>
  <dc:language>en-US</dc:language>
  <cp:lastModifiedBy>PC84-CLIFF</cp:lastModifiedBy>
  <cp:lastPrinted>2000-02-18T04:31:22Z</cp:lastPrinted>
  <dcterms:modified xsi:type="dcterms:W3CDTF">2004-06-17T04:41:29Z</dcterms:modified>
  <cp:revision>121</cp:revision>
  <dc:subject/>
  <dc:title>Project Overview</dc:title>
</cp:coreProperties>
</file>