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C8D-6B42-4895-B4A3-8939F9D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EF0-7816-48CE-87FC-13E9440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52F-F845-45EC-A4C8-5B3C4A6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2C9-E04D-4452-9A92-5437A9AC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269-CEB5-4351-AC31-B7D3A2A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3A5-64D6-454E-8FF6-9CE45E9D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A2B-D6C1-4791-8CD2-AB464CF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0F1-0ACE-4B83-80CF-2574ABCA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08C-3C8C-4258-991A-E7CBF893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13B-A19D-4FE5-BE34-76524DB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450-E0F9-421B-8277-9988158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9B0-CCA8-42C6-A39B-730479B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A1E-DBD1-43A9-BABC-71B2C2ECCB7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poll02.gif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3/20040302_bulkmail.html" TargetMode="External"/><Relationship Id="rId2" Type="http://schemas.openxmlformats.org/officeDocument/2006/relationships/hyperlink" Target="http://hkupop.hku.hk/english/resources/workshops/20040310/atv02.mpg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cr.html" TargetMode="External"/><Relationship Id="rId2" Type="http://schemas.openxmlformats.org/officeDocument/2006/relationships/hyperlink" Target="http://hkupop.hku.hk/english/resources/workshops/20040310/rthk01.html" TargetMode="External"/><Relationship Id="rId3" Type="http://schemas.openxmlformats.org/officeDocument/2006/relationships/hyperlink" Target="http://hkupop.hku.hk/english/resources/workshops/20040310/rthk02.html" TargetMode="External"/><Relationship Id="rId4" Type="http://schemas.openxmlformats.org/officeDocument/2006/relationships/hyperlink" Target="http://hkupop.hku.hk/english/resources/workshops/20040310/mingpao.html" TargetMode="External"/><Relationship Id="rId5" Type="http://schemas.openxmlformats.org/officeDocument/2006/relationships/hyperlink" Target="http://hkupop.hku.hk/english/resources/workshops/20040310/mingpao.html" TargetMode="External"/><Relationship Id="rId6" Type="http://schemas.openxmlformats.org/officeDocument/2006/relationships/hyperlink" Target="http://hkupop.hku.hk/english/resources/workshops/20040310/mingpao.html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wisenews.html" TargetMode="External"/><Relationship Id="rId2" Type="http://schemas.openxmlformats.org/officeDocument/2006/relationships/hyperlink" Target="http://hkupop.hku.hk/english/resources/workshops/20040310/wisenews.html" TargetMode="External"/><Relationship Id="rId3" Type="http://schemas.openxmlformats.org/officeDocument/2006/relationships/hyperlink" Target="http://hkupop.hku.hk/english/resources/workshops/20040310/wisenews.html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0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outh China Morning Post  (3-3-20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: Another Surve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84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“one country, two systems”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9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The originals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9-3-2004 in Chine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2-3-2004 in Chinese (14:2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bulmail of 2-3-2004 (14:21)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also sent bulkfax to the media (14:24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Electronic news media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ommercial Radio evening news  (18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evening news  (19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Asia TV evening news  (18:00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05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On-line news medi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etro Finance website (15:35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Commercial Radio website  (15:36, 16:0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RTHK website #1  (16:0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RTHK website #2  (18:5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Ming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5"/>
              </a:rPr>
              <a:t> Pao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6"/>
              </a:rPr>
              <a:t> website  (16:4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Print media: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Apple Daily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Wen Wei P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ing Pa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HK Economic Journal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慧科新聞資料庫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pple Dail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ong Kong Economic Journal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9T11:10:09Z</dcterms:modified>
  <cp:revision>582</cp:revision>
  <dc:subject/>
  <dc:title>無投影片標題</dc:title>
</cp:coreProperties>
</file>