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6462-C683-470D-9CDD-1C4C929F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8C04-CC84-4710-A646-DB8D2D25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D626-AC2E-48BC-B3AB-3DD832551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6745-F9F8-4B04-AADA-8E2A29E5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52FF-0DB6-48EB-97FD-4F437D96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EE1A-E19F-459A-B340-38710103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03A6-4792-44C7-B27F-7C8AD0DB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1AF3-C834-4C3D-96BF-3BC7613C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F8CA-B77D-4860-AE24-9F078CEB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369E-9617-4AA4-A761-C9453021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CF59-E016-4DB2-8CAE-128A5C70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2B19-F0BC-41F7-9255-82482A39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F1FE-89A3-4F69-96E3-073EC2224417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2000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200" spc="-1" strike="noStrike">
                <a:solidFill>
                  <a:srgbClr val="ffffcc"/>
                </a:solidFill>
                <a:latin typeface="Times New Roman"/>
              </a:rPr>
              <a:t>M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edia Training and </a:t>
            </a: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Public Opinion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Workshop:</a:t>
            </a:r>
            <a:br>
              <a:rPr sz="2800"/>
            </a:b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Session on Public Opinion</a:t>
            </a:r>
            <a:br>
              <a:rPr sz="2800"/>
            </a:br>
            <a:br>
              <a:rPr sz="1000"/>
            </a:br>
            <a:r>
              <a:rPr b="1" i="1" lang="zh-TW" sz="2800" spc="-1" strike="noStrike">
                <a:solidFill>
                  <a:srgbClr val="ffff99"/>
                </a:solidFill>
                <a:latin typeface="新細明體"/>
              </a:rPr>
              <a:t>傳媒訓練及民意研究工作坊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 ：民意</a:t>
            </a:r>
            <a:r>
              <a:rPr b="1" i="1" lang="zh-TW" sz="2800" spc="-1" strike="noStrike">
                <a:solidFill>
                  <a:srgbClr val="ffff99"/>
                </a:solidFill>
                <a:latin typeface="新細明體"/>
              </a:rPr>
              <a:t>研究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部份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76520" y="1066680"/>
          <a:ext cx="17557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755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914400" y="5181480"/>
            <a:ext cx="784872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cc"/>
                </a:solidFill>
                <a:latin typeface="Times New Roman"/>
              </a:rPr>
              <a:t>Dr Robert Chung </a:t>
            </a:r>
            <a:r>
              <a:rPr b="1" i="1" lang="zh-TW" sz="2400" spc="-1" strike="noStrike">
                <a:solidFill>
                  <a:srgbClr val="ffffcc"/>
                </a:solidFill>
                <a:latin typeface="新細明體"/>
              </a:rPr>
              <a:t>鍾庭耀博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cc"/>
                </a:solidFill>
                <a:latin typeface="Times New Roman"/>
              </a:rPr>
              <a:t>3 March 2004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2362320"/>
            <a:ext cx="731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HKU POP Press Release of 2 March 2004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’s treatment of the poll finding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 trend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 and government polic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Q &amp; 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HKU POP Press Release of 2 March 2004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1447920"/>
            <a:ext cx="708660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1.  The originals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</a:rPr>
              <a:t>:</a:t>
            </a:r>
            <a:r>
              <a:rPr b="0" lang="zh-TW" sz="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Our press release in Chinese (on-line from 14:21 hr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Our press release in English (on-line from 14:21 hr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Our bulkmail sent through our POP Network (14:23 hr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Our bulkfax was sent to the media at 14:24 h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2.  The reports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</a:rPr>
              <a:t>:</a:t>
            </a:r>
            <a:r>
              <a:rPr b="0" lang="zh-TW" sz="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Metro news on-line in Chinese (15:35 hr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CR news on-line in Chinese (15:36, 16:01 hr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RTHK news #1 on-line in Chinese (16:09 hr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RTHK news #2 on-line in Chinese (18:51 hr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Ming Pao news on-line (16:44 hr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ublic Opinion Trend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1752480"/>
            <a:ext cx="7543800" cy="40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1.  Popularity of Chief Executive 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Latest rating of CE (per poll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Rating of CE (half-yearly average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Hypothetical voting on Tung Chee-hwa as CE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People's appraisal of CE Tung Chee-hwa's job performance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People's satisfaction with the policy direction of CE Tung Chee-hwa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Four indicators on CE's popularity - Combined char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ublic Opinion Trend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1905120"/>
            <a:ext cx="7162920" cy="31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2.  People’s Trust and Confidence :</a:t>
            </a:r>
            <a:r>
              <a:rPr b="1" lang="zh-TW" sz="25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People's trust in the HKSAR Government and Beijing Central Government - Combined charts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People's confidence in HK's future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People's confidence in China's future (per poll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People's confidence in “one country, two systems” (half-yearly averages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ublic Opinion Trend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828800"/>
            <a:ext cx="7391520" cy="38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3.  Popularity of Principal Officials: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Summary table of ratings of Principal Officials 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Summary table of hypothetical voting of Principal Officials</a:t>
            </a:r>
            <a:r>
              <a:rPr b="1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300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4.  Political Figures in Mainland China and Taiwan:</a:t>
            </a:r>
            <a:r>
              <a:rPr b="1" lang="zh-TW" sz="25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Rating of the top ten political figures in Mainland China and Taiwan (latest figures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Opinion on independence of Taiwan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Opinion on cross-strait reunification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 and Government Polic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Public opinion as input to the political syste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Feedback to policy proposals, via Green Papers, White Papers, consultation documents, etc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Agenda setting, especially via phone-in programmes, letters to the editor, petitions, demonstration, etc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Participation in the electoral proces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Indirect representation in counci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Referendu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38080" y="1905120"/>
            <a:ext cx="7391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Please visit our POP SIT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38080" y="1905120"/>
            <a:ext cx="7391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Thank you very much 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Questions welcome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4-03-02T12:40:58Z</dcterms:modified>
  <cp:revision>542</cp:revision>
  <dc:subject/>
  <dc:title>無投影片標題</dc:title>
</cp:coreProperties>
</file>