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697B-C8C4-46E9-885D-0D2940DEA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876F-65EA-4058-899C-E4361F2C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BD3E-D5B2-488F-8D12-C3E284F05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5610-E776-4C84-B822-04DA98F75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9590-036C-4544-A992-34737422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6A44-D037-4091-8CFC-2E469BEA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88BB-AC93-4EE2-979B-BE13A7D6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6BDD-4846-4E6D-BD7C-4E714348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4654-58C9-49CF-BEED-046ABB82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CD5F-F94B-43CD-BACB-998917D0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D09E-17E3-4C35-A34D-00ED4E98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A8B7-A89E-451D-9817-9BA8347F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4A44-AF63-4307-B6F5-4B30ACD6D6B1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32000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99"/>
                </a:solidFill>
                <a:latin typeface="Times New Roman"/>
              </a:rPr>
              <a:t>顯理中學</a:t>
            </a:r>
            <a:r>
              <a:rPr b="1" lang="zh-TW" sz="4000" spc="-1" strike="noStrike">
                <a:solidFill>
                  <a:srgbClr val="ffff99"/>
                </a:solidFill>
                <a:latin typeface="新細明體"/>
              </a:rPr>
              <a:t>民意研究工作坊</a:t>
            </a:r>
            <a:r>
              <a:rPr b="1" lang="zh-TW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1447920" y="5486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1295280"/>
            <a:ext cx="4648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676520" y="1066680"/>
          <a:ext cx="182880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18288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762120" y="4724280"/>
            <a:ext cx="78483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新細明體"/>
              </a:rPr>
              <a:t>主講 </a:t>
            </a:r>
            <a:r>
              <a:rPr b="1" lang="zh-TW" sz="2800" spc="-1" strike="noStrike">
                <a:solidFill>
                  <a:srgbClr val="ffffcc"/>
                </a:solidFill>
                <a:latin typeface="新細明體"/>
              </a:rPr>
              <a:t>: </a:t>
            </a:r>
            <a:r>
              <a:rPr b="1" lang="zh-TW" sz="2800" spc="-1" strike="noStrike">
                <a:solidFill>
                  <a:srgbClr val="ffffcc"/>
                </a:solidFill>
                <a:latin typeface="新細明體"/>
              </a:rPr>
              <a:t>鍾庭耀博士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2003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年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月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8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日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14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民意調查的實際運作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743200"/>
            <a:ext cx="7696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介紹香港大學民意研究計劃的工作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2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電話訪問錄音片段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ffff00"/>
                </a:solidFill>
                <a:uFillTx/>
                <a:latin typeface="Times New Roman"/>
              </a:rPr>
              <a:t>民意調查的報導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38080" y="372960"/>
            <a:ext cx="739152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914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民意調查的實際運作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2286000"/>
            <a:ext cx="5562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進行民意調查時注意事項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 u="sng">
                <a:solidFill>
                  <a:srgbClr val="ccffff"/>
                </a:solidFill>
                <a:uFillTx/>
                <a:latin typeface="新細明體"/>
              </a:rPr>
              <a:t>整體規劃</a:t>
            </a:r>
            <a:r>
              <a:rPr b="1" lang="zh-TW" sz="20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ff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新細明體"/>
              </a:rPr>
              <a:t>清楚訂定調查目的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ff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新細明體"/>
              </a:rPr>
              <a:t>清楚界定目標被訪者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ec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新細明體"/>
              </a:rPr>
              <a:t>確定被訪者認識調查項目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 u="sng">
                <a:solidFill>
                  <a:srgbClr val="ccffff"/>
                </a:solidFill>
                <a:uFillTx/>
                <a:latin typeface="新細明體"/>
              </a:rPr>
              <a:t>抽選樣本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ff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新細明體"/>
              </a:rPr>
              <a:t>採用隨機抽樣法，不能隨意更換樣本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914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民意調查的實際運作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3352680"/>
            <a:ext cx="67816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 u="sng">
                <a:solidFill>
                  <a:srgbClr val="ccffff"/>
                </a:solidFill>
                <a:uFillTx/>
                <a:latin typeface="新細明體"/>
              </a:rPr>
              <a:t>問卷設計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問卷長度要適中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避免使用艱深、含糊或帶有感情色彩的詞語或語句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問題應切合統計調查目的，並力求具體、清晰、直接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可供選擇的答案應互相排斥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2362320"/>
            <a:ext cx="6629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進行民意調查時注意事項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914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民意調查的實際運作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5120" y="3581280"/>
            <a:ext cx="5257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 u="sng">
                <a:solidFill>
                  <a:srgbClr val="ccffff"/>
                </a:solidFill>
                <a:uFillTx/>
                <a:latin typeface="新細明體"/>
              </a:rPr>
              <a:t>發佈調查結果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個人資料須予保密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調查報告應包括統計調查中各方面的細節，並同時提供所用的統計調查方法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2514600"/>
            <a:ext cx="6629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進行民意調查時注意事項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民意調查的實際運作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880" y="3352680"/>
            <a:ext cx="3353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新聞公報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民意調查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研究報告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最新內容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81480" y="3429000"/>
            <a:ext cx="2286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研究報告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網上資源：中學師生民意研究習作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32320" y="25146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介紹香港大學民意網站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1981080"/>
            <a:ext cx="7543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Times New Roman"/>
              </a:rPr>
              <a:t>謝謝</a:t>
            </a:r>
            <a:r>
              <a:rPr b="1" lang="zh-TW" sz="4800" spc="-1" strike="noStrike">
                <a:solidFill>
                  <a:srgbClr val="ffff99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40384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2" name="PE01832_" descr=""/>
          <p:cNvPicPr/>
          <p:nvPr/>
        </p:nvPicPr>
        <p:blipFill>
          <a:blip r:embed="rId1"/>
          <a:stretch/>
        </p:blipFill>
        <p:spPr>
          <a:xfrm>
            <a:off x="5715000" y="3581280"/>
            <a:ext cx="3276720" cy="299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65040" y="220968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民意研究的理論基礎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52" name="PE02484_" descr=""/>
          <p:cNvPicPr/>
          <p:nvPr/>
        </p:nvPicPr>
        <p:blipFill>
          <a:blip r:embed="rId1"/>
          <a:stretch/>
        </p:blipFill>
        <p:spPr>
          <a:xfrm>
            <a:off x="685800" y="3600360"/>
            <a:ext cx="309564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民意研究的理論基礎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2362320"/>
            <a:ext cx="67053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民意” 的特質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是個別人士意見的匯集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可能是對城中話題或最新政策的表面反應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與政治態度有別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會隨著時間轉變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民意研究的理論基礎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2362320"/>
            <a:ext cx="66294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影響民意的組織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政府機關，如新聞處</a:t>
            </a:r>
            <a:r>
              <a:rPr b="1" lang="zh-TW" sz="2500" spc="-1" strike="noStrike">
                <a:solidFill>
                  <a:srgbClr val="ccffff"/>
                </a:solidFill>
                <a:latin typeface="新細明體"/>
              </a:rPr>
              <a:t>、政策局等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半官方機構，如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sө_x0002_, mingliu, taipei"/>
              </a:rPr>
              <a:t>諮詢委員會、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區議會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民間組織，如政黨、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sө_x0002_, mingliu, taipei"/>
              </a:rPr>
              <a:t>壓力團體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傳播媒介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意見領袖</a:t>
            </a:r>
            <a:r>
              <a:rPr b="1" lang="zh-TW" sz="2400" spc="-1" strike="noStrike">
                <a:solidFill>
                  <a:srgbClr val="ccffff"/>
                </a:solidFill>
                <a:latin typeface="新細明體"/>
              </a:rPr>
              <a:t>、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商界大亨</a:t>
            </a:r>
            <a:r>
              <a:rPr b="1" lang="zh-TW" sz="2400" spc="-1" strike="noStrike">
                <a:solidFill>
                  <a:srgbClr val="ccffff"/>
                </a:solidFill>
                <a:latin typeface="新細明體"/>
              </a:rPr>
              <a:t>、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學者專家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民意研究的理論基礎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2209680"/>
            <a:ext cx="68580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從事民意調查的組織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05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政府機關，如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sө_x0002_, mingliu, taipei"/>
              </a:rPr>
              <a:t>民政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事務局</a:t>
            </a:r>
            <a:r>
              <a:rPr b="1" lang="zh-TW" sz="2400" spc="-1" strike="noStrike">
                <a:solidFill>
                  <a:srgbClr val="ccffff"/>
                </a:solidFill>
                <a:latin typeface="新細明體"/>
              </a:rPr>
              <a:t>、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中央政策組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05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市場調查公司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05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學術機構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05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政治組織、志願機構、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sө_x0002_, mingliu, taipei"/>
              </a:rPr>
              <a:t>壓力團體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05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傳播媒介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5410080"/>
            <a:ext cx="7162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00"/>
                </a:solidFill>
                <a:latin typeface="Times New Roman"/>
              </a:rPr>
              <a:t>於 </a:t>
            </a:r>
            <a:r>
              <a:rPr b="1" lang="zh-TW" sz="1800" spc="-1" strike="noStrike">
                <a:solidFill>
                  <a:srgbClr val="ffff00"/>
                </a:solidFill>
                <a:latin typeface="Times New Roman"/>
              </a:rPr>
              <a:t>19-25/8/2002 </a:t>
            </a:r>
            <a:r>
              <a:rPr b="1" lang="zh-TW" sz="1800" spc="-1" strike="noStrike">
                <a:solidFill>
                  <a:srgbClr val="ffff00"/>
                </a:solidFill>
                <a:latin typeface="Times New Roman"/>
              </a:rPr>
              <a:t>的七天內， 本地報章刊共刊載民意調查結果 </a:t>
            </a:r>
            <a:r>
              <a:rPr b="1" lang="zh-TW" sz="1800" spc="-1" strike="noStrike">
                <a:solidFill>
                  <a:srgbClr val="ffff00"/>
                </a:solidFill>
                <a:latin typeface="Times New Roman"/>
              </a:rPr>
              <a:t>72 </a:t>
            </a:r>
            <a:r>
              <a:rPr b="1" lang="zh-TW" sz="1800" spc="-1" strike="noStrike">
                <a:solidFill>
                  <a:srgbClr val="ffff00"/>
                </a:solidFill>
                <a:latin typeface="Times New Roman"/>
              </a:rPr>
              <a:t>份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民意研究的理論基礎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2209680"/>
            <a:ext cx="72392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民意是政治體系的輸入部份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政府透過咨詢文件收集民意，如印發白紙草案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巿民對政策作出回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政府、媒介及壓力團體透過電台節目</a:t>
            </a:r>
            <a:r>
              <a:rPr b="1" lang="zh-TW" sz="2400" spc="-1" strike="noStrike">
                <a:solidFill>
                  <a:srgbClr val="ccffff"/>
                </a:solidFill>
                <a:latin typeface="新細明體"/>
              </a:rPr>
              <a:t>、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讀者來信</a:t>
            </a:r>
            <a:r>
              <a:rPr b="1" lang="zh-TW" sz="2400" spc="-1" strike="noStrike">
                <a:solidFill>
                  <a:srgbClr val="ccffff"/>
                </a:solidFill>
                <a:latin typeface="新細明體"/>
              </a:rPr>
              <a:t>、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遊行示威等設定議題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巿民以選票或全民投票表達意見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民意代表在議會內發揮民意力量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民意調查的實際運作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78" name="BS00580_" descr=""/>
          <p:cNvPicPr/>
          <p:nvPr/>
        </p:nvPicPr>
        <p:blipFill>
          <a:blip r:embed="rId1"/>
          <a:stretch/>
        </p:blipFill>
        <p:spPr>
          <a:xfrm>
            <a:off x="5029200" y="3505320"/>
            <a:ext cx="3581280" cy="301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914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民意調查的實際運作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743200"/>
            <a:ext cx="76960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介紹香港大學民意研究計劃的工作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2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電話訪問錄音片段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民意調查的報導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914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民意調查的實際運作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2743200"/>
            <a:ext cx="7696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介紹香港大學民意研究計劃的工作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2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ffff00"/>
                </a:solidFill>
                <a:uFillTx/>
                <a:latin typeface="Times New Roman"/>
              </a:rPr>
              <a:t>電話訪問錄音片段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民意調查的報導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400800" y="3581280"/>
            <a:ext cx="533520" cy="533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PC84-CLIFF</cp:lastModifiedBy>
  <cp:lastPrinted>2001-04-04T10:00:24Z</cp:lastPrinted>
  <dcterms:modified xsi:type="dcterms:W3CDTF">2004-08-17T04:08:24Z</dcterms:modified>
  <cp:revision>670</cp:revision>
  <dc:subject/>
  <dc:title>無投影片標題</dc:title>
</cp:coreProperties>
</file>