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642100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5101-8C32-4C64-B47E-BE13F6BE3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1746-CC34-4A3B-9359-7EEA2CD92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9974-FE4D-4D76-8F24-9E8763AAD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AE57-3B3A-4C85-A0CA-F93D08DC9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E247-329C-4B32-9E4A-FC95540FB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8D4A-E31E-4142-88FB-99F4E1D22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D5C0-0113-4DB3-AD5E-BF5E79568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32BC-CD51-4C01-B344-D9F67407B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166C-6929-428E-B81D-25C39A427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CED5-063D-47B9-B8AE-B555EFADB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BA59-692C-4E7E-B1C2-7F75B457F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46B6-F823-4A63-887F-1241C89EC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B387D-FE7C-4CF0-978E-F1BB1BC251E6}" type="slidenum"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297180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Public Opinion in Hong Kong:</a:t>
            </a:r>
            <a:br>
              <a:rPr sz="3600"/>
            </a:b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The Use and Misuse of Opinion Polls</a:t>
            </a:r>
            <a:br>
              <a:rPr sz="2800"/>
            </a:br>
            <a:r>
              <a:rPr b="1" i="1" lang="en-US" sz="2000" spc="-1" strike="noStrike">
                <a:solidFill>
                  <a:srgbClr val="ffffcc"/>
                </a:solidFill>
                <a:latin typeface="Times New Roman"/>
              </a:rPr>
              <a:t>(Lecture for CSD Senior Command Course No.1/2002)</a:t>
            </a:r>
            <a:endParaRPr b="0" lang="en-US" sz="2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9880" y="1295280"/>
            <a:ext cx="46483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99"/>
                </a:solidFill>
                <a:latin typeface="Times New Roman"/>
              </a:rPr>
              <a:t>The University of Hong Kong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99"/>
                </a:solidFill>
                <a:latin typeface="Times New Roman"/>
              </a:rPr>
              <a:t>Public Opinion Programm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香港大學民意研究計劃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1676520" y="1066680"/>
          <a:ext cx="1755720" cy="18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066680"/>
                    <a:ext cx="175572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609480" y="5257800"/>
            <a:ext cx="8153640" cy="7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2000" spc="-1" strike="noStrike">
                <a:solidFill>
                  <a:srgbClr val="ffffcc"/>
                </a:solidFill>
                <a:latin typeface="Times New Roman"/>
              </a:rPr>
              <a:t>Robert Chung, Director of Public Opinion Programme, HKU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2000" spc="-1" strike="noStrike">
                <a:solidFill>
                  <a:srgbClr val="ffffcc"/>
                </a:solidFill>
                <a:latin typeface="Times New Roman"/>
              </a:rPr>
              <a:t>12 – 12 - 2002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990720" y="2590920"/>
            <a:ext cx="7216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The Operation of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Opinion Research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The Operation of Opinion Research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752480"/>
            <a:ext cx="72388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Times New Roman"/>
              </a:rPr>
              <a:t>Different stages in conducting an “opinion poll”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Identification of research objectives and areas of investigatio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Sampling desig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Questionnaire desig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Fieldwork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Data analysis and cleaning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Report compilatio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Release of finding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The Operation of Opinion Research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2286000"/>
            <a:ext cx="769608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Demonstration of the POP’s operatio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CATI and WEBCATI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Sample audio segment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WEBCATI input demonstratio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Quality control (q/c) measure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Press releas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0363320" y="6858000"/>
            <a:ext cx="761760" cy="457200"/>
          </a:xfrm>
          <a:prstGeom prst="wedgeRectCallout">
            <a:avLst>
              <a:gd name="adj1" fmla="val -43518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295280" y="289548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Reading Media Reports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The Operation of Opinion Research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2286000"/>
            <a:ext cx="769608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Demonstration of the POP’s operatio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CATI and WEBCATI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Sample audio segment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WEBCATI input demonstratio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Quality control (q/c) measure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Press release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Wingdings"/>
                <a:ea typeface="Wingdings"/>
              </a:rPr>
              <a:t>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 How it was actually reported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363320" y="6858000"/>
            <a:ext cx="761760" cy="457200"/>
          </a:xfrm>
          <a:prstGeom prst="wedgeRectCallout">
            <a:avLst>
              <a:gd name="adj1" fmla="val -43518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Reading Media Report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8080" y="1981080"/>
            <a:ext cx="73915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Introducing codes of professional ethics and practices, and the principle of “minimum disclosure”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276720"/>
            <a:ext cx="708660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spcBef>
                <a:spcPts val="125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The 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WAPOR</a:t>
            </a: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 standard (World Association for Public Opinion Research)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461880" indent="-461880">
              <a:spcBef>
                <a:spcPts val="125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The 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AAPOR</a:t>
            </a: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 standard (American Association for Public Opinion Research)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461880" indent="-461880">
              <a:spcBef>
                <a:spcPts val="125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The European standard (European Society for Opinion and Marketing Research, </a:t>
            </a: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ESOMAR</a:t>
            </a: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461880" indent="-461880">
              <a:spcBef>
                <a:spcPts val="125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A Hong Kong standard?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Reading Media Report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62120" y="2514600"/>
            <a:ext cx="761976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Introducing the preliminary findings of the MRSHK Projec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imes New Roman"/>
              </a:rPr>
              <a:t>The principle of “minimum disclosure”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imes New Roman"/>
              </a:rPr>
              <a:t>Fieldwork: 19-25/8/2002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Reading Media Report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676520" y="2209680"/>
            <a:ext cx="624816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Times New Roman"/>
              </a:rPr>
              <a:t>Characteristics of “media polls”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Agenda setting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Tend to focus on negative feelings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Sensationalism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Rich graphics to achieve visual impact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Extensive coverage for exclusive polls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Reading Media Report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90720" y="2057400"/>
            <a:ext cx="716256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ffff99"/>
                </a:solidFill>
                <a:latin typeface="Times New Roman"/>
              </a:rPr>
              <a:t>Major carriers of “public opinion”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Radio phone-in programmes like </a:t>
            </a: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風波裏的茶杯 </a:t>
            </a: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, </a:t>
            </a: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自由風自由 </a:t>
            </a: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Phone , </a:t>
            </a: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千禧年代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Talk shows like </a:t>
            </a: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政事有心人 </a:t>
            </a: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, 18</a:t>
            </a: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樓</a:t>
            </a: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C</a:t>
            </a: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座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TV programmes like </a:t>
            </a: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新聞透視 </a:t>
            </a: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, </a:t>
            </a: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頭條新聞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Newspaper columns, editorials, letters to the editor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Opinion poll reports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914400" y="2514600"/>
            <a:ext cx="753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Theoretical Aspects of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Public Opinion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ccffff"/>
                </a:solidFill>
                <a:latin typeface="Times New Roman"/>
              </a:rPr>
              <a:t>Outline of Presentation</a:t>
            </a:r>
            <a:endParaRPr b="0" lang="en-US" sz="4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90720" y="2362320"/>
            <a:ext cx="72388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92280" indent="-69228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Opening remark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692280" indent="-69228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Opinion polls: How they are done?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692280" indent="-69228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Opinion polls: How they are reported?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692280" indent="-69228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Public opinion: The theoretical aspect (very briefly)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692280" indent="-69228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Closing remarks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Theoretical Aspects of Public Opinio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676520" y="2362320"/>
            <a:ext cx="67053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Times New Roman"/>
              </a:rPr>
              <a:t>Characteristics of “public opinion”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A collections of individual opinions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Different from political attitude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Reaction to ad hoc issues or policies 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Short-term judgment can change over time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Theoretical Aspects of Public Opinio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447920" y="1828800"/>
            <a:ext cx="670536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Other topics and further reading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Characteristics of “public opinion”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Formation of “public opinion”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Major producers of “opinion polls”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Public opinion as input to the political system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523880" y="4724280"/>
            <a:ext cx="655344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ccffff"/>
                </a:solidFill>
                <a:latin typeface="Times New Roman"/>
              </a:rPr>
              <a:t>“ </a:t>
            </a:r>
            <a:r>
              <a:rPr b="1" lang="zh-TW" sz="2200" spc="-1" strike="noStrike">
                <a:solidFill>
                  <a:srgbClr val="ffff99"/>
                </a:solidFill>
                <a:latin typeface="Times New Roman"/>
              </a:rPr>
              <a:t>民意調查 </a:t>
            </a:r>
            <a:r>
              <a:rPr b="1" lang="zh-TW" sz="2200" spc="-1" strike="noStrike">
                <a:solidFill>
                  <a:srgbClr val="ffff99"/>
                </a:solidFill>
                <a:latin typeface="Times New Roman"/>
              </a:rPr>
              <a:t>: </a:t>
            </a:r>
            <a:r>
              <a:rPr b="1" lang="zh-TW" sz="2200" spc="-1" strike="noStrike">
                <a:solidFill>
                  <a:srgbClr val="ffff99"/>
                </a:solidFill>
                <a:latin typeface="Times New Roman"/>
              </a:rPr>
              <a:t>發展歷史與政治功能 </a:t>
            </a:r>
            <a:r>
              <a:rPr b="0" lang="zh-TW" sz="2200" spc="-1" strike="noStrike">
                <a:solidFill>
                  <a:srgbClr val="ccffff"/>
                </a:solidFill>
                <a:latin typeface="Times New Roman"/>
              </a:rPr>
              <a:t>” </a:t>
            </a:r>
            <a:r>
              <a:rPr b="0" lang="zh-TW" sz="2200" spc="-1" strike="noStrike">
                <a:solidFill>
                  <a:srgbClr val="ccffff"/>
                </a:solidFill>
                <a:latin typeface="Times New Roman"/>
              </a:rPr>
              <a:t>,</a:t>
            </a:r>
            <a:r>
              <a:rPr b="0" lang="zh-TW" sz="2200" spc="-1" strike="noStrike">
                <a:solidFill>
                  <a:srgbClr val="ccffff"/>
                </a:solidFill>
                <a:latin typeface="Times New Roman"/>
              </a:rPr>
              <a:t>《政治學新論 </a:t>
            </a:r>
            <a:r>
              <a:rPr b="0" lang="zh-TW" sz="2200" spc="-1" strike="noStrike">
                <a:solidFill>
                  <a:srgbClr val="ccffff"/>
                </a:solidFill>
                <a:latin typeface="Times New Roman"/>
              </a:rPr>
              <a:t>: </a:t>
            </a:r>
            <a:r>
              <a:rPr b="0" lang="zh-TW" sz="2200" spc="-1" strike="noStrike">
                <a:solidFill>
                  <a:srgbClr val="ccffff"/>
                </a:solidFill>
                <a:latin typeface="Times New Roman"/>
              </a:rPr>
              <a:t>西方學理與中華經驗》</a:t>
            </a:r>
            <a:r>
              <a:rPr b="0" lang="zh-TW" sz="2200" spc="-1" strike="noStrike">
                <a:solidFill>
                  <a:srgbClr val="ccffff"/>
                </a:solidFill>
                <a:latin typeface="Times New Roman"/>
              </a:rPr>
              <a:t>, </a:t>
            </a:r>
            <a:r>
              <a:rPr b="0" lang="zh-TW" sz="2200" spc="-1" strike="noStrike">
                <a:solidFill>
                  <a:srgbClr val="ccffff"/>
                </a:solidFill>
                <a:latin typeface="Times New Roman"/>
              </a:rPr>
              <a:t>鄭宇碩及羅金義編 </a:t>
            </a:r>
            <a:r>
              <a:rPr b="0" lang="zh-TW" sz="2200" spc="-1" strike="noStrike">
                <a:solidFill>
                  <a:srgbClr val="ccffff"/>
                </a:solidFill>
                <a:latin typeface="Times New Roman"/>
              </a:rPr>
              <a:t>, 1997</a:t>
            </a:r>
            <a:r>
              <a:rPr b="0" lang="zh-TW" sz="2200" spc="-1" strike="noStrike">
                <a:solidFill>
                  <a:srgbClr val="ccffff"/>
                </a:solidFill>
                <a:latin typeface="Times New Roman"/>
              </a:rPr>
              <a:t>年 </a:t>
            </a:r>
            <a:r>
              <a:rPr b="0" lang="zh-TW" sz="2200" spc="-1" strike="noStrike">
                <a:solidFill>
                  <a:srgbClr val="ccffff"/>
                </a:solidFill>
                <a:latin typeface="Times New Roman"/>
              </a:rPr>
              <a:t>,</a:t>
            </a:r>
            <a:r>
              <a:rPr b="0" lang="zh-TW" sz="2200" spc="-1" strike="noStrike">
                <a:solidFill>
                  <a:srgbClr val="ccffff"/>
                </a:solidFill>
                <a:latin typeface="Times New Roman"/>
              </a:rPr>
              <a:t>頁</a:t>
            </a:r>
            <a:r>
              <a:rPr b="0" lang="zh-TW" sz="2200" spc="-1" strike="noStrike">
                <a:solidFill>
                  <a:srgbClr val="ccffff"/>
                </a:solidFill>
                <a:latin typeface="Times New Roman"/>
              </a:rPr>
              <a:t>369-397 . </a:t>
            </a:r>
            <a:r>
              <a:rPr b="0" lang="zh-TW" sz="2200" spc="-1" strike="noStrike">
                <a:solidFill>
                  <a:srgbClr val="ccffff"/>
                </a:solidFill>
                <a:latin typeface="Times New Roman"/>
              </a:rPr>
              <a:t>香港 </a:t>
            </a:r>
            <a:r>
              <a:rPr b="0" lang="zh-TW" sz="2200" spc="-1" strike="noStrike">
                <a:solidFill>
                  <a:srgbClr val="ccffff"/>
                </a:solidFill>
                <a:latin typeface="Times New Roman"/>
              </a:rPr>
              <a:t>: </a:t>
            </a:r>
            <a:r>
              <a:rPr b="0" lang="zh-TW" sz="2200" spc="-1" strike="noStrike">
                <a:solidFill>
                  <a:srgbClr val="ccffff"/>
                </a:solidFill>
                <a:latin typeface="Times New Roman"/>
              </a:rPr>
              <a:t>香港中文大學出版社 </a:t>
            </a:r>
            <a:r>
              <a:rPr b="0" lang="zh-TW" sz="2200" spc="-1" strike="noStrike">
                <a:solidFill>
                  <a:srgbClr val="ccffff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914400" y="2666880"/>
            <a:ext cx="7772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Closing Remarks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33520" y="990720"/>
            <a:ext cx="80769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Closing Remark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38080" y="2819520"/>
            <a:ext cx="762012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A code of practice in Hong Kong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Opinion polling in Greater China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Introducing the “POP Network”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62120" y="228600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533520" y="457200"/>
            <a:ext cx="80769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Closing Remarks: The 3“I”s again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33520" y="1676520"/>
            <a:ext cx="80769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62120" y="2057400"/>
            <a:ext cx="3733560" cy="20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70000"/>
              </a:lnSpc>
              <a:spcBef>
                <a:spcPts val="174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99"/>
                </a:solidFill>
                <a:latin typeface="Times New Roman"/>
              </a:rPr>
              <a:t>I</a:t>
            </a: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nformation</a:t>
            </a:r>
            <a:r>
              <a:rPr b="0" lang="zh-TW" sz="2800" spc="-1" strike="noStrike">
                <a:solidFill>
                  <a:srgbClr val="ffff99"/>
                </a:solidFill>
                <a:latin typeface="Times New Roman"/>
              </a:rPr>
              <a:t>: </a:t>
            </a: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資訊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0" lang="zh-TW" sz="2600" spc="-1" strike="noStrike">
                <a:solidFill>
                  <a:srgbClr val="388ec8"/>
                </a:solidFill>
                <a:latin typeface="Times New Roman"/>
              </a:rPr>
              <a:t>- scientific, unbiased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388ec8"/>
                </a:solidFill>
                <a:latin typeface="Times New Roman"/>
              </a:rPr>
              <a:t>	</a:t>
            </a:r>
            <a:r>
              <a:rPr b="0" lang="zh-TW" sz="2600" spc="-1" strike="noStrike">
                <a:solidFill>
                  <a:srgbClr val="388ec8"/>
                </a:solidFill>
                <a:latin typeface="Times New Roman"/>
              </a:rPr>
              <a:t>- true, comprehensive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388ec8"/>
                </a:solidFill>
                <a:latin typeface="Times New Roman"/>
              </a:rPr>
              <a:t>	</a:t>
            </a:r>
            <a:r>
              <a:rPr b="0" lang="zh-TW" sz="2600" spc="-1" strike="noStrike">
                <a:solidFill>
                  <a:srgbClr val="388ec8"/>
                </a:solidFill>
                <a:latin typeface="Times New Roman"/>
              </a:rPr>
              <a:t>- knowledgeable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495680" y="2209680"/>
            <a:ext cx="4267440" cy="15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70000"/>
              </a:lnSpc>
              <a:spcBef>
                <a:spcPts val="174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99"/>
                </a:solidFill>
                <a:latin typeface="Times New Roman"/>
              </a:rPr>
              <a:t>I</a:t>
            </a: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ntegrity</a:t>
            </a:r>
            <a:r>
              <a:rPr b="0" lang="zh-TW" sz="2800" spc="-1" strike="noStrike">
                <a:solidFill>
                  <a:srgbClr val="ffff99"/>
                </a:solidFill>
                <a:latin typeface="Times New Roman"/>
              </a:rPr>
              <a:t>: </a:t>
            </a: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誠信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0" lang="zh-TW" sz="2600" spc="-1" strike="noStrike">
                <a:solidFill>
                  <a:srgbClr val="388ec8"/>
                </a:solidFill>
                <a:latin typeface="Times New Roman"/>
              </a:rPr>
              <a:t>- ethical, professional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388ec8"/>
                </a:solidFill>
                <a:latin typeface="Times New Roman"/>
              </a:rPr>
              <a:t>	</a:t>
            </a:r>
            <a:r>
              <a:rPr b="0" lang="zh-TW" sz="2600" spc="-1" strike="noStrike">
                <a:solidFill>
                  <a:srgbClr val="388ec8"/>
                </a:solidFill>
                <a:latin typeface="Times New Roman"/>
              </a:rPr>
              <a:t>- honesty is the best policy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514600" y="4343400"/>
            <a:ext cx="4572000" cy="21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99"/>
                </a:solidFill>
                <a:latin typeface="Times New Roman"/>
              </a:rPr>
              <a:t>“</a:t>
            </a:r>
            <a:r>
              <a:rPr b="1" lang="zh-TW" sz="4400" spc="-1" strike="noStrike">
                <a:solidFill>
                  <a:srgbClr val="ffff99"/>
                </a:solidFill>
                <a:latin typeface="Times New Roman"/>
              </a:rPr>
              <a:t>I” </a:t>
            </a: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: </a:t>
            </a: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自信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 algn="ctr">
              <a:lnSpc>
                <a:spcPct val="70000"/>
              </a:lnSpc>
              <a:spcBef>
                <a:spcPts val="1749"/>
              </a:spcBef>
              <a:buClr>
                <a:srgbClr val="388ec8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88ec8"/>
                </a:solidFill>
                <a:latin typeface="Times New Roman"/>
              </a:rPr>
              <a:t>I am the mover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 algn="ctr">
              <a:lnSpc>
                <a:spcPct val="70000"/>
              </a:lnSpc>
              <a:spcBef>
                <a:spcPts val="1749"/>
              </a:spcBef>
              <a:buClr>
                <a:srgbClr val="388ec8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 u="sng">
                <a:solidFill>
                  <a:srgbClr val="388ec8"/>
                </a:solidFill>
                <a:uFillTx/>
                <a:latin typeface="Times New Roman"/>
              </a:rPr>
              <a:t>I am unique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838080" y="1523880"/>
            <a:ext cx="754380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Times New Roman"/>
              </a:rPr>
              <a:t>Thank you very much !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2120" y="441972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Opening Remark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219320" y="2133720"/>
            <a:ext cx="71625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New experience and fresh informatio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USA Congress mid-term elections, 5 Nov 2002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The role of the media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Mayors elections in Taiwan, 7 Dec 2002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The credibility issu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POP’s press release this week, 10 Dec 2002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Rating of CE and Principal Official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Opening Remark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2057400"/>
            <a:ext cx="75438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Times New Roman"/>
              </a:rPr>
              <a:t>New concepts for Hong Kong: the 3Rs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What do you associate with – 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590920" y="3809880"/>
            <a:ext cx="5715000" cy="21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Opening Remark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2057400"/>
            <a:ext cx="75438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Times New Roman"/>
              </a:rPr>
              <a:t>New concepts for Hong Kong: the 3Rs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What do you associate with – 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3809880"/>
            <a:ext cx="5715000" cy="21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Re-prioritise 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Re-organis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Re-engineer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Opening Remark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5800" y="1981080"/>
            <a:ext cx="769608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ccffff"/>
                </a:solidFill>
                <a:latin typeface="Times New Roman"/>
              </a:rPr>
              <a:t>Financial Secretary Antony Leung has urged civil servants to embrace the “three Rs” to help build a cost-effective government in Hong Kong…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ccffff"/>
                </a:solidFill>
                <a:latin typeface="Times New Roman"/>
              </a:rPr>
              <a:t>“</a:t>
            </a:r>
            <a:r>
              <a:rPr b="0" lang="zh-TW" sz="2000" spc="-1" strike="noStrike">
                <a:solidFill>
                  <a:srgbClr val="ccffff"/>
                </a:solidFill>
                <a:latin typeface="Times New Roman"/>
              </a:rPr>
              <a:t>Within Government we need to </a:t>
            </a:r>
            <a:r>
              <a:rPr b="1" lang="zh-TW" sz="2000" spc="-1" strike="noStrike" u="sng">
                <a:solidFill>
                  <a:srgbClr val="ffff99"/>
                </a:solidFill>
                <a:uFillTx/>
                <a:latin typeface="Times New Roman"/>
              </a:rPr>
              <a:t>re-prioritise</a:t>
            </a:r>
            <a:r>
              <a:rPr b="0" lang="zh-TW" sz="2000" spc="-1" strike="noStrike">
                <a:solidFill>
                  <a:srgbClr val="ccffff"/>
                </a:solidFill>
                <a:latin typeface="Times New Roman"/>
              </a:rPr>
              <a:t> to ensure that the services that utilise resources today is what society wants and needs today. We must </a:t>
            </a:r>
            <a:r>
              <a:rPr b="1" lang="zh-TW" sz="2000" spc="-1" strike="noStrike" u="sng">
                <a:solidFill>
                  <a:srgbClr val="ffff99"/>
                </a:solidFill>
                <a:uFillTx/>
                <a:latin typeface="Times New Roman"/>
              </a:rPr>
              <a:t>reorganise</a:t>
            </a:r>
            <a:r>
              <a:rPr b="0" lang="zh-TW" sz="2000" spc="-1" strike="noStrike">
                <a:solidFill>
                  <a:srgbClr val="ccffff"/>
                </a:solidFill>
                <a:latin typeface="Times New Roman"/>
              </a:rPr>
              <a:t> by creating structures that make the best use of the private sector whilst fulfilling our policy and operational requirements. And we must </a:t>
            </a:r>
            <a:r>
              <a:rPr b="1" lang="zh-TW" sz="2000" spc="-1" strike="noStrike" u="sng">
                <a:solidFill>
                  <a:srgbClr val="ffff99"/>
                </a:solidFill>
                <a:uFillTx/>
                <a:latin typeface="Times New Roman"/>
              </a:rPr>
              <a:t>re-engineer</a:t>
            </a:r>
            <a:r>
              <a:rPr b="0" lang="zh-TW" sz="2000" spc="-1" strike="noStrike">
                <a:solidFill>
                  <a:srgbClr val="ccffff"/>
                </a:solidFill>
                <a:latin typeface="Times New Roman"/>
              </a:rPr>
              <a:t> our own organisations and processes, to avoid duplication and multiple handling, and to use appropriate technologies to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ccffff"/>
                </a:solidFill>
                <a:latin typeface="Times New Roman"/>
              </a:rPr>
              <a:t>the best effect.”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Opening Remark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219320" y="2057400"/>
            <a:ext cx="75438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3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The “three I’s” – 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590920" y="3429000"/>
            <a:ext cx="5715000" cy="21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I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I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I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Opening Remark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219320" y="2057400"/>
            <a:ext cx="75438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3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The “three I’s” – 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590920" y="3429000"/>
            <a:ext cx="5715000" cy="21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Information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Integrity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I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33520" y="457200"/>
            <a:ext cx="80769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Opening Remark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33520" y="1676520"/>
            <a:ext cx="80769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62120" y="2057400"/>
            <a:ext cx="3733560" cy="20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70000"/>
              </a:lnSpc>
              <a:spcBef>
                <a:spcPts val="174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nformation</a:t>
            </a:r>
            <a:r>
              <a:rPr b="0" lang="en-US" sz="2800" spc="-1" strike="noStrike">
                <a:solidFill>
                  <a:srgbClr val="cc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ccffff"/>
                </a:solidFill>
                <a:latin typeface="Times New Roman"/>
              </a:rPr>
              <a:t>- scientific, unbiased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ccffff"/>
                </a:solidFill>
                <a:latin typeface="Times New Roman"/>
              </a:rPr>
              <a:t>- true, comprehensive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ccffff"/>
                </a:solidFill>
                <a:latin typeface="Times New Roman"/>
              </a:rPr>
              <a:t>- knowledgeable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495680" y="2209680"/>
            <a:ext cx="4267440" cy="15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70000"/>
              </a:lnSpc>
              <a:spcBef>
                <a:spcPts val="174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ntegrity</a:t>
            </a:r>
            <a:r>
              <a:rPr b="0" lang="en-US" sz="2800" spc="-1" strike="noStrike">
                <a:solidFill>
                  <a:srgbClr val="cc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ccffff"/>
                </a:solidFill>
                <a:latin typeface="Times New Roman"/>
              </a:rPr>
              <a:t>- ethical, professional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ccffff"/>
                </a:solidFill>
                <a:latin typeface="Times New Roman"/>
              </a:rPr>
              <a:t>- honesty is the best policy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514600" y="4343400"/>
            <a:ext cx="4572000" cy="21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7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“</a:t>
            </a:r>
            <a:r>
              <a:rPr b="1" lang="en-US" sz="4400" spc="-1" strike="noStrike">
                <a:solidFill>
                  <a:srgbClr val="ffff99"/>
                </a:solidFill>
                <a:latin typeface="Times New Roman"/>
              </a:rPr>
              <a:t>I</a:t>
            </a: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”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 algn="ctr">
              <a:lnSpc>
                <a:spcPct val="70000"/>
              </a:lnSpc>
              <a:spcBef>
                <a:spcPts val="1749"/>
              </a:spcBef>
              <a:buClr>
                <a:srgbClr val="cc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imes New Roman"/>
              </a:rPr>
              <a:t>I am the mover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 algn="ctr">
              <a:lnSpc>
                <a:spcPct val="70000"/>
              </a:lnSpc>
              <a:spcBef>
                <a:spcPts val="1749"/>
              </a:spcBef>
              <a:buClr>
                <a:srgbClr val="cc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ffff"/>
                </a:solidFill>
                <a:uFillTx/>
                <a:latin typeface="Times New Roman"/>
              </a:rPr>
              <a:t>I am unique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4T10:00:10Z</dcterms:created>
  <dc:creator>lee</dc:creator>
  <dc:description/>
  <dc:language>en-US</dc:language>
  <cp:lastModifiedBy>PC84-CLIFF</cp:lastModifiedBy>
  <cp:lastPrinted>2001-04-04T10:00:24Z</cp:lastPrinted>
  <dcterms:modified xsi:type="dcterms:W3CDTF">2004-08-17T04:14:46Z</dcterms:modified>
  <cp:revision>537</cp:revision>
  <dc:subject/>
  <dc:title>無投影片標題</dc:title>
</cp:coreProperties>
</file>