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DF1-017B-421F-A245-288E663A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57D-B9CD-428F-913A-B8D9767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4E4-A967-4D30-9DFA-19DE9C6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087-2A8C-438F-958B-C245F9D8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FEB-DBCD-4072-8876-78D02C0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576-20F6-450F-A6FC-B3C5B02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7B5-B446-4384-B5AF-2280815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49E-FA3B-4158-B20E-E3F4D98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839-16C6-4DEF-9084-CE4021A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498-E91E-40EA-8A5B-FFFC4A7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93B-64F5-4E92-9E51-E282BB8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677-F4E3-47E1-85DC-74301A8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FD7-EF6A-4BAD-872B-126B7F64D4A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Lecture on 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0104, 26 November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05740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HKU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puter Assisted Telephone Interview Syst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 with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entation of survey resu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l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sour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rther Rea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etical aspects of “public opinion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0968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Directory of opinion research organizations worldwid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online-survey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Possible Topics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urther studies -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971800"/>
            <a:ext cx="457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0:00-10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1:00-11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:00-00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1:00-01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2:00-02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3:00am or af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2971800"/>
          <a:ext cx="487836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878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657600"/>
            <a:ext cx="4496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ntone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 prefer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733920"/>
          <a:ext cx="63244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324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3:10Z</dcterms:modified>
  <cp:revision>552</cp:revision>
  <dc:subject/>
  <dc:title>無投影片標題</dc:title>
</cp:coreProperties>
</file>