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B43-17AD-4709-BA3A-EA23F4C4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4B0-09F9-4191-9456-5F9025D9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CBF-9CB1-467E-83B4-3A213316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643-15F2-47C9-9E6A-4A718EA3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AC5-CA63-4F1A-B36F-8421E3AE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7A6-CD5B-4BDF-9031-37D0F12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F17-EA34-4C30-9E84-66BFFF2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B89-0187-4622-9276-C36B874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EF9-CF56-42CE-9CCC-1C318E1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382-28B1-4FFF-8446-4D41ECF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F1B-6EE6-4724-9BA5-2284813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24E-C90A-48B3-8D1C-D49960A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506-3499-4725-A30D-E0DFBF4C1E9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9 – 11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USA Congress mid-term elec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operation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tod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top ten Legislative Councillo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thodology and mis-interpre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The 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government bodies and officials: GIS, district offices, APIs, principal officials, CE Off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advisory bodies and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opinion leaders, business tycoons, pressure groups and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tentional leakage of information to specific media organizations or political parties – the “reliable sourc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tween 19/8 - 25/8/2002, 72 poll reports were carried by local newspapers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/c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cap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 </a:t>
            </a:r>
            <a:r>
              <a:rPr b="1" lang="zh-CN" sz="2800" spc="-1" strike="noStrike">
                <a:solidFill>
                  <a:srgbClr val="ccffff"/>
                </a:solidFill>
                <a:latin typeface="新細明體"/>
              </a:rPr>
              <a:t>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astering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.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一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ture Development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HKU POP S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e international dimen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0:06Z</dcterms:modified>
  <cp:revision>523</cp:revision>
  <dc:subject/>
  <dc:title>無投影片標題</dc:title>
</cp:coreProperties>
</file>