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350D-A69E-48A1-8A34-EBCC6B53B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3D07-12D3-44E5-A03A-FE5FF563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76C4-CA68-4A17-AF3A-B0BA06B71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C12D-16FC-4E82-9EEB-F2128FC5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1DE0-9398-42BE-8A9A-AF33EFD4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843C-BAA2-4628-9023-9D0D5903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373C-F0C8-4E3F-9695-DC871261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D4F8-89E3-41BF-9CCD-1977E72C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B54D-BC7D-4761-A9B5-9F4584AC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DFDC-3094-460E-8AFC-CBA59186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977A-62DE-4ACE-9899-B14D5F89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2358-BDB6-4E03-B33A-1A4E8280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23A3-162C-4810-B17D-B52A92D05097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26668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TW" sz="4000" spc="-1" strike="noStrike">
                <a:solidFill>
                  <a:srgbClr val="ffff99"/>
                </a:solidFill>
                <a:latin typeface="新細明體"/>
              </a:rPr>
              <a:t>民意研究工作坊</a:t>
            </a:r>
            <a:r>
              <a:rPr b="1" lang="zh-TW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76520" y="1066680"/>
          <a:ext cx="18288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828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762120" y="472428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新細明體"/>
              </a:rPr>
              <a:t>主講 </a:t>
            </a:r>
            <a:r>
              <a:rPr b="1" lang="zh-TW" sz="2400" spc="-1" strike="noStrike">
                <a:solidFill>
                  <a:srgbClr val="ffffcc"/>
                </a:solidFill>
                <a:latin typeface="新細明體"/>
              </a:rPr>
              <a:t>: </a:t>
            </a:r>
            <a:r>
              <a:rPr b="1" lang="zh-TW" sz="2400" spc="-1" strike="noStrike">
                <a:solidFill>
                  <a:srgbClr val="ffffcc"/>
                </a:solidFill>
                <a:latin typeface="新細明體"/>
              </a:rPr>
              <a:t>鍾庭耀博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11 – 10 - 200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第一節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二節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研究的理論基礎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2362320"/>
            <a:ext cx="6705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民意” 的定義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個別意見的收集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與政治態度不同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對熱門話題或最新政策的反應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屬短期意見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會隨著時間轉變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二節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研究的理論基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2362320"/>
            <a:ext cx="7620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民意”的形成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透過政府新聞處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區議會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宣傳短片…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透過</a:t>
            </a:r>
            <a:r>
              <a:rPr b="1" lang="zh-TW" sz="2400" spc="-1" strike="noStrike">
                <a:solidFill>
                  <a:srgbClr val="ccffff"/>
                </a:solidFill>
                <a:latin typeface="細明體"/>
                <a:ea typeface="細明體"/>
              </a:rPr>
              <a:t>資訊科技及廣播局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透過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sө_x0002_, mingliu, taipei"/>
              </a:rPr>
              <a:t>諮詢委員會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透過意見領袖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商界大亨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sө_x0002_, mingliu, taipei"/>
              </a:rPr>
              <a:t>壓力團體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及學者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有目的地向特定傳媒或政治團體發放消息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二節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研究的理論基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1828800"/>
            <a:ext cx="6858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進行“民意調查”的主要單位</a:t>
            </a: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商界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市場調查機構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學界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政府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sө_x0002_, mingliu, taipei"/>
              </a:rPr>
              <a:t>民政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事務局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中央政策組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政治及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sө_x0002_, mingliu, taipei"/>
              </a:rPr>
              <a:t>壓力團體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非公營機構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傳媒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99"/>
                </a:solidFill>
                <a:latin typeface="Times New Roman"/>
              </a:rPr>
              <a:t>於 </a:t>
            </a:r>
            <a:r>
              <a:rPr b="1" i="1" lang="zh-TW" sz="2400" spc="-1" strike="noStrike">
                <a:solidFill>
                  <a:srgbClr val="ffff99"/>
                </a:solidFill>
                <a:latin typeface="Times New Roman"/>
              </a:rPr>
              <a:t>19 - 25/8/2002 </a:t>
            </a:r>
            <a:r>
              <a:rPr b="1" i="1" lang="zh-TW" sz="2400" spc="-1" strike="noStrike">
                <a:solidFill>
                  <a:srgbClr val="ffff99"/>
                </a:solidFill>
                <a:latin typeface="Times New Roman"/>
              </a:rPr>
              <a:t>一星期內</a:t>
            </a:r>
            <a:r>
              <a:rPr b="1" i="1" lang="zh-TW" sz="2400" spc="-1" strike="noStrike">
                <a:solidFill>
                  <a:srgbClr val="ffff99"/>
                </a:solidFill>
                <a:latin typeface="Times New Roman"/>
              </a:rPr>
              <a:t>, </a:t>
            </a:r>
            <a:r>
              <a:rPr b="1" i="1" lang="zh-TW" sz="2400" spc="-1" strike="noStrike">
                <a:solidFill>
                  <a:srgbClr val="ffff99"/>
                </a:solidFill>
                <a:latin typeface="Times New Roman"/>
              </a:rPr>
              <a:t>本地報章刊載調查結果共 </a:t>
            </a:r>
            <a:r>
              <a:rPr b="1" i="1" lang="zh-TW" sz="2400" spc="-1" strike="noStrike">
                <a:solidFill>
                  <a:srgbClr val="ffff99"/>
                </a:solidFill>
                <a:latin typeface="Times New Roman"/>
              </a:rPr>
              <a:t>72 </a:t>
            </a:r>
            <a:r>
              <a:rPr b="1" i="1" lang="zh-TW" sz="2400" spc="-1" strike="noStrike">
                <a:solidFill>
                  <a:srgbClr val="ffff99"/>
                </a:solidFill>
                <a:latin typeface="Times New Roman"/>
              </a:rPr>
              <a:t>份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二節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研究的理論基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1981080"/>
            <a:ext cx="76201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民意作為政治體系的輸入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透過白紙草案或綠紙草案等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對政策草議作出回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設定議題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尤其透過電台節目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讀者來信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遊行示威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參與選舉過程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局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/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會內的間接代表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全民投票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第二節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三節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研究的實際運作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1752480"/>
            <a:ext cx="7238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民意調查” 的流程</a:t>
            </a: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確認研究目的及探討範疇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抽樣設計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問卷設計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調查工作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數據分析及清理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報告整理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結果發佈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914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三節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研究的實際運作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28600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民意研究計劃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(POP)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運作示範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CATI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及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WEBCAT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電話訪問錄音樣本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WEBCATI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輸入示範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品質保證系統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數據收集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網上日誌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第三節完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四節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研究設計實習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1905120"/>
            <a:ext cx="7086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分組討論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請選定下列其中一個題目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設計一個問卷調查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高官問責制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基本法第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23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條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賭波規範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/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合法化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其他自訂題目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~ 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請每組於討論後派代表作出簡報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ccffff"/>
                </a:solidFill>
                <a:latin typeface="Times New Roman"/>
              </a:rPr>
              <a:t>程序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05740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09:00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簡介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09:30       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民意研究的理論基礎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10:40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民意研究的實際運作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11:40 </a:t>
            </a:r>
            <a:r>
              <a:rPr b="1" lang="zh-TW" sz="2500" spc="-1" strike="noStrike">
                <a:solidFill>
                  <a:srgbClr val="ccffff"/>
                </a:solidFill>
                <a:latin typeface="新細明體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研究設計實習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14:00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解讀媒體報告 － 掌握民意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15:00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民意研究的展望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16:00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總結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四節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研究設計實習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1676520"/>
            <a:ext cx="72388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調查設計階段容易犯上的錯誤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調查目的 –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探究性質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 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為初步計劃而進行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為政策收集意見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哪方面的意見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為宣傳政策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宣傳方向是甚麼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研究範圍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全面性調查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個別政策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目標對象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原因何在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四節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研究設計實習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民意調查設計階段容易犯上的錯誤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調查設計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為何選擇電話訪問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焦點小組討論可行嗎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論述型民調可行嗎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資源限制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時限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經費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四節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研究設計實習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1905120"/>
            <a:ext cx="7010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民意調查設計階段容易犯上的錯誤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與媒體及社會大眾的聯繫 –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進行研究的目的是甚麼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調查結果重點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調查的公信力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是否獨立進行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與媒體的初步聯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與民意領袖的聯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與社會大眾的進一步聯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第四節 完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第五節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解讀媒體報告 － 掌握民意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21337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反映“民意” 的主要單位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電台節目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風波裏的茶杯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自由風自由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Phone ,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千禧年代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清談節目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政事有心人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, 18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樓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座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電視節目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鏗鏘集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新聞透視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頭條新聞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專欄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社評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讀者來函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民意調查部告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第五節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解讀媒體報告 － 掌握民意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2057400"/>
            <a:ext cx="6324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媒體報告” 的特點</a:t>
            </a: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議題設定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傾向集中報導負面消息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煽情手法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/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譁眾取寵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大量運用圖象以添視覺效果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由</a:t>
            </a:r>
            <a:r>
              <a:rPr b="1" lang="zh-TW" sz="2500" spc="-1" strike="noStrike">
                <a:solidFill>
                  <a:srgbClr val="ccecff"/>
                </a:solidFill>
                <a:latin typeface="Times New Roman"/>
              </a:rPr>
              <a:t>媒體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自己進行的調查獲較大篇幅報導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第五節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解讀媒體報告 － 掌握民意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2514600"/>
            <a:ext cx="76197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MRSHK Project” </a:t>
            </a: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的初步結果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“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基本資料報導” 的原則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研究日期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 19 - 25/8/2002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第五節 完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第六節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民意研究的展望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2514600"/>
            <a:ext cx="76197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香港民意專業守則初擬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香港大學民意研究計劃網址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國際展望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自由討論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第六節 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簡介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請填寫問卷一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您對以下三 “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R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”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有何聯想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?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總結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請填寫問卷二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同時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請緊記三“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I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”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form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tegrit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762120"/>
            <a:ext cx="8077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總結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2057400"/>
            <a:ext cx="373356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nformation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-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科學化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公正持平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-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真實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全面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-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充滿學問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2209680"/>
            <a:ext cx="4496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ntegrity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-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合乎道德標準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專業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- “honesty is the best policy”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14600" y="4343400"/>
            <a:ext cx="457200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”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主動權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ccffff"/>
                </a:solidFill>
                <a:uFillTx/>
                <a:latin typeface="Times New Roman"/>
              </a:rPr>
              <a:t>獨特性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1752480"/>
            <a:ext cx="7543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工作坊 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謝謝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簡介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請填寫問卷一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您對以下三 “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R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”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有何聯想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?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prioritise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organis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enginee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簡介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請填寫問卷一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您對以下三 “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R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”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有何聯想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?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ading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’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it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’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ithmetic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簡介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請填寫問卷一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您對以下三 “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R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”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有何聯想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?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onald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ivald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onaldinh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簡介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財政司司長梁錦松提醒本港公務員‚ 要建立一個符合成本效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益的政府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,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先要學會三 “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R”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的原則…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..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“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我們必須重新考慮資源分配的優先次序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(re-prioritize),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以確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 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保投放資源的服務為社會上普羅大眾要求及所需。另外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,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政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 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府內部架構亦應重組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(re-organize),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盡量善用私營機構去配合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 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政策和運作上的要求。除此之外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,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更要重新設計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(re-engineer)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 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公營機構的架構和運作模式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,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避免在工序上出現重覆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,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務求能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 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以恰當的技術去取得最大的成效</a:t>
            </a:r>
            <a:r>
              <a:rPr b="1" lang="zh-TW" sz="2200" spc="-1" strike="noStrike">
                <a:solidFill>
                  <a:srgbClr val="ccffff"/>
                </a:solidFill>
                <a:latin typeface="新細明體"/>
                <a:ea typeface="新細明體"/>
              </a:rPr>
              <a:t>。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”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簡介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20968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以下為三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I”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 -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33526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簡介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20968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以下為三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I”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 -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33526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form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tegrit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8-17T04:11:58Z</dcterms:modified>
  <cp:revision>623</cp:revision>
  <dc:subject/>
  <dc:title>無投影片標題</dc:title>
</cp:coreProperties>
</file>