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64DFC5-AE75-422E-9353-02B3F68CC95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963-B7AA-4B0E-98C7-5456E673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894-4816-4154-98B0-CF804AE9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4C3-9DE0-4F62-82F0-18E2444E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4D1-666E-4195-BD04-F388924D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837C-3B99-4C5D-9936-1D94A342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852E-C357-4EDD-8C67-B7806DA3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8523-B09E-405D-A5C4-ABE94A27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2B5F-4D0D-47C5-A972-35A170BE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6476-AD8A-43BC-B56F-398ECDBF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1880-6FD6-453B-AA3D-207A4C7A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F973-2924-4F73-AD3A-2BEB3C8A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96C-2BF0-4940-8BF6-6E6C35F7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8015-3DA9-452A-AA81-5E2E4463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B34D-507B-4CB7-AE76-22ED2215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D3A0-FD4C-4AF2-B21C-BB016E18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60AB-B6ED-4472-917A-15477AF3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A9F1-DC05-4A31-A2D9-EE39A1F2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E18-3DF3-4413-8F3B-B4F4C52E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D5C-637E-40D4-B222-5290474A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655-84D1-4293-9AC8-837DEFD7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98A-6C29-4A9C-A84E-96900245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6D9-EA7D-4114-92D1-45E7F628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4FE-D4EA-4CFE-8DC5-0863E5D0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877-AB32-425B-8471-5311754E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67C7-DB61-4E8A-B920-078533BAB0DA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9DA5-1BD5-46C3-B4A0-1295ABD899D3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e Shiu and the Two Cities Projects 200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李韶社會經濟考察及雙城考察計劃</a:t>
            </a: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2002</a:t>
            </a:r>
            <a:br>
              <a:rPr sz="2800"/>
            </a:br>
            <a:br>
              <a:rPr sz="32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JECT  MANAGEMENT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如何策劃研究計劃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5720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/6/2002, 1830-2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methods of data collec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21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22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1: Introduction to the basic concepts of social research and project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2: Small group discussions on three sample study top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3: Short presentation by particip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4: A sample presentation session by the spea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immerman, D.E. and Muraski, M.L. (1995). The Elements of Information Gathering. Arizona: Oryx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ido, J. (1985). An Introduction to Project Planning, 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ed. New York: Industrial Pres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ewis, J.P. (1995). Project Planning, Scheduling &amp; Control, revised ed. New York: McGraw-Hil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Babbie, E.R. (1990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Survey Research Methods,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d. California: Wadswor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wo survey questions for the class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zil is playing against Belgium in the World Cup tonight. Would you prefer to be kept abreast of the scores, or would you prefer not to know anything about i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the end of the first 90 minutes, what do you guess would be the result of the scor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Z &gt; BG+3;  BZ = BG+3; BZ = BG+2; BZ = BG+1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Z = BG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G &gt; BZ+3;  BG = BZ+3; BG = BZ+2; BG = BZ+1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re any academic/intellectual value in this stu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class survey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zil is playing against Belgium in the World Cup tonight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3% preferred to be kept abreast of the scores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7% preferred not to know anything about i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 = 7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ess of results at the end of the first 90 minutes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&gt; BG+3 (2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3 (9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2 (68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1 (15%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 (3%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G &gt; BZ (3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 = 6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ur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live with some hospital patients for two days, what do you like to observ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development of bio-technology industries in Hong Kong, how would you conduct your library researc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17T04:44:19Z</dcterms:modified>
  <cp:revision>83</cp:revision>
  <dc:subject/>
  <dc:title>Project Overview</dc:title>
</cp:coreProperties>
</file>