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0CB-3456-4B6C-876F-5560A208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CDC-9FEF-4BCB-A22E-6FC0E60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B89-86BA-46F5-A08D-ADA3B1D9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15D-174C-40AD-92B9-397162E2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05-8822-4214-89C4-1B91FFC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A07-E1F7-4783-9B39-BB1BF2B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0A1-9A12-4FED-801F-12A40FC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26D-0C71-4B54-935C-616FC99A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180-297C-499E-9540-CA2F3AD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7F6-6A06-4646-8BD1-BFFA935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6A6-0F46-4AE6-9DD1-7EA5AF0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951-1FA1-4A09-BDE3-921EA38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6435-E79F-465A-B25A-19745858CFEF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Work Life Balance Survey of th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ong Kong Working Population 2006</a:t>
            </a:r>
            <a:r>
              <a:rPr b="0" lang="en-US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Dr Robert T. Y. Chung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8 October 2006</a:t>
            </a:r>
            <a:r>
              <a:rPr b="0" i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br>
              <a:rPr sz="3200"/>
            </a:br>
            <a:br>
              <a:rPr sz="3200"/>
            </a:br>
            <a:r>
              <a:rPr b="0" i="1" lang="en-US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Everything in this publication is the work of individual researchers, and does not represent the stand of the </a:t>
            </a:r>
            <a:br>
              <a:rPr sz="1400"/>
            </a:br>
            <a:r>
              <a:rPr b="0" i="1" lang="en-US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niversity of Hong Kong. Dr Robert Chung is fully responsible for the work of the POP.</a:t>
            </a:r>
            <a:r>
              <a:rPr b="0" i="1" lang="en-US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br>
              <a:rPr sz="2000"/>
            </a:b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Take last month as an example, how often do you have over-time work for your full time job?</a:t>
            </a:r>
            <a:r>
              <a:rPr b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7440" y="61722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6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1754280"/>
          <a:ext cx="701028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4280"/>
                    <a:ext cx="70102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How many days of paid annual leave(s) or paid vacation day(s)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per yea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are you ENTITLED to at your workplace for your full time job?</a:t>
            </a:r>
            <a:r>
              <a:rPr b="1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6095880"/>
            <a:ext cx="19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2133720"/>
          <a:ext cx="792468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924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486400" y="2057400"/>
          <a:ext cx="3505320" cy="65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057400"/>
                    <a:ext cx="35053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5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Times New Roman"/>
              </a:rPr>
              <a:t>Satisfaction with Work and Life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7162920" cy="27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4401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CAP: PREFERRED vs ACTUAL rati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between working and private ti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2895480"/>
          <a:ext cx="7924680" cy="30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92468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2209680"/>
            <a:ext cx="7924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o what extent do you think your current routine full time work and private life are balanced?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6095880"/>
            <a:ext cx="16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603440"/>
          <a:ext cx="7391520" cy="43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3440"/>
                    <a:ext cx="739152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3808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Has your work life balance become better, worse or remained unchanged as compared with last year?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4800" y="60199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9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676520"/>
          <a:ext cx="7620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620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3808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71800" y="1066680"/>
            <a:ext cx="3276720" cy="2286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2895480"/>
            <a:ext cx="3505320" cy="2362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124080"/>
            <a:ext cx="3276720" cy="22860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038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PMingLiU"/>
              </a:rPr>
              <a:t>Achievement of WLB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8288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PMingLiU"/>
              </a:rPr>
              <a:t>Workplace’s effort paid to promote WLB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78240" y="3809880"/>
            <a:ext cx="28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PMingLiU"/>
              </a:rPr>
              <a:t>Control over one’s WLB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304920"/>
          <a:ext cx="807732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80773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09480" y="5105520"/>
          <a:ext cx="5791320" cy="145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105520"/>
                    <a:ext cx="579132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5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Times New Roman"/>
              </a:rPr>
              <a:t>Problems Facing in terms of Work-Life Balance and Desired Solutions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7162920" cy="27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00528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What do you usually do to reduce your stress level when you face a problem at your workplace?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rtial list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4800" y="6095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6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371600"/>
          <a:ext cx="762012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62012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14400" y="1143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is the most important thing you would like to see change in your own private life?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4800" y="6095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18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523880"/>
          <a:ext cx="79246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5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Outli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Research Background and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Research Finding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pondents’ Work and Living Pattern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atisfaction with Work and Life and Importance of Work-Life Balance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roblems Facing in terms of Work-Life Balance and Desired Solution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Conclud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Five-day work week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2133720"/>
          <a:ext cx="7467480" cy="3809880"/>
        </p:xfrm>
        <a:graphic>
          <a:graphicData uri="http://schemas.openxmlformats.org/drawingml/2006/table">
            <a:tbl>
              <a:tblPr/>
              <a:tblGrid>
                <a:gridCol w="5791320"/>
                <a:gridCol w="1676160"/>
              </a:tblGrid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Cited by respondents as the most desirable WLB measur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32.4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Company adopting 5-day wee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28.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Company considering to adopt 5-day wee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9.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Company not adopting 5-day wee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60.7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83808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is is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 very representative survey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of full time workers in Hong Kong, down to error margins of a few percentage points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orking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vertime has become a common phenomenon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among our working population. Exclude the self-employed, the labour force on average is working at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8% in excess of their contractual hours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. Approximately 8% reported they did not enjoy the 7 days annual pay leaves which is part of their legal rights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ersonal time and leisure activities are luxuries. While the ideal ratio of work-life balance in terms of activity hours is about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60:40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, the actual ratio is only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85:15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, and the efforts spent by their employers is rated as unsatisfactory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But Hong Kong workers have got used to the situation, and complaints are rarely heard.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usiness leaders should be the driving force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to improve the situat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219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32% of the working population wished to have “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5-day work week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”, 22% wished for “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flexible working hours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”, together constitute over half of our labour forc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The introduction of 5-day work week fits well with people’s expectation, but this survey conducted between 17 July and 9 August shows that more than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60%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of the employers (which may overlap with one another) have </a:t>
            </a:r>
            <a:r>
              <a:rPr b="1" lang="en-US" sz="2000" spc="-1" strike="noStrike" u="sng">
                <a:solidFill>
                  <a:srgbClr val="ccecff"/>
                </a:solidFill>
                <a:uFillTx/>
                <a:latin typeface="Times New Roman"/>
                <a:ea typeface="Arial Unicode MS"/>
              </a:rPr>
              <a:t>not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taken any move along this direction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-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To sum up, the work-life balance of Hong Kong’s work force is far from satisfactory, but the workers are complacent.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Academics, economists and business leaders should move ahead of public opinion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in this regard, to study and discuss the benefits of work-life balance to individuals, corporations and society as a whol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7a5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Times New Roman"/>
                <a:ea typeface="標楷體"/>
              </a:rPr>
              <a:t>End of presentation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Please visit 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5760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505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Background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O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jective: To gauge the current status of work-life balance in Hong Ko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project by Community Business Limited and HKUPOP in fulfilling their corporate and civil responsibiliti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P consulted Community Business in designing the questionnaire; POP enjoys full autonomy in doing the survey; POP takes full responsibility for all finding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Desig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371600"/>
            <a:ext cx="7619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Date of interview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17 July to 9 August 2006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Sample siz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,519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f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ime worker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 of ag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 or above, including Cantonese, English and Mandarin speak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Survey metho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Random telephone survey conducted by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interviewers under close supervisio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PMingLiU"/>
              </a:rPr>
              <a:t>Telephone number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Random number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 drawn from residential directories, plus another set of numbers generated by “plus/minus one/two”, in order to capture unlisted numb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143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Desig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4479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PMingLiU"/>
              </a:rPr>
              <a:t>Birthday ru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When contact was established with a target household, on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full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ime worker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 of ag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 or abov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was selected. If more than one subject are available, one was selected using the “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PMingLiU"/>
              </a:rPr>
              <a:t>next birthday rule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PMingLiU"/>
              </a:rPr>
              <a:t>”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Response figur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Effective response rate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61.9%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; Sampling error = not more tha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lus/minus 2.6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percentage points at 95% confidence leve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Bolster samples not necessar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Distribution between white vs blue collars was roughly 70:30, procedures fo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bolster sampling not triggere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143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5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Times New Roman"/>
              </a:rPr>
              <a:t>Respondents’ Work and Living Pattern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94600" y="3809880"/>
            <a:ext cx="2133360" cy="233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716292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How many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hours a wee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are you REQUIRED to work for your full time job, according to your employment contract?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v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Take last month as an example, how many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hours a wee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do you ACTUALLY work on average for your full time job?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2209680"/>
          <a:ext cx="8305560" cy="43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0556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95680" y="3657600"/>
          <a:ext cx="449604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57600"/>
                    <a:ext cx="44960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ake last month as an example, how many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hours a week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o you ACTUALLY spend on doing some personal o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rivate activities, like meeting friends and engaging in activities for leisure such as sports and traveling?</a:t>
            </a:r>
            <a:r>
              <a:rPr b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PMingLiU"/>
              </a:rPr>
              <a:t>Base = 1,507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2133720"/>
          <a:ext cx="79246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924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76720" y="3124080"/>
          <a:ext cx="5638680" cy="70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124080"/>
                    <a:ext cx="56386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REFERRED but REALISTIC rati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v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ACTUAL ratio between working time and time on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ersonal or private activities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828800"/>
          <a:ext cx="847404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474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81280" y="5410080"/>
          <a:ext cx="5410440" cy="98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410080"/>
                    <a:ext cx="5410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5562720"/>
            <a:ext cx="29718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Ratio adds up to 100%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0:28:41Z</dcterms:created>
  <dc:creator>winnie</dc:creator>
  <dc:description/>
  <dc:language>en-US</dc:language>
  <cp:lastModifiedBy>HKUPOP</cp:lastModifiedBy>
  <dcterms:modified xsi:type="dcterms:W3CDTF">2006-10-19T03:54:05Z</dcterms:modified>
  <cp:revision>22</cp:revision>
  <dc:subject/>
  <dc:title>The State of Work-Life Balance in Hong Kong 2006</dc:title>
</cp:coreProperties>
</file>