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C298E0-8135-4298-8467-72A4C94D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D0662F-A800-45B3-948C-A30933DDBBA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4CA2B5-1776-4439-BAA6-39566327B5D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48DCB9-A6A4-423D-A57D-D7F26490780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D7C521-7682-4489-A942-319D29EC8C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27B915-6E4D-4E7A-BF01-56980E967BF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693027-633E-4AF9-A17C-E6051D5FCE7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0271E3-3E73-490C-B8A6-D49BE23F93D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9B9E93-1572-4BD0-A43E-A22D4D1726E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932853-85E2-433E-A8BB-E2B649A3C2A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0D5CF7-2849-4B1A-94B2-AE6DE72B1DF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84B-BAE7-4794-8046-FB63F20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71D-934E-4AF4-97D6-9E77AFE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55C-9B51-446A-9859-441EA998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F9C-DC1B-4757-B520-6315045B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6CD-77CD-47B6-AA6F-0B438C7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312-8E7C-4D68-ADF6-C96FF54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E20-C021-463A-9B00-486FB328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8BA-5FBA-4868-90F8-F515238A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268-C5F2-4C30-A24E-B58BB72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F65-5A41-4791-B696-6015360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7F3-B0A5-42B9-8AC3-7AD11256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C19-CE32-4FB8-9BD1-8BC52B6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5245-CF24-45AC-88E8-89068A97B46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035" descr="C:\Documents and Settings\frank\Desktop\index_01.jpg"/>
          <p:cNvPicPr/>
          <p:nvPr/>
        </p:nvPicPr>
        <p:blipFill>
          <a:blip r:embed="rId2"/>
          <a:stretch/>
        </p:blipFill>
        <p:spPr>
          <a:xfrm>
            <a:off x="7391520" y="152280"/>
            <a:ext cx="1504800" cy="36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Object 20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52"/>
          <p:cNvSpPr/>
          <p:nvPr/>
        </p:nvSpPr>
        <p:spPr>
          <a:xfrm>
            <a:off x="2286000" y="112716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6" name="Object 2053"/>
          <p:cNvGraphicFramePr/>
          <p:nvPr/>
        </p:nvGraphicFramePr>
        <p:xfrm>
          <a:off x="1407960" y="1143000"/>
          <a:ext cx="8780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7960" y="11430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灣仔區市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人生中期健康意見調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2" name="Picture 9" descr="C:\Documents and Settings\frank\Desktop\index_01.jpg"/>
          <p:cNvPicPr/>
          <p:nvPr/>
        </p:nvPicPr>
        <p:blipFill>
          <a:blip r:embed="rId4"/>
          <a:stretch/>
        </p:blipFill>
        <p:spPr>
          <a:xfrm>
            <a:off x="5638680" y="1284120"/>
            <a:ext cx="2571840" cy="62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c]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身體變差既人士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係咩原因令你既健康狀況變差左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7" name="圖表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268360" y="1341360"/>
            <a:ext cx="64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以下既疾病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4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次序由電腦隨機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2276640"/>
          <a:ext cx="7777440" cy="2679480"/>
        </p:xfrm>
        <a:graphic>
          <a:graphicData uri="http://schemas.openxmlformats.org/drawingml/2006/table">
            <a:tbl>
              <a:tblPr/>
              <a:tblGrid>
                <a:gridCol w="2589480"/>
                <a:gridCol w="1728720"/>
                <a:gridCol w="1728720"/>
                <a:gridCol w="17305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居住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85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流動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59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加權樣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傷風／感冒／咳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281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頭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281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肚痛／胃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281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關節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文字方塊 5"/>
          <p:cNvSpPr/>
          <p:nvPr/>
        </p:nvSpPr>
        <p:spPr>
          <a:xfrm>
            <a:off x="826920" y="17524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於過去一年出現不同徵狀的比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b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關節痛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9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2843280" y="1341360"/>
            <a:ext cx="158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b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關節痛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98" name="文字方塊 3"/>
          <p:cNvSpPr/>
          <p:nvPr/>
        </p:nvSpPr>
        <p:spPr>
          <a:xfrm>
            <a:off x="900000" y="669960"/>
            <a:ext cx="57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916360" y="1341360"/>
            <a:ext cx="1511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傷風／感冒／咳嗽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02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傷風／感冒／咳嗽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993080" cy="5111640"/>
          </a:xfrm>
          <a:prstGeom prst="rect">
            <a:avLst/>
          </a:prstGeom>
          <a:ln w="0">
            <a:noFill/>
          </a:ln>
        </p:spPr>
      </p:pic>
      <p:sp>
        <p:nvSpPr>
          <p:cNvPr id="106" name="文字方塊 3"/>
          <p:cNvSpPr/>
          <p:nvPr/>
        </p:nvSpPr>
        <p:spPr>
          <a:xfrm>
            <a:off x="99072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在職／非在職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傷風／感冒／咳嗽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10" name="文字方塊 3"/>
          <p:cNvSpPr/>
          <p:nvPr/>
        </p:nvSpPr>
        <p:spPr>
          <a:xfrm>
            <a:off x="900000" y="669960"/>
            <a:ext cx="58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而家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或徵狀需要長期覆診食藥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圖表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692360" y="1268280"/>
            <a:ext cx="1079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而家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或徵狀需要長期覆診食藥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17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90800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而家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或徵狀需要長期覆診食藥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21" name="文字方塊 3"/>
          <p:cNvSpPr/>
          <p:nvPr/>
        </p:nvSpPr>
        <p:spPr>
          <a:xfrm>
            <a:off x="900000" y="669960"/>
            <a:ext cx="557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1835280" y="1341360"/>
            <a:ext cx="1657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9720" y="1143000"/>
            <a:ext cx="7915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85920" y="1989000"/>
            <a:ext cx="7020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探討灣仔區市民的生理及心理健康狀況、他們的飲食習慣以及對灣仔社區環境的意見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：電話調查，另以面訪調查作為輔助分析。本簡報主要針對電話調查之結果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浸會愛羣社會服務處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5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過去一星期計，你身體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成日有痛楚？有既話，咁係咩地方痛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圖表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3"/>
          <p:cNvSpPr/>
          <p:nvPr/>
        </p:nvSpPr>
        <p:spPr>
          <a:xfrm>
            <a:off x="2050920" y="1341360"/>
            <a:ext cx="72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6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以過去一星期計，你有冇失眠或者其他睡眠既問題？有既話，呢個問題有幾經常發生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7" name="圖表 3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矩形 3"/>
          <p:cNvSpPr/>
          <p:nvPr/>
        </p:nvSpPr>
        <p:spPr>
          <a:xfrm>
            <a:off x="1619280" y="1268280"/>
            <a:ext cx="115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生中期生活習慣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你有冇試過因為唔舒服而要睇醫生，請包括西醫、中醫及跌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你總共睇過幾多次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圖表 9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516720" y="3087720"/>
            <a:ext cx="2100240" cy="10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72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46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3276720" y="1268280"/>
            <a:ext cx="12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你有冇試過因為唔舒服而要睇醫生，請包括西醫、中醫及跌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你總共睇過幾多次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36" name="文字方塊 3"/>
          <p:cNvSpPr/>
          <p:nvPr/>
        </p:nvSpPr>
        <p:spPr>
          <a:xfrm>
            <a:off x="900000" y="669960"/>
            <a:ext cx="51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性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203640" y="1341360"/>
            <a:ext cx="1655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通常一星期會有幾多小時做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小時當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計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圖表 10" descr=""/>
          <p:cNvPicPr/>
          <p:nvPr/>
        </p:nvPicPr>
        <p:blipFill>
          <a:blip r:embed="rId1"/>
          <a:srcRect l="0" t="0" r="0" b="-21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372360" y="3068640"/>
            <a:ext cx="2315880" cy="11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3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小時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小時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2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1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小時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6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987640" y="1197000"/>
            <a:ext cx="100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通常一星期會有幾多小時做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小時當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計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4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248436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通常一星期會有幾多小時做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小時當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計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48" name="文字方塊 3"/>
          <p:cNvSpPr/>
          <p:nvPr/>
        </p:nvSpPr>
        <p:spPr>
          <a:xfrm>
            <a:off x="900000" y="669960"/>
            <a:ext cx="59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2484360" y="126828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有做運動既被訪者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通常會做咩類型既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圖表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52" name="矩形 3"/>
          <p:cNvSpPr/>
          <p:nvPr/>
        </p:nvSpPr>
        <p:spPr>
          <a:xfrm>
            <a:off x="2050920" y="1268280"/>
            <a:ext cx="72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圖表 7" descr=""/>
          <p:cNvPicPr/>
          <p:nvPr/>
        </p:nvPicPr>
        <p:blipFill>
          <a:blip r:embed="rId1"/>
          <a:srcRect l="0" t="0" r="0" b="-85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940360" y="3141720"/>
            <a:ext cx="20782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3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76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5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438280" y="1219320"/>
            <a:ext cx="16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587760" y="126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外出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電話調查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566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、操粵語，並於灣仔居住或上班上學的人士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包括居住及流動人口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0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，當中包括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8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居民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流動人士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為雙重身份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9.8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4.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60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212400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6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68" name="文字方塊 3"/>
          <p:cNvSpPr/>
          <p:nvPr/>
        </p:nvSpPr>
        <p:spPr>
          <a:xfrm>
            <a:off x="900000" y="669960"/>
            <a:ext cx="73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– 在職／非在職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72" name="文字方塊 3"/>
          <p:cNvSpPr/>
          <p:nvPr/>
        </p:nvSpPr>
        <p:spPr>
          <a:xfrm>
            <a:off x="900000" y="669960"/>
            <a:ext cx="51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性別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76" name="文字方塊 3"/>
          <p:cNvSpPr/>
          <p:nvPr/>
        </p:nvSpPr>
        <p:spPr>
          <a:xfrm>
            <a:off x="900000" y="669960"/>
            <a:ext cx="66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在職／非在職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95640" y="1341360"/>
            <a:ext cx="1655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有冇吸煙既習慣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每日通常會食幾多枝煙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註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包煙有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枝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圖表 9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058080" y="3573360"/>
            <a:ext cx="2114280" cy="112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有吸煙習慣者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1.1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0.5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枝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3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1.4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枝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3132000" y="126828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一星期平均會飲幾多杯有酒精成份既飲品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杯大概以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0ml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包飲品計算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圖表 1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5986440" y="3141720"/>
            <a:ext cx="2185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有飲酒習慣者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6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杯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杯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57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5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杯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71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2627280" y="126828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生中期心理健康 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3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跟住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，你而家既生活有幾開心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之唔開心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之開心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圖表 10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6207120" y="1844640"/>
            <a:ext cx="2109960" cy="10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5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9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2771640" y="1197000"/>
            <a:ext cx="16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字方塊 2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過去一星期，你有冇試過感到精神緊張或情緒低落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既話，呢個問題有幾經常發生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圖表 13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93" name="矩形 3"/>
          <p:cNvSpPr/>
          <p:nvPr/>
        </p:nvSpPr>
        <p:spPr>
          <a:xfrm>
            <a:off x="1763640" y="1268280"/>
            <a:ext cx="12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492280"/>
            <a:ext cx="785808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生中期身體健康狀況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5]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回答「完全冇呢個問題」既被訪者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係咩原因令你精神緊張或情緒低落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圖表 1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96" name="矩形 3"/>
          <p:cNvSpPr/>
          <p:nvPr/>
        </p:nvSpPr>
        <p:spPr>
          <a:xfrm>
            <a:off x="1547640" y="1268280"/>
            <a:ext cx="1152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6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感到壓力，你通常會點樣舒緩自己既情緒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圖表 18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99" name="矩形 3"/>
          <p:cNvSpPr/>
          <p:nvPr/>
        </p:nvSpPr>
        <p:spPr>
          <a:xfrm>
            <a:off x="2700360" y="119700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7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你有冇試過因為情緒問題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.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3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次序由電腦隨機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00000" y="2276640"/>
          <a:ext cx="7775640" cy="2066760"/>
        </p:xfrm>
        <a:graphic>
          <a:graphicData uri="http://schemas.openxmlformats.org/drawingml/2006/table">
            <a:tbl>
              <a:tblPr/>
              <a:tblGrid>
                <a:gridCol w="2592360"/>
                <a:gridCol w="1656000"/>
                <a:gridCol w="1800000"/>
                <a:gridCol w="172728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居住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85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流動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58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加權樣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工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日常生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交生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文字方塊 3"/>
          <p:cNvSpPr/>
          <p:nvPr/>
        </p:nvSpPr>
        <p:spPr>
          <a:xfrm>
            <a:off x="826920" y="1752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因情緒問題而影響其工作／日常生活／社交的百分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灣仔社區環境的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滿意程度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以下各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7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2133720"/>
          <a:ext cx="7848720" cy="3443040"/>
        </p:xfrm>
        <a:graphic>
          <a:graphicData uri="http://schemas.openxmlformats.org/drawingml/2006/table">
            <a:tbl>
              <a:tblPr/>
              <a:tblGrid>
                <a:gridCol w="2703600"/>
                <a:gridCol w="1714680"/>
                <a:gridCol w="1714320"/>
                <a:gridCol w="171612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居住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85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流動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58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加權樣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治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交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6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醫療服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文娛康樂設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服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4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質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文字方塊 3"/>
          <p:cNvSpPr/>
          <p:nvPr/>
        </p:nvSpPr>
        <p:spPr>
          <a:xfrm>
            <a:off x="826920" y="160020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對灣仔七個範疇的滿意程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交通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09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2627280" y="1341360"/>
            <a:ext cx="1728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e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醫療服務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13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26836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d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教育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17" name="文字方塊 3"/>
          <p:cNvSpPr/>
          <p:nvPr/>
        </p:nvSpPr>
        <p:spPr>
          <a:xfrm>
            <a:off x="900000" y="669960"/>
            <a:ext cx="64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在職／非在職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262728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g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社會服務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21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226836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9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灣仔區有邊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方面最需要改善，而改善咗就可以提升你既生活質素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最多可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4" name="圖表 19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25" name="矩形 3"/>
          <p:cNvSpPr/>
          <p:nvPr/>
        </p:nvSpPr>
        <p:spPr>
          <a:xfrm>
            <a:off x="2627280" y="1197000"/>
            <a:ext cx="1297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圖表 1" descr=""/>
          <p:cNvPicPr/>
          <p:nvPr/>
        </p:nvPicPr>
        <p:blipFill>
          <a:blip r:embed="rId1"/>
          <a:srcRect l="0" t="0" r="0" b="-34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文字方塊 6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自己而家既健康狀況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差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好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6227640" y="1773360"/>
            <a:ext cx="20894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4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9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2771640" y="1268280"/>
            <a:ext cx="79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未來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，你有冇打算搬離灣仔或者唔再係灣仔返工／返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圖表 15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228" name="矩形 3"/>
          <p:cNvSpPr/>
          <p:nvPr/>
        </p:nvSpPr>
        <p:spPr>
          <a:xfrm>
            <a:off x="1619280" y="1341360"/>
            <a:ext cx="115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280" y="1052280"/>
            <a:ext cx="753912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1258920" y="2574000"/>
            <a:ext cx="734544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對自己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健康的平均評分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6.9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分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年紀越大，評分越低。接近七成表示過去一星期沒有失眠或其他睡眠問題；逾五成半表示身體未有任何痛楚。兩成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運動的習慣，而運動人士平均每星期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，當中又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-6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的居民運動最多，平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心理健康方面，被訪者的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開心指數平均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6.8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分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超過半數表示過去一星期沒有感到精神緊張或情緒低落，大多數表示過去一年沒有因為情緒問題而影響其工作、日常生活或社交生活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環境方面，少於三成滿意灣仔的「環境質素」，不足四成滿意區內的「社會服務」和「文娛康樂設施」，而流動人口對各個項目的滿意程度，全部低於居住人口。被訪者認為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首要改善的地方均與環境質素有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例如「空氣質素」、「人口密度過高」、「交通擠塞」和「街道清潔」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表 1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7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自己而家既健康狀況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差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好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2340000" y="1341360"/>
            <a:ext cx="13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字方塊 7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自己而家既健康狀況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差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好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7" name="圖表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78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1979640" y="1341360"/>
            <a:ext cx="136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字方塊 6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a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比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前，你覺得你既健康狀況係好左、差左，定係冇變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1" name="圖表 1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82" name="矩形 3"/>
          <p:cNvSpPr/>
          <p:nvPr/>
        </p:nvSpPr>
        <p:spPr>
          <a:xfrm>
            <a:off x="3851280" y="1341360"/>
            <a:ext cx="720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b]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身體變好既人士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係咩原因令你既健康狀況改善左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4" name="圖表 1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1835280" y="1341360"/>
            <a:ext cx="720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Valued Acer Customer</cp:lastModifiedBy>
  <cp:lastPrinted>2001-04-04T10:00:24Z</cp:lastPrinted>
  <dcterms:modified xsi:type="dcterms:W3CDTF">2010-12-16T17:28:19Z</dcterms:modified>
  <cp:revision>1633</cp:revision>
  <dc:subject/>
  <dc:title>無投影片標題</dc:title>
</cp:coreProperties>
</file>