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F6026E-E9A6-4063-B5D5-DFD6863FB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8EE760-E786-419A-B104-6AEC9131D32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35A37C-031F-46FF-B452-4E91AD26C08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D10945-A757-4E96-B428-D470DB3789C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E66208-28BB-4529-B8F0-889CFF8BD19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794D02-A476-4096-AB9C-0484096BC4C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154AED-3B35-4113-B433-4C8676E5531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76BEAA-504C-4144-8DFC-77724287DA6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D8BE0A-6FB8-47C7-99BD-4584B4F004F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506DC9-F620-48D5-88E4-A6D9A91EF05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79605C-E960-4DF2-9A9D-3D1203BA1EE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AF7D93-622D-4504-A66C-52C6EACB16E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CAA3AB-D756-4972-8A78-BE6B2151424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2FCB7E-E24F-45FE-8F89-12220CDECA2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5477DF-6FD2-4CCB-9BD3-5249485D47C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10CBEF-B4CF-49C7-91C6-0024F82068D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74DA87-FDCE-4AA0-B40C-7D452B42B0B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C32BE4-E074-4702-A765-E0B119004CF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616E2B-1AF1-49D5-BEAB-89D58E90ABE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969CF2-B7BB-44A7-BE8C-52F3163775E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9AE267-9AA1-4E02-BA5B-9579468DD63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735B64-42F9-4DA5-A8B2-2B7A3C81306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07E5F8-E689-4C33-9956-E50B76E1EA2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12B-0FB4-4684-8C64-51C67CD1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F29-8261-45ED-9263-F234BB6D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013-F963-416A-B173-12FA6A61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E64-7C2B-41C7-BB6B-CBB1DC11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A6C-8EFE-4232-9A58-E6A0ED89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002-1C93-400D-83C3-AE263EB0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B52-21E6-4356-8841-0AC344CC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876-C18D-42FE-9ACF-2E7A556B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130-827C-47C1-BB08-99E294A1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ABD-59A3-4E7F-A94A-BEB38FF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E1E-BAB3-407D-AA22-BFCD512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6A4-63A0-41C5-B3F1-57589F3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9850-B241-4411-BBDA-2F4F9A360DCC}" type="datetime">
              <a:rPr b="0" lang="zh-TW" sz="1400" spc="-1" strike="noStrike">
                <a:solidFill>
                  <a:srgbClr val="003366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D57D-4C7B-4376-B25C-2BED4B5FEF8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Object 2053"/>
          <p:cNvGraphicFramePr/>
          <p:nvPr/>
        </p:nvGraphicFramePr>
        <p:xfrm>
          <a:off x="304920" y="152280"/>
          <a:ext cx="4395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20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280"/>
                    <a:ext cx="439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Text Box 15"/>
          <p:cNvSpPr/>
          <p:nvPr/>
        </p:nvSpPr>
        <p:spPr>
          <a:xfrm>
            <a:off x="4643280" y="304920"/>
            <a:ext cx="411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科主任對「課本、教材分拆定價政策」意見調查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" name="Picture 16" descr="actpo"/>
          <p:cNvPicPr/>
          <p:nvPr/>
        </p:nvPicPr>
        <p:blipFill>
          <a:blip r:embed="rId4"/>
          <a:stretch/>
        </p:blipFill>
        <p:spPr>
          <a:xfrm>
            <a:off x="914400" y="152280"/>
            <a:ext cx="533520" cy="4381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7" descr="HKEPA-logo"/>
          <p:cNvPicPr/>
          <p:nvPr/>
        </p:nvPicPr>
        <p:blipFill>
          <a:blip r:embed="rId5"/>
          <a:stretch/>
        </p:blipFill>
        <p:spPr>
          <a:xfrm>
            <a:off x="160020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52"/>
          <p:cNvSpPr/>
          <p:nvPr/>
        </p:nvSpPr>
        <p:spPr>
          <a:xfrm>
            <a:off x="762120" y="18288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8" name="Object 2053"/>
          <p:cNvGraphicFramePr/>
          <p:nvPr/>
        </p:nvGraphicFramePr>
        <p:xfrm>
          <a:off x="1828800" y="914400"/>
          <a:ext cx="8780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878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科主任對「課本、教材分拆定價政策」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意見調查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429000" y="181296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英文教出版事業協會   香港教育出版商會</a:t>
            </a:r>
            <a:r>
              <a:rPr b="1" lang="zh-TW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" name="Picture 13" descr="actpo"/>
          <p:cNvPicPr/>
          <p:nvPr/>
        </p:nvPicPr>
        <p:blipFill>
          <a:blip r:embed="rId3"/>
          <a:stretch/>
        </p:blipFill>
        <p:spPr>
          <a:xfrm>
            <a:off x="4191120" y="81108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KEPA-logo"/>
          <p:cNvPicPr/>
          <p:nvPr/>
        </p:nvPicPr>
        <p:blipFill>
          <a:blip r:embed="rId4"/>
          <a:stretch/>
        </p:blipFill>
        <p:spPr>
          <a:xfrm>
            <a:off x="6697800" y="685800"/>
            <a:ext cx="10746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"/>
          <p:cNvGraphicFramePr/>
          <p:nvPr/>
        </p:nvGraphicFramePr>
        <p:xfrm>
          <a:off x="690480" y="1604880"/>
          <a:ext cx="839016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4880"/>
                    <a:ext cx="839016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D097-23AE-4A54-91A0-6C812DB8CB9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1360" y="747360"/>
            <a:ext cx="7786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可以自由選擇，你認為「課本、教材分拆定價政策」應該何時開始實施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選多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橢圓 4"/>
          <p:cNvSpPr/>
          <p:nvPr/>
        </p:nvSpPr>
        <p:spPr>
          <a:xfrm>
            <a:off x="1258920" y="6353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D6E0-A6A4-43DF-A351-0CA97132C8B6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7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這個政策落實推行時，你預計 貴校是否有足夠財政資源購買分拆後的教材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橢圓 4"/>
          <p:cNvSpPr/>
          <p:nvPr/>
        </p:nvSpPr>
        <p:spPr>
          <a:xfrm>
            <a:off x="3924360" y="1557360"/>
            <a:ext cx="647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橢圓 4"/>
          <p:cNvSpPr/>
          <p:nvPr/>
        </p:nvSpPr>
        <p:spPr>
          <a:xfrm>
            <a:off x="3995640" y="6021360"/>
            <a:ext cx="31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A29E-1A2D-49D9-A2C3-CB3BACF0F48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若果沒有出版社提供的教師用書、作業及工作紙答案、試題庫、多媒體材料等教材，而假設你的教時和工作量不變，你會不會自行製作教材？</a:t>
            </a:r>
            <a:r>
              <a:rPr b="1" lang="zh-TW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192D-416B-4E1E-991E-77659A4D901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9 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撇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不會」者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你會自行製作教材，你會如何比較有關教材與出版商提供的教材？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6B5E-AE43-4CB5-934E-1824A00525F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0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意見認為政府在實施「課本、教材分拆定價政策」的同時，必須具備一套獨立於整筆撥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road grant fund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可持續撥款機制配合。你傾向支持還是反對這個意見？</a:t>
            </a:r>
            <a:r>
              <a:rPr b="1" lang="zh-TW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橢圓 4"/>
          <p:cNvSpPr/>
          <p:nvPr/>
        </p:nvSpPr>
        <p:spPr>
          <a:xfrm>
            <a:off x="2195640" y="6021360"/>
            <a:ext cx="934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CC93-9319-4F87-AE5A-D10C849374F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1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遠而言，你認為「課本、教材分拆定價政策」對教學質素會帶來正面、負面、還是中性影響？</a:t>
            </a:r>
            <a:r>
              <a:rPr b="1" lang="zh-TW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橢圓 4"/>
          <p:cNvSpPr/>
          <p:nvPr/>
        </p:nvSpPr>
        <p:spPr>
          <a:xfrm>
            <a:off x="4932360" y="6021360"/>
            <a:ext cx="934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D4CF-AC0F-48FA-8B1E-2B3E61E4F8E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2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現時由出版商提供的教材對老師的教學有沒有幫助？ 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橢圓 4"/>
          <p:cNvSpPr/>
          <p:nvPr/>
        </p:nvSpPr>
        <p:spPr>
          <a:xfrm>
            <a:off x="2195640" y="6021360"/>
            <a:ext cx="934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橢圓 5"/>
          <p:cNvSpPr/>
          <p:nvPr/>
        </p:nvSpPr>
        <p:spPr>
          <a:xfrm>
            <a:off x="1979640" y="1484280"/>
            <a:ext cx="64944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B856-857B-4EDF-ACE8-EC3D2B016B1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3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現時由出版社代表提供的到校服務，如工作坊，對老師的教學有沒有幫助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橢圓 4"/>
          <p:cNvSpPr/>
          <p:nvPr/>
        </p:nvSpPr>
        <p:spPr>
          <a:xfrm>
            <a:off x="3348000" y="6021360"/>
            <a:ext cx="1368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橢圓 4"/>
          <p:cNvSpPr/>
          <p:nvPr/>
        </p:nvSpPr>
        <p:spPr>
          <a:xfrm>
            <a:off x="1979640" y="3645000"/>
            <a:ext cx="647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1FB0-FD90-4C5C-9D50-1B218FF78B2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765000"/>
            <a:ext cx="77673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4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意見認為出版商可以將教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教師用書、作業及工作紙答案、試題庫、多媒體材料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直接賣給家長，你傾向支持還是反對這個意見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橢圓 4"/>
          <p:cNvSpPr/>
          <p:nvPr/>
        </p:nvSpPr>
        <p:spPr>
          <a:xfrm>
            <a:off x="4932360" y="6021360"/>
            <a:ext cx="934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2057-5E35-4612-A849-A01128D733F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764640"/>
            <a:ext cx="7767360" cy="8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5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現時發放給家長的書簿津貼是否足夠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5ADA-40D7-4538-AB7B-094E1288C0F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4280" y="1214280"/>
            <a:ext cx="7701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28840" y="2276640"/>
            <a:ext cx="7020000" cy="36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了解中、小學學科主任老師對「課本、教材分拆定價政策」的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認識、支持程度和對教學質素影響的評估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兩會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F965-6C79-4660-8BE7-DD2006D3F8F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071360"/>
            <a:ext cx="746748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214280" y="3195000"/>
            <a:ext cx="76248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科主任普遍對「課本、教材分拆定價政策」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認識不多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表示對方案「認識少」或「認識一般」的合計超過九成。同時亦超過九成表示政府就有關政策對學界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諮詢不足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兩者都跟去年針對校長的調查結果相若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超過四成學科主任表示校方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沒有足夠資源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購買分拆後的教材，小學學科主任尤其憂慮。與校長一樣，學科主任普遍要求政府提供一套獨立於整筆撥款的可持續撥款機制，以配合方案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出版社不再提供教材，又假設學科主任的教時和工作量不變，四成表示會自行製作教材，但當中只有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少數表示自製教材可以保持甚至超越現時教材的質素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整體而言，認為「課本、教材分拆定價政策」可以提升教學質素者不足一成，超過四成認為有負面影響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DE47-4391-4801-8E6B-E090091399E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1071360"/>
            <a:ext cx="746748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1258920" y="3062880"/>
            <a:ext cx="72435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就現有教材的評價方面，學科主任普遍認為現時由出版商提供的教材對老師「幫助大」，當中又以小學學科主任的評價最為正面。至於由出版社代表提供的到校服務，過半學科主任的評價為「幫助一般」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過半學科主任認為「課本、教材分拆定價政策」不能達到「用者自付」的原則，超過四分三認為學界沒有足夠時間配合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/1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年推行政策，超過七成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反對出版商把教材直接賣給家長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超過四成希望有關政策會在教育局提出撥款機制後才開始實施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綜合各次調查的結果，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校長、老師和一般家長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意見已經得到反映。至於其他持份者的意見，則有待其他調查研究補足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FB61-0395-41A2-8710-A5BA868241E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68580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3809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84AC-759E-4A38-BDA2-B913E8E72876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3920" y="1773000"/>
            <a:ext cx="736308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160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全港中、小學任職的學科主任，國際學校及特殊學校除外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學的學科包括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中文、英文、數學和綜合科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限初中級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；而小學則包括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中文、英文、數學及常識學科</a:t>
            </a:r>
            <a:r>
              <a:rPr b="0" lang="zh-TW" sz="22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填問卷形式進行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82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小學學科主任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76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初中學科主任及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46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高中學科主任，即共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1,64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應比率：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0.5%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2.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B936-8BAC-4FFA-A475-A1A161D90C0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1720" y="761760"/>
            <a:ext cx="75009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接到本問卷之前，你對教育局建議的「課本、教材分拆定價政策」認識幾多？</a:t>
            </a:r>
            <a:r>
              <a:rPr b="1" lang="zh-TW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橢圓 4"/>
          <p:cNvSpPr/>
          <p:nvPr/>
        </p:nvSpPr>
        <p:spPr>
          <a:xfrm>
            <a:off x="4356000" y="6021360"/>
            <a:ext cx="31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橢圓 8"/>
          <p:cNvSpPr/>
          <p:nvPr/>
        </p:nvSpPr>
        <p:spPr>
          <a:xfrm>
            <a:off x="6095880" y="2438280"/>
            <a:ext cx="648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8AC5-0387-457D-AF40-0D9194BBDD7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2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局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9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發表的「課本及電子學習資源發展專責小組」報告書內建議，將課本、教材和學材分拆定價，即學校和老師必須向出版社購買教師用書、作業及工作紙答案、試題庫、多媒體材料等教材，以達到用者自付的原則。請問你傾向支持還是反對這個建議？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81" name="Object 5"/>
          <p:cNvGraphicFramePr/>
          <p:nvPr/>
        </p:nvGraphicFramePr>
        <p:xfrm>
          <a:off x="1251000" y="1733400"/>
          <a:ext cx="7439040" cy="49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733400"/>
                    <a:ext cx="7439040" cy="49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橢圓 4"/>
          <p:cNvSpPr/>
          <p:nvPr/>
        </p:nvSpPr>
        <p:spPr>
          <a:xfrm>
            <a:off x="4859280" y="6126120"/>
            <a:ext cx="12254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橢圓 5"/>
          <p:cNvSpPr/>
          <p:nvPr/>
        </p:nvSpPr>
        <p:spPr>
          <a:xfrm>
            <a:off x="4716360" y="2087640"/>
            <a:ext cx="647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59F4-423B-4EE5-B3C5-182243D104F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1720" y="761760"/>
            <a:ext cx="75009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論你支持與否，你認為這個政策能否達到「用者自付」的原則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87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橢圓 4"/>
          <p:cNvSpPr/>
          <p:nvPr/>
        </p:nvSpPr>
        <p:spPr>
          <a:xfrm>
            <a:off x="4211640" y="5950080"/>
            <a:ext cx="100800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5E5B-67C7-4988-AC21-D76752768C8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今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，教育局宣佈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/1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年推行「課本、教材分拆定價政策」。請問你認為學界是否有足夠時間作出配合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橢圓 5"/>
          <p:cNvSpPr/>
          <p:nvPr/>
        </p:nvSpPr>
        <p:spPr>
          <a:xfrm>
            <a:off x="4140360" y="5950080"/>
            <a:ext cx="115236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D785-CD23-4DAA-9A38-57DE4EA1E5C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政府就有關政策對學界的諮詢是否足夠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橢圓 4"/>
          <p:cNvSpPr/>
          <p:nvPr/>
        </p:nvSpPr>
        <p:spPr>
          <a:xfrm>
            <a:off x="3276720" y="6021360"/>
            <a:ext cx="3166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A0C1-BE3C-42EE-B677-9DE0F676F33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360" y="747360"/>
            <a:ext cx="7786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可以自由選擇，你認為「課本、教材分拆定價政策」應該何時開始實施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選一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1262160" y="1596960"/>
          <a:ext cx="744372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596960"/>
                    <a:ext cx="744372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11-02-16T13:18:01Z</dcterms:modified>
  <cp:revision>1676</cp:revision>
  <dc:subject/>
  <dc:title>無投影片標題</dc:title>
</cp:coreProperties>
</file>