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-36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88584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E3E737F-9350-4F78-9214-5F8894F74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0610116-D734-4F43-9770-7861AB10995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2EEDE84-28EA-4B84-A770-93AF813703B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410486-A5A0-43C7-A08E-6C583C17A57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99FF2AB-3C4B-4388-9312-0564FD857A8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A9E808A-4DA6-45FA-9B4F-B8C443C1E8C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943111-4F4D-4C7E-B784-0A730F5B021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135DA7A-4FA7-4F6D-993D-EFF8D206C54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4354DC6-0CCD-4942-A1DD-8FEA6AED4F8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4C4439-834E-4014-9AE4-4D8296F6B63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34D0C2-FE66-4EF4-BCA9-C462BD0BACF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07F6261-38BF-41B1-96E0-FE78981FA08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9CD7741-C7EB-4CB8-9451-A7642F06B80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9549064-5315-4848-B174-C9D0A009601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8F4D6F5-185C-4028-9F10-8EAFE42CD15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63D89A4-3AF5-4C12-B8EF-1A0A2E9A707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87601E8-1EEA-4858-ABD3-CEBB0B5C99C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B23E2FD-01D0-4026-8604-AED45AC1E66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FA9BF0-5EEC-4454-95B0-86F8BA61FF6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CC42C1E-B7AD-4402-B9B9-FBCD9E73AD8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6D2D61-2FC4-4DA3-94D1-3FC52BCE33C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E156D9-4A72-4852-A1AD-DF3CE473E0A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7EE6-2829-4034-AFB0-3EA5C0770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AD6C-D70C-4A9C-BCA7-F950F14C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9C42-C4AE-43A4-B0A2-7A926B790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5762-F711-4F5A-8064-74DCCCDB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CF80-1D77-4C72-880E-0C66A0DC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B27A-0848-410E-95EA-086EEFE2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5D7E-4AA8-480A-BF2F-6C525216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C150-8545-4D77-A88E-5C791AF9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C072-9CB3-4E24-96C5-00F986DC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BF8C-DBB0-44C5-84C7-7DCF147F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66A9-9E32-4BE2-9719-5D9D3650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C3DE-D801-4A59-A399-C443A1CB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8D5D-B37E-4044-8C3A-BB80D83A9217}" type="datetime">
              <a:rPr b="0" lang="zh-TW" sz="1400" spc="-1" strike="noStrike">
                <a:solidFill>
                  <a:srgbClr val="003366"/>
                </a:solidFill>
                <a:latin typeface="Arial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1337-697C-4ABD-8A3F-7E8E580F20F1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" name="Object 2053"/>
          <p:cNvGraphicFramePr/>
          <p:nvPr/>
        </p:nvGraphicFramePr>
        <p:xfrm>
          <a:off x="304920" y="152280"/>
          <a:ext cx="43956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Object 205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52280"/>
                    <a:ext cx="439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Text Box 15"/>
          <p:cNvSpPr/>
          <p:nvPr/>
        </p:nvSpPr>
        <p:spPr>
          <a:xfrm>
            <a:off x="5562720" y="3049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中小學校長對課本分拆方案意見調查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" name="Picture 16" descr="actpo"/>
          <p:cNvPicPr/>
          <p:nvPr/>
        </p:nvPicPr>
        <p:blipFill>
          <a:blip r:embed="rId4"/>
          <a:stretch/>
        </p:blipFill>
        <p:spPr>
          <a:xfrm>
            <a:off x="914400" y="152280"/>
            <a:ext cx="533520" cy="43812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17" descr="HKEPA-logo"/>
          <p:cNvPicPr/>
          <p:nvPr/>
        </p:nvPicPr>
        <p:blipFill>
          <a:blip r:embed="rId5"/>
          <a:stretch/>
        </p:blipFill>
        <p:spPr>
          <a:xfrm>
            <a:off x="1600200" y="152280"/>
            <a:ext cx="43020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052"/>
          <p:cNvSpPr/>
          <p:nvPr/>
        </p:nvSpPr>
        <p:spPr>
          <a:xfrm>
            <a:off x="762120" y="182880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大學民意研究計劃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58" name="Object 2053"/>
          <p:cNvGraphicFramePr/>
          <p:nvPr/>
        </p:nvGraphicFramePr>
        <p:xfrm>
          <a:off x="1828800" y="914400"/>
          <a:ext cx="87804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05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14400"/>
                    <a:ext cx="8780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895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中小學校長對課本分拆方案意見調查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Rectangle 2057"/>
          <p:cNvSpPr/>
          <p:nvPr/>
        </p:nvSpPr>
        <p:spPr>
          <a:xfrm>
            <a:off x="762120" y="4643280"/>
            <a:ext cx="784836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鍾庭耀博士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大學 民意研究計劃 總監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Line 2058"/>
          <p:cNvSpPr/>
          <p:nvPr/>
        </p:nvSpPr>
        <p:spPr>
          <a:xfrm>
            <a:off x="1143000" y="2781360"/>
            <a:ext cx="70866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Line 2059"/>
          <p:cNvSpPr/>
          <p:nvPr/>
        </p:nvSpPr>
        <p:spPr>
          <a:xfrm>
            <a:off x="1143000" y="4149720"/>
            <a:ext cx="70866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3429000" y="181296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中英文教出版事業協會   香港教育出版商會</a:t>
            </a:r>
            <a:r>
              <a:rPr b="1" lang="zh-TW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5" name="Picture 13" descr="actpo"/>
          <p:cNvPicPr/>
          <p:nvPr/>
        </p:nvPicPr>
        <p:blipFill>
          <a:blip r:embed="rId3"/>
          <a:stretch/>
        </p:blipFill>
        <p:spPr>
          <a:xfrm>
            <a:off x="4191120" y="811080"/>
            <a:ext cx="1295280" cy="1067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HKEPA-logo"/>
          <p:cNvPicPr/>
          <p:nvPr/>
        </p:nvPicPr>
        <p:blipFill>
          <a:blip r:embed="rId4"/>
          <a:stretch/>
        </p:blipFill>
        <p:spPr>
          <a:xfrm>
            <a:off x="6697800" y="685800"/>
            <a:ext cx="1074600" cy="1143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048A-9BB4-451F-A005-D761FA873649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1720" y="74736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7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假如購買所需教材的費用超出學校所能負擔，就你所知有甚麽途徑可以向教育局申請額外津貼呢？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9" name="Object 3"/>
          <p:cNvGraphicFramePr/>
          <p:nvPr/>
        </p:nvGraphicFramePr>
        <p:xfrm>
          <a:off x="963720" y="1703520"/>
          <a:ext cx="8001000" cy="51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3720" y="1703520"/>
                    <a:ext cx="8001000" cy="51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638C-117B-4C7D-A4CB-380D85EB7278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71720" y="74736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8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倘若 貴校沒有足夠的財政資源購買教材亦未獲得額外撥款，你會怎樣解決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【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可選多項】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3" name="Object 3"/>
          <p:cNvGraphicFramePr/>
          <p:nvPr/>
        </p:nvGraphicFramePr>
        <p:xfrm>
          <a:off x="687240" y="1703520"/>
          <a:ext cx="8277480" cy="51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703520"/>
                    <a:ext cx="8277480" cy="51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8A9C-74B7-496A-A4E4-A132E39172D4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1720" y="747360"/>
            <a:ext cx="776736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9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有意見認為政府在實施「課本分拆方案」的同時，必須具備一套獨立於整筆撥款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broad grant fund)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的可持續撥款機制配合。你傾向支持還是反對這個意見？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7" name="Object 3"/>
          <p:cNvGraphicFramePr/>
          <p:nvPr/>
        </p:nvGraphicFramePr>
        <p:xfrm>
          <a:off x="963720" y="1703520"/>
          <a:ext cx="8001000" cy="51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3720" y="1703520"/>
                    <a:ext cx="8001000" cy="51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2724-F180-45A9-B924-DDAA678F9902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1720" y="74736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0a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果政府決定落實推行這個方案，你認為有關方案應該何時開始實施？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【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按年份，只選一項】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687240" y="1703520"/>
          <a:ext cx="8277480" cy="51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703520"/>
                    <a:ext cx="8277480" cy="51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31EC-A197-49E8-BC2D-90CDC733FB45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1720" y="74736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0b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果政府決定落實推行這個方案，你認為有關方案應該何時開始實施？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【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按情況，可選多項】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5" name="Object 3"/>
          <p:cNvGraphicFramePr/>
          <p:nvPr/>
        </p:nvGraphicFramePr>
        <p:xfrm>
          <a:off x="687240" y="1703520"/>
          <a:ext cx="8277480" cy="51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703520"/>
                    <a:ext cx="8277480" cy="51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0BDA-42C6-4D4A-AF30-5D67CC9CF907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1720" y="747360"/>
            <a:ext cx="776736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1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長遠而言，你認為「課本分拆方案」會對教學質素帶來正面、負面、還是中性影響？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9" name="Object 3"/>
          <p:cNvGraphicFramePr/>
          <p:nvPr/>
        </p:nvGraphicFramePr>
        <p:xfrm>
          <a:off x="963720" y="1703520"/>
          <a:ext cx="8001000" cy="51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3720" y="1703520"/>
                    <a:ext cx="8001000" cy="51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E4D0-56E0-4AF6-97BC-1D1DA11C4BA6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1720" y="747360"/>
            <a:ext cx="776736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2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認為現時的教材對 貴校老師的教學有沒有幫助？ 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963720" y="1703520"/>
          <a:ext cx="8001000" cy="51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3720" y="1703520"/>
                    <a:ext cx="8001000" cy="51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E247-1ECA-4E13-9416-6EEB472F5629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1720" y="747360"/>
            <a:ext cx="776736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3 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教育局現正提出將教科書「三年不改版」的規定改為「五年不改版」，你認為延長課本更新週期會對教學質素帶來正面、負面，還是中性影響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7" name="Object 3"/>
          <p:cNvGraphicFramePr/>
          <p:nvPr/>
        </p:nvGraphicFramePr>
        <p:xfrm>
          <a:off x="857160" y="1703520"/>
          <a:ext cx="8001000" cy="51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1703520"/>
                    <a:ext cx="8001000" cy="51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E509-CA62-4E72-992A-A82491CF8916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857160"/>
            <a:ext cx="77673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4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有意見認為出版商可以將部分支援教材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教師用書、教材套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直接賣給家長，你傾向支持還是反對這個意見？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1" name="Object 3"/>
          <p:cNvGraphicFramePr/>
          <p:nvPr/>
        </p:nvGraphicFramePr>
        <p:xfrm>
          <a:off x="963720" y="1703520"/>
          <a:ext cx="8001000" cy="51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3720" y="1703520"/>
                    <a:ext cx="8001000" cy="51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4F35-F2C0-41E3-8946-AD54947BEA59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1720" y="857160"/>
            <a:ext cx="7767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5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又有意見認為當局應提早在每年七、八月向家長發放書簿津貼，你傾向支持還是反對這個意見？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5" name="Object 3"/>
          <p:cNvGraphicFramePr/>
          <p:nvPr/>
        </p:nvGraphicFramePr>
        <p:xfrm>
          <a:off x="963720" y="1703520"/>
          <a:ext cx="8001000" cy="51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3720" y="1703520"/>
                    <a:ext cx="8001000" cy="51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A156-AC4E-4D10-B8F6-4060CB64BE39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4280" y="1214280"/>
            <a:ext cx="77011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研究背景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28840" y="2142720"/>
            <a:ext cx="70200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37476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調查目的：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探討本地中、小學校長對教育局早前提出的課本分拆訂價方案的認識、支持程度和一般意見 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74760" indent="-37476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調查問卷由港大民研計劃諮詢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兩會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後獨立設計，所有操作、數據收集及分析由民研計劃獨立進行，結果亦由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民研計劃全面負責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74760" indent="-37476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調查方法和結果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全面公開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27C1-96CD-4137-ACA9-45016652D9E1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1071360"/>
            <a:ext cx="7467480" cy="4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總結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Rectangle 1"/>
          <p:cNvSpPr/>
          <p:nvPr/>
        </p:nvSpPr>
        <p:spPr>
          <a:xfrm>
            <a:off x="1214280" y="2677680"/>
            <a:ext cx="76248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4960" indent="-26496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校長普遍對「課本分拆方案」</a:t>
            </a:r>
            <a:r>
              <a:rPr b="1" lang="zh-TW" sz="18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認識不多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絕大多數認為教育局對學界</a:t>
            </a:r>
            <a:r>
              <a:rPr b="1" lang="zh-TW" sz="18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諮詢不足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至於是否支持方案，則</a:t>
            </a:r>
            <a:r>
              <a:rPr b="1" lang="zh-TW" sz="18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意見紛紜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264960" indent="-26496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過半校長表示校方</a:t>
            </a:r>
            <a:r>
              <a:rPr b="1" lang="zh-TW" sz="18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沒有足夠資源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購買分拆後的教材，而一旦方案落實執行，絕大多數表示未知應該動用多少撥款購買教材，亦不清楚向教育局申請額外津貼的途徑，可見</a:t>
            </a:r>
            <a:r>
              <a:rPr b="1" lang="zh-TW" sz="18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學校尚未掌握足夠資訊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264960" indent="-26496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校長普遍要求政府提供一套獨立於整筆撥款的</a:t>
            </a:r>
            <a:r>
              <a:rPr b="1" lang="zh-TW" sz="1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可持續撥款機制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，配合方案。倘若資源不夠，學校會「減少／停止購買教材」或「由老師自行製作教材」應付，可能影響老師的負擔和學生的學習。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264960" indent="-26496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只有少數校長正面評價方案對教學質素的影響；對「教科書五年不改版」對教學質素的影響，評價則屬中性；對現時教材對老師的幫助，評價就比較正面。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264960" indent="-26496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校長一般</a:t>
            </a:r>
            <a:r>
              <a:rPr b="1" lang="zh-TW" sz="1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反對出版商把部分支援教材直接賣給家長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，但就支持政府提早在每年七、八月向家長發放書簿津貼。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264960" indent="-26496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是次調查</a:t>
            </a:r>
            <a:r>
              <a:rPr b="1" lang="zh-TW" sz="1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只代表校長意見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，不一定代表至於老師、家長和學生的意見。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3EC1-7CAB-45A5-AEAB-94FB9C80A4A5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685800" y="152388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報 告 完 畢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38098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詳細報告結果，請瀏覽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http://hkupop.hku.h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990720" y="327672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7EB7-3B61-418A-9FC6-EB23CDA7E8FA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0080" y="1071720"/>
            <a:ext cx="7858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標楷體"/>
                <a:ea typeface="標楷體"/>
              </a:rPr>
              <a:t>樣本資料</a:t>
            </a:r>
            <a:endParaRPr b="1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3920" y="2143080"/>
            <a:ext cx="736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16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問日期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0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至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問對象： 全港中、小學校長，國際學校及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特殊學校除外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方法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自填問卷形式進行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樣本數目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22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位小學校長及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98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位中學校長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即共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220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成功個案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應比率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2.2%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抽樣誤差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95%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置信水平下，少於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+/- 5.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百分比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CC7A-BC73-4E58-A0B0-3943EC864783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1720" y="761760"/>
            <a:ext cx="75009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問你對教育局建議的「課本分拆方案」認識幾多？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75" name="Object 5"/>
          <p:cNvGraphicFramePr/>
          <p:nvPr/>
        </p:nvGraphicFramePr>
        <p:xfrm>
          <a:off x="963720" y="1449360"/>
          <a:ext cx="8001000" cy="51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3720" y="1449360"/>
                    <a:ext cx="8001000" cy="51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34EF-5E1E-4F61-91B6-03AB64212CEC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78552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Q2 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教育局建議，由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0/11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學年開始，課本、教材和學材應分拆訂價，讓教師及家長各自購買所需的材料。請問你傾向支持還是反對這個建議？ 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79" name="Object 1027"/>
          <p:cNvGraphicFramePr/>
          <p:nvPr/>
        </p:nvGraphicFramePr>
        <p:xfrm>
          <a:off x="857160" y="1703520"/>
          <a:ext cx="8001000" cy="51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1703520"/>
                    <a:ext cx="8001000" cy="51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0FD7-E1FE-41AE-ABD7-9B3963A93202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1720" y="761760"/>
            <a:ext cx="75009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3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認為這個方案能否達到「用者自付」的原則？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83" name="Object 3"/>
          <p:cNvGraphicFramePr/>
          <p:nvPr/>
        </p:nvGraphicFramePr>
        <p:xfrm>
          <a:off x="963720" y="1449360"/>
          <a:ext cx="8001000" cy="52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3720" y="1449360"/>
                    <a:ext cx="800100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31F9-A430-4A08-92E3-15408E9CDBB1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57160" y="714240"/>
            <a:ext cx="80726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4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認為政府就有關方案對學界的諮詢屬於足夠還是不夠？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963720" y="1449360"/>
          <a:ext cx="8001000" cy="52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3720" y="1449360"/>
                    <a:ext cx="800100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2FF6-EFD7-4D4C-A3EE-A69A59ECFE28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7858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5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果這個方案落實推行，你預計 貴校是否有足夠財政資源購買分拆後的教材？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963720" y="1449360"/>
          <a:ext cx="8001000" cy="52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3720" y="1449360"/>
                    <a:ext cx="800100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2652-B403-4134-B1C1-91C71BAA982E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71360" y="747360"/>
            <a:ext cx="7786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6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假設方案得到落實，請問 貴校可以動用整筆撥款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broad grant fund)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的多少金額去購買所需教材？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5" name="Object 3"/>
          <p:cNvGraphicFramePr/>
          <p:nvPr/>
        </p:nvGraphicFramePr>
        <p:xfrm>
          <a:off x="963720" y="1703520"/>
          <a:ext cx="8001000" cy="51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3720" y="1703520"/>
                    <a:ext cx="8001000" cy="51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frank</cp:lastModifiedBy>
  <cp:lastPrinted>2001-04-04T10:00:24Z</cp:lastPrinted>
  <dcterms:modified xsi:type="dcterms:W3CDTF">2010-03-17T02:24:36Z</dcterms:modified>
  <cp:revision>1619</cp:revision>
  <dc:subject/>
  <dc:title>無投影片標題</dc:title>
</cp:coreProperties>
</file>