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EE1-42A4-4764-8325-47613CBD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E24-1671-441D-A9FD-9181E086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34DB-BE04-44B3-9717-C6C17BE1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CD9-1F09-4CE4-99DF-B0AB74EF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835-C3DF-4D14-8D62-5ACCFAB5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E47-BE37-49A3-9A18-4C1AFDA7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EF8-D75D-43F7-BFF3-AE5FCBE6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06A-E019-49A6-A0CD-A6DD9EF6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53FE-7BA8-4EDE-B5AB-6DCF9B03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67C-D8C7-4F57-887F-B393A946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B476-663E-438C-9FCA-ED646E6D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5F5D-8E82-4C88-835D-81766170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09D0-B416-4916-8E7B-7344A14660D6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895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Times New Roman"/>
                <a:ea typeface="標楷體"/>
              </a:rPr>
              <a:t>港人面對壓力的狀況及港人的創意水平</a:t>
            </a:r>
            <a:br>
              <a:rPr sz="3200"/>
            </a:br>
            <a:r>
              <a:rPr b="1" lang="zh-TW" sz="3200" spc="-1" strike="noStrike">
                <a:solidFill>
                  <a:srgbClr val="ffff66"/>
                </a:solidFill>
                <a:latin typeface="Times New Roman"/>
                <a:ea typeface="標楷體"/>
              </a:rPr>
              <a:t>調查報告</a:t>
            </a:r>
            <a:r>
              <a:rPr b="1" lang="zh-TW" sz="3200" spc="-1" strike="noStrike">
                <a:solidFill>
                  <a:srgbClr val="ffff66"/>
                </a:solidFill>
                <a:latin typeface="Times New Roman"/>
                <a:ea typeface="標楷體"/>
              </a:rPr>
              <a:t>2007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343400"/>
            <a:ext cx="78483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標楷體"/>
                <a:ea typeface="標楷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2007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2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本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報告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內一切內容與香港大學立場無關，內容由民意研究計劃主任鍾庭耀博士負責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你認為香港人整體來講夠創意嗎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? 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( 0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完全唔夠創意，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10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非常有創意，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一半半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2819520"/>
          <a:ext cx="8534520" cy="365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19520"/>
                    <a:ext cx="853452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295280" y="5632560"/>
            <a:ext cx="457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0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5632560"/>
            <a:ext cx="10670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唔知 </a:t>
            </a:r>
            <a:r>
              <a:rPr b="0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/ </a:t>
            </a:r>
            <a:r>
              <a:rPr b="0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難講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5632560"/>
            <a:ext cx="6098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3-4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5632560"/>
            <a:ext cx="60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1-2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5632560"/>
            <a:ext cx="457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5632560"/>
            <a:ext cx="6098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6-7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5632560"/>
            <a:ext cx="6098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8-9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5632560"/>
            <a:ext cx="60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172200" y="2514600"/>
          <a:ext cx="2057400" cy="1355760"/>
        </p:xfrm>
        <a:graphic>
          <a:graphicData uri="http://schemas.openxmlformats.org/drawingml/2006/table">
            <a:tbl>
              <a:tblPr/>
              <a:tblGrid>
                <a:gridCol w="1025640"/>
                <a:gridCol w="103176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.7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08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9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7840" y="1701720"/>
          <a:ext cx="891540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701720"/>
                    <a:ext cx="891540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43000" y="5791320"/>
            <a:ext cx="10666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太疲倦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/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精神不集中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5791320"/>
            <a:ext cx="1066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工作太忙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/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壓力大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5791320"/>
            <a:ext cx="10666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心情差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/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情緒低落時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33520" y="173664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5791320"/>
            <a:ext cx="57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其他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5791320"/>
            <a:ext cx="838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身體不適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5791320"/>
            <a:ext cx="10666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無靈感閉塞既時候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5791320"/>
            <a:ext cx="1066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新細明體"/>
                <a:ea typeface="標楷體"/>
              </a:rPr>
              <a:t>唔知／</a:t>
            </a:r>
            <a:br>
              <a:rPr sz="1200"/>
            </a:br>
            <a:r>
              <a:rPr b="1" lang="zh-TW" sz="1200" spc="-1" strike="noStrike">
                <a:solidFill>
                  <a:srgbClr val="ccecff"/>
                </a:solidFill>
                <a:latin typeface="新細明體"/>
                <a:ea typeface="標楷體"/>
              </a:rPr>
              <a:t>難講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00160" y="640080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5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23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你甚麼時候會感到靈感閉塞</a:t>
            </a: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? 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請講出最常遇到的</a:t>
            </a: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3</a:t>
            </a: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個情況。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你會做什麼去激發靈感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?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請講出最常做的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3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個方法。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04920" y="1986120"/>
          <a:ext cx="8381880" cy="397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6120"/>
                    <a:ext cx="8381880" cy="39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219320" y="5791320"/>
            <a:ext cx="8650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看書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,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報紙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,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雜誌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,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漫畫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578160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休息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5778360"/>
            <a:ext cx="8380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聽音樂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/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唱歌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5791320"/>
            <a:ext cx="7527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看電視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5781600"/>
            <a:ext cx="7621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做運動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5791320"/>
            <a:ext cx="6098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上網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78160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行街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33520" y="20574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00160" y="6400800"/>
            <a:ext cx="20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579132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其他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5791320"/>
            <a:ext cx="10666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無任何</a:t>
            </a:r>
            <a:br>
              <a:rPr sz="1300"/>
            </a:b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方法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5791320"/>
            <a:ext cx="7938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唔知／</a:t>
            </a:r>
            <a:br>
              <a:rPr sz="1300"/>
            </a:b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難講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你認為亞洲哪個國家</a:t>
            </a: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/</a:t>
            </a: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城市的人最有創意？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2043000"/>
          <a:ext cx="8305920" cy="38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43000"/>
                    <a:ext cx="83059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66680" y="5937120"/>
            <a:ext cx="6098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日本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943600"/>
            <a:ext cx="60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韓國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5943600"/>
            <a:ext cx="7617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新加玻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5943600"/>
            <a:ext cx="60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中國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5943600"/>
            <a:ext cx="60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台灣 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0" y="5943600"/>
            <a:ext cx="914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澳洲 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5943600"/>
            <a:ext cx="7617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菲律賓 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5943600"/>
            <a:ext cx="609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香港 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5943600"/>
            <a:ext cx="6098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泰國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5943600"/>
            <a:ext cx="60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細明體"/>
                <a:ea typeface="標楷體"/>
              </a:rPr>
              <a:t>印度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5943600"/>
            <a:ext cx="60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細明體"/>
                <a:ea typeface="標楷體"/>
              </a:rPr>
              <a:t>印尼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5943600"/>
            <a:ext cx="7621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細明體"/>
                <a:ea typeface="標楷體"/>
              </a:rPr>
              <a:t>無意見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29600" y="5943600"/>
            <a:ext cx="609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唔知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/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難講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23680" y="26668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你認為甚麽飲品最能激發靈感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/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令頭腦清醒？請講出２種。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41120" y="2433600"/>
          <a:ext cx="862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2433600"/>
                    <a:ext cx="862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376320" y="24382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00160" y="6400800"/>
            <a:ext cx="20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標楷體"/>
                <a:ea typeface="標楷體"/>
              </a:rPr>
              <a:t>請問你係咪每日都飲茶</a:t>
            </a:r>
            <a:r>
              <a:rPr b="1" lang="zh-TW" sz="2800" spc="-1" strike="noStrike">
                <a:solidFill>
                  <a:srgbClr val="ffff66"/>
                </a:solidFill>
                <a:latin typeface="標楷體"/>
                <a:ea typeface="標楷體"/>
              </a:rPr>
              <a:t>?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80880" y="2394000"/>
          <a:ext cx="8305920" cy="391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94000"/>
                    <a:ext cx="830592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757200" y="20574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[</a:t>
            </a: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只問每日都飲荼者</a:t>
            </a: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]</a:t>
            </a: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以快餐店既奶茶杯容量黎計算，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你每日平均會飲幾多杯茶呢？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09480" y="2430360"/>
          <a:ext cx="8077320" cy="354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30360"/>
                    <a:ext cx="807732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6400800" y="2133720"/>
          <a:ext cx="2057400" cy="1355760"/>
        </p:xfrm>
        <a:graphic>
          <a:graphicData uri="http://schemas.openxmlformats.org/drawingml/2006/table">
            <a:tbl>
              <a:tblPr/>
              <a:tblGrid>
                <a:gridCol w="1025640"/>
                <a:gridCol w="103176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3.1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杯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1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21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你平日什麼時候覺得最需要飲一杯茶呢</a:t>
            </a: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?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04920" y="2017800"/>
          <a:ext cx="8229600" cy="388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17800"/>
                    <a:ext cx="822960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066680" y="5791320"/>
            <a:ext cx="6462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起床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, </a:t>
            </a:r>
            <a:br>
              <a:rPr sz="1200"/>
            </a:b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早上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5867280"/>
            <a:ext cx="685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休息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5867280"/>
            <a:ext cx="6094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飯後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16360" y="5813280"/>
            <a:ext cx="718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下午</a:t>
            </a:r>
            <a:br>
              <a:rPr sz="1200"/>
            </a:b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時間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5867280"/>
            <a:ext cx="8384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思考時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5805360"/>
            <a:ext cx="838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需要集中精神時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77120" y="5867280"/>
            <a:ext cx="631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其他</a:t>
            </a:r>
            <a:br>
              <a:rPr sz="1200"/>
            </a:b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時候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5867280"/>
            <a:ext cx="793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無任何</a:t>
            </a:r>
            <a:br>
              <a:rPr sz="1200"/>
            </a:b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時候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5867280"/>
            <a:ext cx="828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唔知／</a:t>
            </a:r>
            <a:br>
              <a:rPr sz="1200"/>
            </a:b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難講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5867280"/>
            <a:ext cx="685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口渴時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5867280"/>
            <a:ext cx="8301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去茶樓時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5867280"/>
            <a:ext cx="685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吃得太飽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,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清熱氣時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52280" y="23623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49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請形容飲完一杯茶之後的感覺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?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請講出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3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種感覺。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細明體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2133720"/>
          <a:ext cx="8229600" cy="353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33720"/>
                    <a:ext cx="822960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3492360" y="56386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鬆弛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5638680"/>
            <a:ext cx="685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舒服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/ 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舒暢 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44880" y="5638680"/>
            <a:ext cx="9144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保持頭腦清醒 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/ 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提神醒腦 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/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腦轉快Ｄ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5638680"/>
            <a:ext cx="9907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幫助消化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04920" y="22096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00160" y="640080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5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638680"/>
            <a:ext cx="9907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其他感覺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5638680"/>
            <a:ext cx="838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無任何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感覺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5638680"/>
            <a:ext cx="9903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好少飲茶／唔知／難講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66"/>
                </a:solidFill>
                <a:latin typeface="Times New Roman"/>
                <a:ea typeface="標楷體"/>
              </a:rPr>
              <a:t>你知道為何飲茶有這些功效</a:t>
            </a:r>
            <a:r>
              <a:rPr b="1" lang="zh-TW" sz="2200" spc="-1" strike="noStrike">
                <a:solidFill>
                  <a:srgbClr val="ffff66"/>
                </a:solidFill>
                <a:latin typeface="Times New Roman"/>
                <a:ea typeface="標楷體"/>
              </a:rPr>
              <a:t>? </a:t>
            </a:r>
            <a:r>
              <a:rPr b="1" lang="zh-TW" sz="2200" spc="-1" strike="noStrike">
                <a:solidFill>
                  <a:srgbClr val="ffff66"/>
                </a:solidFill>
                <a:latin typeface="Times New Roman"/>
                <a:ea typeface="標楷體"/>
              </a:rPr>
              <a:t>例如茶的什麼成份導致呢</a:t>
            </a:r>
            <a:r>
              <a:rPr b="1" lang="zh-TW" sz="2200" spc="-1" strike="noStrike">
                <a:solidFill>
                  <a:srgbClr val="ffff66"/>
                </a:solidFill>
                <a:latin typeface="Times New Roman"/>
                <a:ea typeface="標楷體"/>
              </a:rPr>
              <a:t>?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細明體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2270160"/>
          <a:ext cx="8305920" cy="356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70160"/>
                    <a:ext cx="830592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143000" y="5638680"/>
            <a:ext cx="11430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咖啡因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09680" y="5638680"/>
            <a:ext cx="685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茶胺酸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5638680"/>
            <a:ext cx="838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兒茶酚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91320" y="5638680"/>
            <a:ext cx="9144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不知道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5638680"/>
            <a:ext cx="838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其他成份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5638680"/>
            <a:ext cx="838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新細明體"/>
                <a:ea typeface="標楷體"/>
              </a:rPr>
              <a:t>難講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18720" y="22860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37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94200" y="5661000"/>
            <a:ext cx="685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丹寧酸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95640" y="5661000"/>
            <a:ext cx="8384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茶多酚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標楷體"/>
                <a:ea typeface="標楷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4479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研究背景及調查方法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調查結果：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標楷體"/>
                <a:ea typeface="標楷體"/>
              </a:rPr>
              <a:t>受訪者對自己生活及工作壓力之評分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對自己及香港人創意的評分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對靈感閉塞及激發靈感的意見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對飲茶的感覺及其功效的認知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簡單總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請形容下飲完一杯咖啡之後的感覺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?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請講出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3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種感覺。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33520" y="2289240"/>
          <a:ext cx="8001000" cy="337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9240"/>
                    <a:ext cx="800100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2590920" y="5638680"/>
            <a:ext cx="1000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舒服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/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舒暢 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5638680"/>
            <a:ext cx="9144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保持頭腦清醒 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/ 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提神醒腦 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/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腦轉快Ｄ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5656320"/>
            <a:ext cx="9907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睡意全消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85400" y="29718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00160" y="640080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5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29200" y="5638680"/>
            <a:ext cx="9907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其他感覺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5638680"/>
            <a:ext cx="838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無任何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感覺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5638680"/>
            <a:ext cx="11523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好少飲咖啡／唔知／難講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調查顯示，香港的青年及中年巿民普遍認為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自己的創意屬於一般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(5.1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落後於全港巿民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5.7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箇中原因，可能是因為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工作不夠創意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(4.2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、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生活壓力大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(5.9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和緊張自己的工作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6.5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最多被訪巿民認為咖啡最能激發靈感，其次是茶、汽水和清水。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飲咖啡的主要效果，就是提神醒腦；以飲茶的主要結果，就是舒適暢快和提神醒腦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被訪者中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42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％有每日飲茶的習慣，每日平均約飲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3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杯。不過，大部分被訪者都不知道，茶中有甚麼成份可以產生飲茶的功效，只有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四個百分點正確提及茶胺酸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是真正原因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160020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ecff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標楷體"/>
                <a:ea typeface="標楷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2203560"/>
            <a:ext cx="7543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目的：</a:t>
            </a:r>
            <a:r>
              <a:rPr b="1" lang="zh-TW" sz="2800" spc="-1" strike="noStrike">
                <a:solidFill>
                  <a:srgbClr val="ffff66"/>
                </a:solidFill>
                <a:latin typeface="Times New Roman"/>
                <a:ea typeface="標楷體"/>
              </a:rPr>
              <a:t>港人面對壓力的狀況及港人的創意水平</a:t>
            </a:r>
            <a:r>
              <a:rPr b="1" lang="zh-TW" sz="2800" spc="-1" strike="noStrike">
                <a:solidFill>
                  <a:srgbClr val="ffff66"/>
                </a:solidFill>
                <a:latin typeface="標楷體"/>
                <a:ea typeface="標楷體"/>
              </a:rPr>
              <a:t>等意見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800" spc="-1" strike="noStrike">
                <a:solidFill>
                  <a:srgbClr val="ffff66"/>
                </a:solidFill>
                <a:latin typeface="Times New Roman"/>
                <a:ea typeface="標楷體"/>
              </a:rPr>
              <a:t>Lipton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後獨立設計，所有操作、數據收集及分析由民研計劃獨立進行，結果亦由民研計劃全面負責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方法和結果全面公開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66"/>
                </a:solidFill>
                <a:latin typeface="標楷體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209680"/>
            <a:ext cx="762012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03240" indent="-180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日期：  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2007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年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3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月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11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日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對象：  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18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49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歲操粵語的香港居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調查方法：   由訪問員直接進行電話訪問，訪問員在成功接觸目標住戶後，再從住戶內找出符合條件的人接受訪問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樣本數目：   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508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應比率：   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62.3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：   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少於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+/- 2.2%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請問你感到自己的生活壓力有幾大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?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( 0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完全無壓力，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10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壓力非常大，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一半半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2031840"/>
          <a:ext cx="7925040" cy="428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31840"/>
                    <a:ext cx="792504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6172200"/>
            <a:ext cx="533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0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172200"/>
            <a:ext cx="1143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唔知 </a:t>
            </a:r>
            <a:r>
              <a:rPr b="1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/ </a:t>
            </a:r>
            <a:r>
              <a:rPr b="1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難講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30560" y="617220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1 - 2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65480" y="617220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3 - 4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617220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6 - 7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6172200"/>
            <a:ext cx="7621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8 - 9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6172200"/>
            <a:ext cx="5331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6172200"/>
            <a:ext cx="5331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77120" y="2362320"/>
          <a:ext cx="2050920" cy="1355760"/>
        </p:xfrm>
        <a:graphic>
          <a:graphicData uri="http://schemas.openxmlformats.org/drawingml/2006/table">
            <a:tbl>
              <a:tblPr/>
              <a:tblGrid>
                <a:gridCol w="1025280"/>
                <a:gridCol w="102564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.9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0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04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10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請問你有幾緊張你既工作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? 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( 0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完全唔緊張，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10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非常緊張，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一半半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01760" y="6172200"/>
            <a:ext cx="533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0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48720" y="6172200"/>
            <a:ext cx="1143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唔知 </a:t>
            </a:r>
            <a:r>
              <a:rPr b="1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/ </a:t>
            </a:r>
            <a:r>
              <a:rPr b="1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難講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30560" y="617220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1 - 2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65480" y="617220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3 - 4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617220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6 - 7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6172200"/>
            <a:ext cx="7621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8 - 9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6172200"/>
            <a:ext cx="5331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6172200"/>
            <a:ext cx="5331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629400" y="2438280"/>
          <a:ext cx="2050920" cy="1355760"/>
        </p:xfrm>
        <a:graphic>
          <a:graphicData uri="http://schemas.openxmlformats.org/drawingml/2006/table">
            <a:tbl>
              <a:tblPr/>
              <a:tblGrid>
                <a:gridCol w="1025280"/>
                <a:gridCol w="102564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6.5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0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9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33520" y="2247840"/>
          <a:ext cx="754380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47840"/>
                    <a:ext cx="75438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標楷體"/>
                <a:ea typeface="標楷體"/>
              </a:rPr>
              <a:t>當你感到壓力時，你會唔會</a:t>
            </a:r>
            <a:r>
              <a:rPr b="1" lang="zh-TW" sz="2800" spc="-1" strike="noStrike">
                <a:solidFill>
                  <a:srgbClr val="ffff66"/>
                </a:solidFill>
                <a:latin typeface="細明體"/>
                <a:ea typeface="細明體"/>
              </a:rPr>
              <a:t>：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1751040"/>
          <a:ext cx="8076960" cy="480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1040"/>
                    <a:ext cx="807696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329480" y="5740560"/>
            <a:ext cx="8208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容易向家人</a:t>
            </a:r>
            <a:br>
              <a:rPr sz="1400"/>
            </a:b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朋友發脾氣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5776920"/>
            <a:ext cx="1012320" cy="6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選擇尋求專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業輔導</a:t>
            </a: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/</a:t>
            </a: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協助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2600" y="5776920"/>
            <a:ext cx="714240" cy="6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選擇找家人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朋友傾訴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4680" y="5776920"/>
            <a:ext cx="714240" cy="6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傾向用暴力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解決問題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8520" y="5776920"/>
            <a:ext cx="927360" cy="6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傾向封閉自己，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與外界隔絕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52280" y="18288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你既工作係咪涉及創意呢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?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例如寫作、設計等。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( 0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完全唔涉及創意，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10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極之需要創意，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一半半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0880" y="1676520"/>
          <a:ext cx="838224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3822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164960" y="5715000"/>
            <a:ext cx="419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0</a:t>
            </a:r>
            <a:r>
              <a:rPr b="1" lang="zh-CN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30680" y="5715000"/>
            <a:ext cx="569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-2</a:t>
            </a:r>
            <a:r>
              <a:rPr b="1" lang="zh-CN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10440" y="5702400"/>
            <a:ext cx="569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6-7</a:t>
            </a:r>
            <a:r>
              <a:rPr b="1" lang="zh-CN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59680" y="5702400"/>
            <a:ext cx="569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8-9</a:t>
            </a:r>
            <a:r>
              <a:rPr b="1" lang="zh-CN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5715000"/>
            <a:ext cx="10666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失業、巳退休、及其他非在職者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55520" y="5715000"/>
            <a:ext cx="419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CN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02800" y="5702400"/>
            <a:ext cx="509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</a:t>
            </a:r>
            <a:r>
              <a:rPr b="1" lang="zh-CN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5080" y="5715000"/>
            <a:ext cx="569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3-4</a:t>
            </a:r>
            <a:r>
              <a:rPr b="1" lang="zh-CN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12960" y="5729400"/>
            <a:ext cx="455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唔知／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難講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629400" y="2133720"/>
          <a:ext cx="2050920" cy="1355760"/>
        </p:xfrm>
        <a:graphic>
          <a:graphicData uri="http://schemas.openxmlformats.org/drawingml/2006/table">
            <a:tbl>
              <a:tblPr/>
              <a:tblGrid>
                <a:gridCol w="1025280"/>
                <a:gridCol w="102564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.2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1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88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2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你認為自己夠創意嗎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?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( 0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完全唔夠創意，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10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非常有創意，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一半半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2055960"/>
          <a:ext cx="8724960" cy="435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5960"/>
                    <a:ext cx="872496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629400" y="2286000"/>
          <a:ext cx="2050920" cy="1355760"/>
        </p:xfrm>
        <a:graphic>
          <a:graphicData uri="http://schemas.openxmlformats.org/drawingml/2006/table">
            <a:tbl>
              <a:tblPr/>
              <a:tblGrid>
                <a:gridCol w="1025280"/>
                <a:gridCol w="102564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.1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0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0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7-03-21T09:14:45Z</dcterms:modified>
  <cp:revision>1257</cp:revision>
  <dc:subject/>
  <dc:title>無投影片標題</dc:title>
</cp:coreProperties>
</file>