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8.png" ContentType="image/png"/>
  <Override PartName="/ppt/media/image20.png" ContentType="image/png"/>
  <Override PartName="/ppt/media/image7.jpeg" ContentType="image/jpeg"/>
  <Override PartName="/ppt/media/image31.wmf" ContentType="image/x-wmf"/>
  <Override PartName="/ppt/media/image5.png" ContentType="image/png"/>
  <Override PartName="/ppt/media/image8.jpeg" ContentType="image/jpeg"/>
  <Override PartName="/ppt/media/image12.wmf" ContentType="image/x-wmf"/>
  <Override PartName="/ppt/media/image13.png" ContentType="image/png"/>
  <Override PartName="/ppt/media/image30.wmf" ContentType="image/x-wmf"/>
  <Override PartName="/ppt/media/image28.wmf" ContentType="image/x-wmf"/>
  <Override PartName="/ppt/media/image3.png" ContentType="image/png"/>
  <Override PartName="/ppt/media/image11.png" ContentType="image/png"/>
  <Override PartName="/ppt/media/image9.jpeg" ContentType="image/jpeg"/>
  <Override PartName="/ppt/media/image23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925050" cy="6664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328-961B-43E6-B781-D804D1D9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9C8-01D6-46BF-AFEF-24674501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2C7-F927-426C-B9BD-8D16793C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B89-9FB0-469A-9F6B-48317775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474-83B0-4C98-BF46-845D652F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BCC-70D8-4887-8C6B-87DABDD1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B4D-60C7-497A-B70E-DE967799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595-DD4D-485F-808E-6DC1E377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789-7A10-443F-92B4-F8980E4A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01E-A368-47F5-BB64-8C3249D5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EB9-AC7B-44BE-B2DC-5C86E602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8C72-DBD9-478F-ACA1-2B746C5E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58E5-1092-4739-8542-022FC17873A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54120" y="4724280"/>
            <a:ext cx="240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李子誠博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2800" spc="-1" strike="noStrike">
                <a:solidFill>
                  <a:srgbClr val="000000"/>
                </a:solidFill>
                <a:latin typeface="Arial"/>
                <a:ea typeface="新細明體"/>
              </a:rPr>
              <a:t>香港大學動物學系主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食物及營養學</a:t>
            </a:r>
            <a:r>
              <a:rPr b="1" lang="zh-HK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副教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0080" y="1143000"/>
            <a:ext cx="313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99"/>
                </a:solidFill>
                <a:latin typeface="新細明體"/>
                <a:ea typeface="新細明體"/>
              </a:rPr>
              <a:t>茶</a:t>
            </a:r>
            <a:r>
              <a:rPr b="1" lang="en-US" sz="4000" spc="-1" strike="noStrike">
                <a:solidFill>
                  <a:srgbClr val="000099"/>
                </a:solidFill>
                <a:latin typeface="新細明體"/>
                <a:ea typeface="新細明體"/>
              </a:rPr>
              <a:t>, </a:t>
            </a:r>
            <a:r>
              <a:rPr b="1" lang="zh-TW" sz="4000" spc="-1" strike="noStrike">
                <a:solidFill>
                  <a:srgbClr val="000099"/>
                </a:solidFill>
                <a:latin typeface="新細明體"/>
                <a:ea typeface="新細明體"/>
              </a:rPr>
              <a:t>壓力與頭腦靈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tea garden"/>
          <p:cNvPicPr/>
          <p:nvPr/>
        </p:nvPicPr>
        <p:blipFill>
          <a:blip r:embed="rId1"/>
          <a:stretch/>
        </p:blipFill>
        <p:spPr>
          <a:xfrm>
            <a:off x="3352680" y="2209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280" y="1054080"/>
            <a:ext cx="3733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 u="sng">
                <a:solidFill>
                  <a:srgbClr val="e50601"/>
                </a:solidFill>
                <a:uFillTx/>
                <a:latin typeface="Arial"/>
                <a:ea typeface="新細明體"/>
              </a:rPr>
              <a:t>實驗結果 </a:t>
            </a:r>
            <a:r>
              <a:rPr b="1" lang="en-US" sz="2200" spc="-1" strike="noStrike" u="sng">
                <a:solidFill>
                  <a:srgbClr val="e50601"/>
                </a:solidFill>
                <a:uFillTx/>
                <a:latin typeface="Arial"/>
                <a:ea typeface="新細明體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e50601"/>
                </a:solidFill>
                <a:latin typeface="Arial"/>
                <a:ea typeface="新細明體"/>
              </a:rPr>
              <a:t>喝茶後於需要精神集中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e50601"/>
                </a:solidFill>
                <a:latin typeface="Arial"/>
                <a:ea typeface="新細明體"/>
              </a:rPr>
              <a:t>測試項目上有較好的表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50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e50601"/>
                </a:solidFill>
                <a:latin typeface="Arial"/>
                <a:ea typeface="新細明體"/>
              </a:rPr>
              <a:t>與喝水作比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50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e50601"/>
                </a:solidFill>
                <a:latin typeface="Arial"/>
                <a:ea typeface="新細明體"/>
              </a:rPr>
              <a:t>咖啡因的效果不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 u="sng">
                <a:solidFill>
                  <a:srgbClr val="e50601"/>
                </a:solidFill>
                <a:uFillTx/>
                <a:latin typeface="Arial"/>
                <a:ea typeface="新細明體"/>
              </a:rPr>
              <a:t>結論</a:t>
            </a:r>
            <a:r>
              <a:rPr b="1" lang="en-US" sz="2200" spc="-1" strike="noStrike" u="sng">
                <a:solidFill>
                  <a:srgbClr val="e50601"/>
                </a:solidFill>
                <a:uFillTx/>
                <a:latin typeface="Arial"/>
                <a:ea typeface="新細明體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e50601"/>
                </a:solidFill>
                <a:latin typeface="Arial"/>
                <a:ea typeface="新細明體"/>
              </a:rPr>
              <a:t>喝茶後人更覺醒</a:t>
            </a:r>
            <a:r>
              <a:rPr b="0" lang="en-US" sz="2200" spc="-1" strike="noStrike">
                <a:solidFill>
                  <a:srgbClr val="e50601"/>
                </a:solidFill>
                <a:latin typeface="Arial"/>
                <a:ea typeface="新細明體"/>
              </a:rPr>
              <a:t>,</a:t>
            </a:r>
            <a:r>
              <a:rPr b="0" lang="zh-TW" sz="2200" spc="-1" strike="noStrike">
                <a:solidFill>
                  <a:srgbClr val="e50601"/>
                </a:solidFill>
                <a:latin typeface="Arial"/>
                <a:ea typeface="新細明體"/>
              </a:rPr>
              <a:t>頭腦清醒靈活，易集中精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35880" y="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喝茶與精神集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962520" y="838080"/>
            <a:ext cx="5029200" cy="5867640"/>
            <a:chOff x="3962520" y="838080"/>
            <a:chExt cx="5029200" cy="5867640"/>
          </a:xfrm>
        </p:grpSpPr>
        <p:sp>
          <p:nvSpPr>
            <p:cNvPr id="184" name=""/>
            <p:cNvSpPr/>
            <p:nvPr/>
          </p:nvSpPr>
          <p:spPr>
            <a:xfrm>
              <a:off x="6478920" y="2044800"/>
              <a:ext cx="79200" cy="544320"/>
            </a:xfrm>
            <a:prstGeom prst="downArrow">
              <a:avLst>
                <a:gd name="adj1" fmla="val 50000"/>
                <a:gd name="adj2" fmla="val 1718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48680" y="2044800"/>
              <a:ext cx="79560" cy="544320"/>
            </a:xfrm>
            <a:prstGeom prst="downArrow">
              <a:avLst>
                <a:gd name="adj1" fmla="val 50000"/>
                <a:gd name="adj2" fmla="val 1710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29600" y="2044800"/>
              <a:ext cx="79200" cy="544320"/>
            </a:xfrm>
            <a:prstGeom prst="downArrow">
              <a:avLst>
                <a:gd name="adj1" fmla="val 50000"/>
                <a:gd name="adj2" fmla="val 1718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62520" y="838080"/>
              <a:ext cx="502920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92840" y="1492200"/>
              <a:ext cx="352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Pychopharmacology 139: 230-238, 199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115160" y="927000"/>
              <a:ext cx="4724280" cy="596880"/>
              <a:chOff x="4115160" y="927000"/>
              <a:chExt cx="4724280" cy="596880"/>
            </a:xfrm>
          </p:grpSpPr>
          <p:pic>
            <p:nvPicPr>
              <p:cNvPr id="19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15160" y="927000"/>
                <a:ext cx="4724280" cy="5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76520" y="1288800"/>
                <a:ext cx="2639520" cy="169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2" name=""/>
            <p:cNvGrpSpPr/>
            <p:nvPr/>
          </p:nvGrpSpPr>
          <p:grpSpPr>
            <a:xfrm>
              <a:off x="4419720" y="1752480"/>
              <a:ext cx="3885840" cy="4908240"/>
              <a:chOff x="4419720" y="1752480"/>
              <a:chExt cx="3885840" cy="4908240"/>
            </a:xfrm>
          </p:grpSpPr>
          <p:pic>
            <p:nvPicPr>
              <p:cNvPr id="1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32000"/>
                <a:ext cx="3885840" cy="44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6554520" y="2152080"/>
                <a:ext cx="78480" cy="544320"/>
              </a:xfrm>
              <a:prstGeom prst="downArrow">
                <a:avLst>
                  <a:gd name="adj1" fmla="val 50000"/>
                  <a:gd name="adj2" fmla="val 173394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42920" y="175248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9999"/>
                    </a:solidFill>
                    <a:latin typeface="Arial"/>
                    <a:ea typeface="新細明體"/>
                  </a:rPr>
                  <a:t>茶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24280" y="2152080"/>
                <a:ext cx="79200" cy="544320"/>
              </a:xfrm>
              <a:prstGeom prst="downArrow">
                <a:avLst>
                  <a:gd name="adj1" fmla="val 50000"/>
                  <a:gd name="adj2" fmla="val 17181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05560" y="2152080"/>
                <a:ext cx="78480" cy="544320"/>
              </a:xfrm>
              <a:prstGeom prst="downArrow">
                <a:avLst>
                  <a:gd name="adj1" fmla="val 50000"/>
                  <a:gd name="adj2" fmla="val 173394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94680" y="175248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9999"/>
                    </a:solidFill>
                    <a:latin typeface="Arial"/>
                    <a:ea typeface="新細明體"/>
                  </a:rPr>
                  <a:t>茶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13040" y="175248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9999"/>
                    </a:solidFill>
                    <a:latin typeface="Arial"/>
                    <a:ea typeface="新細明體"/>
                  </a:rPr>
                  <a:t>茶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280320" y="6400800"/>
            <a:ext cx="557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udy conducted by Professor Andrew Scholey, University of Northumb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526000" y="1792440"/>
            <a:ext cx="1835280" cy="862560"/>
            <a:chOff x="5526000" y="1792440"/>
            <a:chExt cx="1835280" cy="862560"/>
          </a:xfrm>
        </p:grpSpPr>
        <p:sp>
          <p:nvSpPr>
            <p:cNvPr id="202" name=""/>
            <p:cNvSpPr/>
            <p:nvPr/>
          </p:nvSpPr>
          <p:spPr>
            <a:xfrm>
              <a:off x="6132600" y="179244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安慰劑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26000" y="1888920"/>
              <a:ext cx="398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75400" y="1838160"/>
              <a:ext cx="99720" cy="1011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37280" y="2008080"/>
              <a:ext cx="1224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咖啡因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(150 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亳克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26000" y="2106360"/>
              <a:ext cx="398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75400" y="2055600"/>
              <a:ext cx="99720" cy="99720"/>
            </a:xfrm>
            <a:prstGeom prst="ellips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37640" y="2225520"/>
              <a:ext cx="117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茶胺酸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(250 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亳克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26000" y="2322360"/>
              <a:ext cx="398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70360" y="2292120"/>
              <a:ext cx="109800" cy="93600"/>
            </a:xfrm>
            <a:custGeom>
              <a:avLst/>
              <a:gdLst/>
              <a:ahLst/>
              <a:rect l="l" t="t" r="r" b="b"/>
              <a:pathLst>
                <a:path w="138" h="119">
                  <a:moveTo>
                    <a:pt x="69" y="119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69" y="119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94880" y="2441520"/>
              <a:ext cx="829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咖啡因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+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茶胺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26000" y="2539800"/>
              <a:ext cx="398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0360" y="2508120"/>
              <a:ext cx="109800" cy="95040"/>
            </a:xfrm>
            <a:custGeom>
              <a:avLst/>
              <a:gdLst/>
              <a:ahLst/>
              <a:rect l="l" t="t" r="r" b="b"/>
              <a:pathLst>
                <a:path w="138" h="118">
                  <a:moveTo>
                    <a:pt x="69" y="11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69" y="11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072440" y="3316320"/>
            <a:ext cx="2685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ple Reaction Time (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反應時間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48000" y="3621240"/>
            <a:ext cx="3361680" cy="2246040"/>
            <a:chOff x="648000" y="3621240"/>
            <a:chExt cx="3361680" cy="2246040"/>
          </a:xfrm>
        </p:grpSpPr>
        <p:sp>
          <p:nvSpPr>
            <p:cNvPr id="216" name=""/>
            <p:cNvSpPr/>
            <p:nvPr/>
          </p:nvSpPr>
          <p:spPr>
            <a:xfrm>
              <a:off x="934200" y="3708000"/>
              <a:ext cx="3075480" cy="1883520"/>
            </a:xfrm>
            <a:prstGeom prst="rect">
              <a:avLst/>
            </a:prstGeom>
            <a:noFill/>
            <a:ln w="9360">
              <a:solidFill>
                <a:srgbClr val="0101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447200" y="5591880"/>
              <a:ext cx="1440" cy="2592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471400" y="5591880"/>
              <a:ext cx="1080" cy="2592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497040" y="5591880"/>
              <a:ext cx="1440" cy="2592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38400" y="5684400"/>
              <a:ext cx="1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開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09400" y="568440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30 </a:t>
              </a:r>
              <a:r>
                <a:rPr b="1" lang="zh-TW" sz="12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分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36120" y="568296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90 </a:t>
              </a:r>
              <a:r>
                <a:rPr b="1" lang="zh-TW" sz="12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分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03240" y="3708000"/>
              <a:ext cx="30960" cy="1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03240" y="4021200"/>
              <a:ext cx="30960" cy="10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03240" y="4335480"/>
              <a:ext cx="30960" cy="10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03240" y="4649760"/>
              <a:ext cx="30960" cy="10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3240" y="4962960"/>
              <a:ext cx="30960" cy="10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03240" y="5277240"/>
              <a:ext cx="30960" cy="10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3240" y="5591880"/>
              <a:ext cx="30960" cy="10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8000" y="362124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-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6440" y="3933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1560" y="4248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1560" y="45626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1560" y="48758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1560" y="5190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1560" y="5504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447200" y="4020480"/>
              <a:ext cx="2049840" cy="959400"/>
            </a:xfrm>
            <a:custGeom>
              <a:avLst/>
              <a:gdLst/>
              <a:ahLst/>
              <a:rect l="l" t="t" r="r" b="b"/>
              <a:pathLst>
                <a:path w="2624" h="1204">
                  <a:moveTo>
                    <a:pt x="0" y="1204"/>
                  </a:moveTo>
                  <a:lnTo>
                    <a:pt x="1312" y="493"/>
                  </a:lnTo>
                  <a:lnTo>
                    <a:pt x="2624" y="0"/>
                  </a:lnTo>
                </a:path>
              </a:pathLst>
            </a:custGeom>
            <a:noFill/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447200" y="4020480"/>
              <a:ext cx="2049840" cy="296280"/>
            </a:xfrm>
            <a:custGeom>
              <a:avLst/>
              <a:gdLst/>
              <a:ahLst/>
              <a:rect l="l" t="t" r="r" b="b"/>
              <a:pathLst>
                <a:path w="2624" h="371">
                  <a:moveTo>
                    <a:pt x="0" y="371"/>
                  </a:moveTo>
                  <a:lnTo>
                    <a:pt x="1312" y="139"/>
                  </a:lnTo>
                  <a:lnTo>
                    <a:pt x="2624" y="0"/>
                  </a:lnTo>
                </a:path>
              </a:pathLst>
            </a:custGeom>
            <a:noFill/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447200" y="4020480"/>
              <a:ext cx="2049840" cy="693720"/>
            </a:xfrm>
            <a:custGeom>
              <a:avLst/>
              <a:gdLst/>
              <a:ahLst/>
              <a:rect l="l" t="t" r="r" b="b"/>
              <a:pathLst>
                <a:path w="2624" h="869">
                  <a:moveTo>
                    <a:pt x="0" y="869"/>
                  </a:moveTo>
                  <a:lnTo>
                    <a:pt x="1312" y="561"/>
                  </a:lnTo>
                  <a:lnTo>
                    <a:pt x="2624" y="0"/>
                  </a:lnTo>
                </a:path>
              </a:pathLst>
            </a:custGeom>
            <a:noFill/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447200" y="3939480"/>
              <a:ext cx="2049840" cy="81360"/>
            </a:xfrm>
            <a:custGeom>
              <a:avLst/>
              <a:gdLst/>
              <a:ahLst/>
              <a:rect l="l" t="t" r="r" b="b"/>
              <a:pathLst>
                <a:path w="2624" h="102">
                  <a:moveTo>
                    <a:pt x="0" y="0"/>
                  </a:moveTo>
                  <a:lnTo>
                    <a:pt x="1312" y="102"/>
                  </a:lnTo>
                  <a:lnTo>
                    <a:pt x="2624" y="42"/>
                  </a:lnTo>
                </a:path>
              </a:pathLst>
            </a:custGeom>
            <a:noFill/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00760" y="3974040"/>
              <a:ext cx="92160" cy="92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26760" y="4541760"/>
              <a:ext cx="90720" cy="92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52400" y="4933800"/>
              <a:ext cx="90720" cy="93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00760" y="3974040"/>
              <a:ext cx="92160" cy="92520"/>
            </a:xfrm>
            <a:prstGeom prst="ellipse">
              <a:avLst/>
            </a:prstGeom>
            <a:solidFill>
              <a:srgbClr val="800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26760" y="4159800"/>
              <a:ext cx="90720" cy="92520"/>
            </a:xfrm>
            <a:prstGeom prst="ellipse">
              <a:avLst/>
            </a:prstGeom>
            <a:solidFill>
              <a:srgbClr val="800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52400" y="4270680"/>
              <a:ext cx="90720" cy="92520"/>
            </a:xfrm>
            <a:prstGeom prst="ellipse">
              <a:avLst/>
            </a:prstGeom>
            <a:solidFill>
              <a:srgbClr val="800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99680" y="3993480"/>
              <a:ext cx="93240" cy="82800"/>
            </a:xfrm>
            <a:custGeom>
              <a:avLst/>
              <a:gdLst/>
              <a:ahLst/>
              <a:rect l="l" t="t" r="r" b="b"/>
              <a:pathLst>
                <a:path w="138" h="118">
                  <a:moveTo>
                    <a:pt x="69" y="11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69" y="118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5320" y="4240080"/>
              <a:ext cx="93240" cy="81360"/>
            </a:xfrm>
            <a:custGeom>
              <a:avLst/>
              <a:gdLst/>
              <a:ahLst/>
              <a:rect l="l" t="t" r="r" b="b"/>
              <a:pathLst>
                <a:path w="138" h="118">
                  <a:moveTo>
                    <a:pt x="69" y="11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69" y="118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50960" y="4687200"/>
              <a:ext cx="93600" cy="81360"/>
            </a:xfrm>
            <a:custGeom>
              <a:avLst/>
              <a:gdLst/>
              <a:ahLst/>
              <a:rect l="l" t="t" r="r" b="b"/>
              <a:pathLst>
                <a:path w="138" h="119">
                  <a:moveTo>
                    <a:pt x="69" y="119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69" y="119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99680" y="3993480"/>
              <a:ext cx="93240" cy="82800"/>
            </a:xfrm>
            <a:custGeom>
              <a:avLst/>
              <a:gdLst/>
              <a:ahLst/>
              <a:rect l="l" t="t" r="r" b="b"/>
              <a:pathLst>
                <a:path w="138" h="118">
                  <a:moveTo>
                    <a:pt x="69" y="11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69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5320" y="3913200"/>
              <a:ext cx="93240" cy="81360"/>
            </a:xfrm>
            <a:custGeom>
              <a:avLst/>
              <a:gdLst/>
              <a:ahLst/>
              <a:rect l="l" t="t" r="r" b="b"/>
              <a:pathLst>
                <a:path w="138" h="119">
                  <a:moveTo>
                    <a:pt x="69" y="119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69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50960" y="3960360"/>
              <a:ext cx="93600" cy="81360"/>
            </a:xfrm>
            <a:custGeom>
              <a:avLst/>
              <a:gdLst/>
              <a:ahLst/>
              <a:rect l="l" t="t" r="r" b="b"/>
              <a:pathLst>
                <a:path w="138" h="119">
                  <a:moveTo>
                    <a:pt x="69" y="119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69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40000" y="373608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1010b"/>
                  </a:solidFill>
                  <a:latin typeface="Times New Roman"/>
                  <a:ea typeface="新細明體"/>
                </a:rPr>
                <a:t>**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79600" y="3812040"/>
              <a:ext cx="51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1010b"/>
                  </a:solidFill>
                  <a:latin typeface="Times New Roman"/>
                  <a:ea typeface="新細明體"/>
                </a:rPr>
                <a:t>****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57720" y="410436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1010b"/>
                  </a:solidFill>
                  <a:latin typeface="Times New Roman"/>
                  <a:ea typeface="新細明體"/>
                </a:rPr>
                <a:t>**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104440" y="3544920"/>
            <a:ext cx="3466080" cy="2305800"/>
            <a:chOff x="5104440" y="3544920"/>
            <a:chExt cx="3466080" cy="2305800"/>
          </a:xfrm>
        </p:grpSpPr>
        <p:sp>
          <p:nvSpPr>
            <p:cNvPr id="257" name=""/>
            <p:cNvSpPr/>
            <p:nvPr/>
          </p:nvSpPr>
          <p:spPr>
            <a:xfrm>
              <a:off x="5438520" y="3637080"/>
              <a:ext cx="3132000" cy="1935360"/>
            </a:xfrm>
            <a:prstGeom prst="rect">
              <a:avLst/>
            </a:prstGeom>
            <a:noFill/>
            <a:ln w="9360">
              <a:solidFill>
                <a:srgbClr val="0101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960880" y="5572800"/>
              <a:ext cx="1080" cy="26640"/>
            </a:xfrm>
            <a:prstGeom prst="line">
              <a:avLst/>
            </a:prstGeom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003800" y="5572800"/>
              <a:ext cx="1080" cy="26640"/>
            </a:xfrm>
            <a:prstGeom prst="line">
              <a:avLst/>
            </a:prstGeom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8048520" y="5572800"/>
              <a:ext cx="1080" cy="26640"/>
            </a:xfrm>
            <a:prstGeom prst="line">
              <a:avLst/>
            </a:prstGeom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6320" y="5667840"/>
              <a:ext cx="1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開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38560" y="566784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30 </a:t>
              </a:r>
              <a:r>
                <a:rPr b="1" lang="zh-TW" sz="12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分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83280" y="566784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90 </a:t>
              </a:r>
              <a:r>
                <a:rPr b="1" lang="zh-TW" sz="12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分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06480" y="5572800"/>
              <a:ext cx="31680" cy="1080"/>
            </a:xfrm>
            <a:prstGeom prst="line">
              <a:avLst/>
            </a:prstGeom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06480" y="5088600"/>
              <a:ext cx="31680" cy="1440"/>
            </a:xfrm>
            <a:prstGeom prst="line">
              <a:avLst/>
            </a:prstGeom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06480" y="4604760"/>
              <a:ext cx="31680" cy="1080"/>
            </a:xfrm>
            <a:prstGeom prst="line">
              <a:avLst/>
            </a:prstGeom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06480" y="4119480"/>
              <a:ext cx="31680" cy="1440"/>
            </a:xfrm>
            <a:prstGeom prst="line">
              <a:avLst/>
            </a:prstGeom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06480" y="3637080"/>
              <a:ext cx="31680" cy="1440"/>
            </a:xfrm>
            <a:prstGeom prst="line">
              <a:avLst/>
            </a:prstGeom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04440" y="548136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-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90120" y="499644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-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2680" y="4513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42680" y="4028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54840" y="3544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1010b"/>
                  </a:solidFill>
                  <a:latin typeface="Arial"/>
                  <a:ea typeface="新細明體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960880" y="4604040"/>
              <a:ext cx="2087640" cy="563400"/>
            </a:xfrm>
            <a:custGeom>
              <a:avLst/>
              <a:gdLst/>
              <a:ahLst/>
              <a:rect l="l" t="t" r="r" b="b"/>
              <a:pathLst>
                <a:path w="2624" h="688">
                  <a:moveTo>
                    <a:pt x="0" y="688"/>
                  </a:moveTo>
                  <a:lnTo>
                    <a:pt x="1312" y="144"/>
                  </a:lnTo>
                  <a:lnTo>
                    <a:pt x="2624" y="0"/>
                  </a:lnTo>
                </a:path>
              </a:pathLst>
            </a:custGeom>
            <a:noFill/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960880" y="4604760"/>
              <a:ext cx="2087640" cy="51120"/>
            </a:xfrm>
            <a:custGeom>
              <a:avLst/>
              <a:gdLst/>
              <a:ahLst/>
              <a:rect l="l" t="t" r="r" b="b"/>
              <a:pathLst>
                <a:path w="2624" h="63">
                  <a:moveTo>
                    <a:pt x="0" y="63"/>
                  </a:moveTo>
                  <a:lnTo>
                    <a:pt x="1312" y="35"/>
                  </a:lnTo>
                  <a:lnTo>
                    <a:pt x="2624" y="0"/>
                  </a:lnTo>
                </a:path>
              </a:pathLst>
            </a:custGeom>
            <a:noFill/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960880" y="4604040"/>
              <a:ext cx="2087640" cy="368280"/>
            </a:xfrm>
            <a:custGeom>
              <a:avLst/>
              <a:gdLst/>
              <a:ahLst/>
              <a:rect l="l" t="t" r="r" b="b"/>
              <a:pathLst>
                <a:path w="2624" h="450">
                  <a:moveTo>
                    <a:pt x="0" y="450"/>
                  </a:moveTo>
                  <a:lnTo>
                    <a:pt x="1312" y="28"/>
                  </a:lnTo>
                  <a:lnTo>
                    <a:pt x="2624" y="0"/>
                  </a:lnTo>
                </a:path>
              </a:pathLst>
            </a:custGeom>
            <a:noFill/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960880" y="4032000"/>
              <a:ext cx="2087640" cy="572040"/>
            </a:xfrm>
            <a:custGeom>
              <a:avLst/>
              <a:gdLst/>
              <a:ahLst/>
              <a:rect l="l" t="t" r="r" b="b"/>
              <a:pathLst>
                <a:path w="2624" h="697">
                  <a:moveTo>
                    <a:pt x="0" y="0"/>
                  </a:moveTo>
                  <a:lnTo>
                    <a:pt x="1312" y="697"/>
                  </a:lnTo>
                  <a:lnTo>
                    <a:pt x="2624" y="442"/>
                  </a:lnTo>
                </a:path>
              </a:pathLst>
            </a:custGeom>
            <a:noFill/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13720" y="4556520"/>
              <a:ext cx="93960" cy="95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58080" y="5001840"/>
              <a:ext cx="92520" cy="96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02800" y="5119920"/>
              <a:ext cx="92520" cy="96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13720" y="4556520"/>
              <a:ext cx="93960" cy="95040"/>
            </a:xfrm>
            <a:prstGeom prst="ellipse">
              <a:avLst/>
            </a:prstGeom>
            <a:solidFill>
              <a:srgbClr val="800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58080" y="4579200"/>
              <a:ext cx="92520" cy="95040"/>
            </a:xfrm>
            <a:prstGeom prst="ellipse">
              <a:avLst/>
            </a:prstGeom>
            <a:solidFill>
              <a:srgbClr val="800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02800" y="4607640"/>
              <a:ext cx="92520" cy="96480"/>
            </a:xfrm>
            <a:prstGeom prst="ellipse">
              <a:avLst/>
            </a:prstGeom>
            <a:solidFill>
              <a:srgbClr val="800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12280" y="4576320"/>
              <a:ext cx="95400" cy="84960"/>
            </a:xfrm>
            <a:custGeom>
              <a:avLst/>
              <a:gdLst/>
              <a:ahLst/>
              <a:rect l="l" t="t" r="r" b="b"/>
              <a:pathLst>
                <a:path w="138" h="118">
                  <a:moveTo>
                    <a:pt x="69" y="11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69" y="118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56640" y="4921920"/>
              <a:ext cx="95040" cy="85320"/>
            </a:xfrm>
            <a:custGeom>
              <a:avLst/>
              <a:gdLst/>
              <a:ahLst/>
              <a:rect l="l" t="t" r="r" b="b"/>
              <a:pathLst>
                <a:path w="139" h="118">
                  <a:moveTo>
                    <a:pt x="70" y="118"/>
                  </a:moveTo>
                  <a:lnTo>
                    <a:pt x="0" y="0"/>
                  </a:lnTo>
                  <a:lnTo>
                    <a:pt x="139" y="0"/>
                  </a:lnTo>
                  <a:lnTo>
                    <a:pt x="70" y="118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99920" y="4944960"/>
              <a:ext cx="96480" cy="84960"/>
            </a:xfrm>
            <a:custGeom>
              <a:avLst/>
              <a:gdLst/>
              <a:ahLst/>
              <a:rect l="l" t="t" r="r" b="b"/>
              <a:pathLst>
                <a:path w="138" h="119">
                  <a:moveTo>
                    <a:pt x="69" y="119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69" y="119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12280" y="4576320"/>
              <a:ext cx="95400" cy="84960"/>
            </a:xfrm>
            <a:custGeom>
              <a:avLst/>
              <a:gdLst/>
              <a:ahLst/>
              <a:rect l="l" t="t" r="r" b="b"/>
              <a:pathLst>
                <a:path w="138" h="118">
                  <a:moveTo>
                    <a:pt x="69" y="11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69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56640" y="4005720"/>
              <a:ext cx="95040" cy="83880"/>
            </a:xfrm>
            <a:custGeom>
              <a:avLst/>
              <a:gdLst/>
              <a:ahLst/>
              <a:rect l="l" t="t" r="r" b="b"/>
              <a:pathLst>
                <a:path w="139" h="119">
                  <a:moveTo>
                    <a:pt x="70" y="119"/>
                  </a:moveTo>
                  <a:lnTo>
                    <a:pt x="0" y="0"/>
                  </a:lnTo>
                  <a:lnTo>
                    <a:pt x="139" y="0"/>
                  </a:lnTo>
                  <a:lnTo>
                    <a:pt x="7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99920" y="4214880"/>
              <a:ext cx="96480" cy="83880"/>
            </a:xfrm>
            <a:custGeom>
              <a:avLst/>
              <a:gdLst/>
              <a:ahLst/>
              <a:rect l="l" t="t" r="r" b="b"/>
              <a:pathLst>
                <a:path w="138" h="119">
                  <a:moveTo>
                    <a:pt x="69" y="119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69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101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4920" y="3837600"/>
              <a:ext cx="51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1010b"/>
                  </a:solidFill>
                  <a:latin typeface="Times New Roman"/>
                  <a:ea typeface="新細明體"/>
                </a:rPr>
                <a:t>****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30720" y="4032720"/>
              <a:ext cx="51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1010b"/>
                  </a:solidFill>
                  <a:latin typeface="Times New Roman"/>
                  <a:ea typeface="新細明體"/>
                </a:rPr>
                <a:t>****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07840" y="4437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1010b"/>
                  </a:solidFill>
                  <a:latin typeface="Times New Roman"/>
                  <a:ea typeface="新細明體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rot="16200000">
            <a:off x="4543200" y="452592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警覺及靈活性的改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50520" y="3240000"/>
            <a:ext cx="20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ertness  (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警覺及靈活性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240000" y="1258920"/>
            <a:ext cx="1663920" cy="2068200"/>
            <a:chOff x="3240000" y="1258920"/>
            <a:chExt cx="1663920" cy="2068200"/>
          </a:xfrm>
        </p:grpSpPr>
        <p:sp>
          <p:nvSpPr>
            <p:cNvPr id="296" name=""/>
            <p:cNvSpPr/>
            <p:nvPr/>
          </p:nvSpPr>
          <p:spPr>
            <a:xfrm>
              <a:off x="3554280" y="1746360"/>
              <a:ext cx="119160" cy="82440"/>
            </a:xfrm>
            <a:custGeom>
              <a:avLst/>
              <a:gdLst/>
              <a:ahLst/>
              <a:rect l="l" t="t" r="r" b="b"/>
              <a:pathLst>
                <a:path w="193" h="167">
                  <a:moveTo>
                    <a:pt x="96" y="167"/>
                  </a:moveTo>
                  <a:lnTo>
                    <a:pt x="88" y="167"/>
                  </a:lnTo>
                  <a:lnTo>
                    <a:pt x="81" y="166"/>
                  </a:lnTo>
                  <a:lnTo>
                    <a:pt x="73" y="164"/>
                  </a:lnTo>
                  <a:lnTo>
                    <a:pt x="66" y="161"/>
                  </a:lnTo>
                  <a:lnTo>
                    <a:pt x="59" y="157"/>
                  </a:lnTo>
                  <a:lnTo>
                    <a:pt x="52" y="153"/>
                  </a:lnTo>
                  <a:lnTo>
                    <a:pt x="45" y="148"/>
                  </a:lnTo>
                  <a:lnTo>
                    <a:pt x="38" y="142"/>
                  </a:lnTo>
                  <a:lnTo>
                    <a:pt x="30" y="132"/>
                  </a:lnTo>
                  <a:lnTo>
                    <a:pt x="22" y="121"/>
                  </a:lnTo>
                  <a:lnTo>
                    <a:pt x="15" y="109"/>
                  </a:lnTo>
                  <a:lnTo>
                    <a:pt x="11" y="96"/>
                  </a:lnTo>
                  <a:lnTo>
                    <a:pt x="6" y="83"/>
                  </a:lnTo>
                  <a:lnTo>
                    <a:pt x="2" y="70"/>
                  </a:lnTo>
                  <a:lnTo>
                    <a:pt x="1" y="55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2" y="10"/>
                  </a:lnTo>
                  <a:lnTo>
                    <a:pt x="5" y="0"/>
                  </a:lnTo>
                  <a:lnTo>
                    <a:pt x="188" y="0"/>
                  </a:lnTo>
                  <a:lnTo>
                    <a:pt x="189" y="10"/>
                  </a:lnTo>
                  <a:lnTo>
                    <a:pt x="191" y="20"/>
                  </a:lnTo>
                  <a:lnTo>
                    <a:pt x="193" y="29"/>
                  </a:lnTo>
                  <a:lnTo>
                    <a:pt x="193" y="40"/>
                  </a:lnTo>
                  <a:lnTo>
                    <a:pt x="190" y="65"/>
                  </a:lnTo>
                  <a:lnTo>
                    <a:pt x="184" y="89"/>
                  </a:lnTo>
                  <a:lnTo>
                    <a:pt x="176" y="111"/>
                  </a:lnTo>
                  <a:lnTo>
                    <a:pt x="164" y="129"/>
                  </a:lnTo>
                  <a:lnTo>
                    <a:pt x="150" y="146"/>
                  </a:lnTo>
                  <a:lnTo>
                    <a:pt x="134" y="157"/>
                  </a:lnTo>
                  <a:lnTo>
                    <a:pt x="115" y="165"/>
                  </a:lnTo>
                  <a:lnTo>
                    <a:pt x="96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67240" y="1701720"/>
              <a:ext cx="93600" cy="25560"/>
            </a:xfrm>
            <a:custGeom>
              <a:avLst/>
              <a:gdLst/>
              <a:ahLst/>
              <a:rect l="l" t="t" r="r" b="b"/>
              <a:pathLst>
                <a:path w="151" h="48">
                  <a:moveTo>
                    <a:pt x="151" y="48"/>
                  </a:moveTo>
                  <a:lnTo>
                    <a:pt x="0" y="48"/>
                  </a:lnTo>
                  <a:lnTo>
                    <a:pt x="3" y="42"/>
                  </a:lnTo>
                  <a:lnTo>
                    <a:pt x="8" y="37"/>
                  </a:lnTo>
                  <a:lnTo>
                    <a:pt x="13" y="31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1" y="15"/>
                  </a:lnTo>
                  <a:lnTo>
                    <a:pt x="38" y="10"/>
                  </a:lnTo>
                  <a:lnTo>
                    <a:pt x="45" y="7"/>
                  </a:lnTo>
                  <a:lnTo>
                    <a:pt x="52" y="3"/>
                  </a:lnTo>
                  <a:lnTo>
                    <a:pt x="60" y="1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1"/>
                  </a:lnTo>
                  <a:lnTo>
                    <a:pt x="98" y="3"/>
                  </a:lnTo>
                  <a:lnTo>
                    <a:pt x="106" y="7"/>
                  </a:lnTo>
                  <a:lnTo>
                    <a:pt x="113" y="10"/>
                  </a:lnTo>
                  <a:lnTo>
                    <a:pt x="120" y="15"/>
                  </a:lnTo>
                  <a:lnTo>
                    <a:pt x="127" y="19"/>
                  </a:lnTo>
                  <a:lnTo>
                    <a:pt x="132" y="25"/>
                  </a:lnTo>
                  <a:lnTo>
                    <a:pt x="137" y="31"/>
                  </a:lnTo>
                  <a:lnTo>
                    <a:pt x="142" y="37"/>
                  </a:lnTo>
                  <a:lnTo>
                    <a:pt x="146" y="42"/>
                  </a:lnTo>
                  <a:lnTo>
                    <a:pt x="151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535200" y="1258920"/>
              <a:ext cx="573120" cy="554040"/>
              <a:chOff x="3535200" y="1258920"/>
              <a:chExt cx="573120" cy="554040"/>
            </a:xfrm>
          </p:grpSpPr>
          <p:sp>
            <p:nvSpPr>
              <p:cNvPr id="299" name=""/>
              <p:cNvSpPr/>
              <p:nvPr/>
            </p:nvSpPr>
            <p:spPr>
              <a:xfrm>
                <a:off x="3611880" y="1258920"/>
                <a:ext cx="432360" cy="387000"/>
              </a:xfrm>
              <a:custGeom>
                <a:avLst/>
                <a:gdLst/>
                <a:ahLst/>
                <a:rect l="l" t="t" r="r" b="b"/>
                <a:pathLst>
                  <a:path w="705" h="778">
                    <a:moveTo>
                      <a:pt x="705" y="0"/>
                    </a:moveTo>
                    <a:lnTo>
                      <a:pt x="0" y="0"/>
                    </a:lnTo>
                    <a:lnTo>
                      <a:pt x="0" y="718"/>
                    </a:lnTo>
                    <a:lnTo>
                      <a:pt x="207" y="718"/>
                    </a:lnTo>
                    <a:lnTo>
                      <a:pt x="258" y="778"/>
                    </a:lnTo>
                    <a:lnTo>
                      <a:pt x="455" y="778"/>
                    </a:lnTo>
                    <a:lnTo>
                      <a:pt x="510" y="718"/>
                    </a:lnTo>
                    <a:lnTo>
                      <a:pt x="705" y="718"/>
                    </a:lnTo>
                    <a:lnTo>
                      <a:pt x="7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636000" y="1278720"/>
                <a:ext cx="384480" cy="345240"/>
              </a:xfrm>
              <a:custGeom>
                <a:avLst/>
                <a:gdLst/>
                <a:ahLst/>
                <a:rect l="l" t="t" r="r" b="b"/>
                <a:pathLst>
                  <a:path w="625" h="697">
                    <a:moveTo>
                      <a:pt x="397" y="697"/>
                    </a:moveTo>
                    <a:lnTo>
                      <a:pt x="236" y="697"/>
                    </a:lnTo>
                    <a:lnTo>
                      <a:pt x="185" y="637"/>
                    </a:lnTo>
                    <a:lnTo>
                      <a:pt x="0" y="637"/>
                    </a:lnTo>
                    <a:lnTo>
                      <a:pt x="0" y="0"/>
                    </a:lnTo>
                    <a:lnTo>
                      <a:pt x="625" y="0"/>
                    </a:lnTo>
                    <a:lnTo>
                      <a:pt x="625" y="637"/>
                    </a:lnTo>
                    <a:lnTo>
                      <a:pt x="453" y="637"/>
                    </a:lnTo>
                    <a:lnTo>
                      <a:pt x="397" y="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671280" y="1325160"/>
                <a:ext cx="304560" cy="235080"/>
              </a:xfrm>
              <a:prstGeom prst="rect">
                <a:avLst/>
              </a:prstGeom>
              <a:solidFill>
                <a:srgbClr val="0101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35200" y="1663200"/>
                <a:ext cx="573120" cy="149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49600" y="1685520"/>
                <a:ext cx="522720" cy="10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881520" y="1721880"/>
                <a:ext cx="15192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01960" y="1588320"/>
                <a:ext cx="568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587760" y="1700280"/>
                <a:ext cx="20880" cy="18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9" y="29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9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27360" y="1700280"/>
                <a:ext cx="20880" cy="183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9"/>
                    </a:lnTo>
                    <a:lnTo>
                      <a:pt x="34" y="24"/>
                    </a:lnTo>
                    <a:lnTo>
                      <a:pt x="35" y="17"/>
                    </a:lnTo>
                    <a:lnTo>
                      <a:pt x="34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9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666240" y="1700280"/>
                <a:ext cx="20880" cy="18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8" y="29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705840" y="1700280"/>
                <a:ext cx="21240" cy="183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9"/>
                    </a:lnTo>
                    <a:lnTo>
                      <a:pt x="33" y="24"/>
                    </a:lnTo>
                    <a:lnTo>
                      <a:pt x="35" y="17"/>
                    </a:lnTo>
                    <a:lnTo>
                      <a:pt x="33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9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587760" y="1730160"/>
                <a:ext cx="20880" cy="16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9" y="29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9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627360" y="1730160"/>
                <a:ext cx="20880" cy="16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9"/>
                    </a:lnTo>
                    <a:lnTo>
                      <a:pt x="34" y="24"/>
                    </a:lnTo>
                    <a:lnTo>
                      <a:pt x="35" y="17"/>
                    </a:lnTo>
                    <a:lnTo>
                      <a:pt x="34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9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66240" y="1730160"/>
                <a:ext cx="20880" cy="16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8" y="29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05840" y="1730160"/>
                <a:ext cx="21240" cy="16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9"/>
                    </a:lnTo>
                    <a:lnTo>
                      <a:pt x="33" y="24"/>
                    </a:lnTo>
                    <a:lnTo>
                      <a:pt x="35" y="17"/>
                    </a:lnTo>
                    <a:lnTo>
                      <a:pt x="33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9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87760" y="1761120"/>
                <a:ext cx="20880" cy="1512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9" y="28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9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8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627360" y="1761120"/>
                <a:ext cx="20880" cy="1512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8"/>
                    </a:lnTo>
                    <a:lnTo>
                      <a:pt x="34" y="24"/>
                    </a:lnTo>
                    <a:lnTo>
                      <a:pt x="35" y="17"/>
                    </a:lnTo>
                    <a:lnTo>
                      <a:pt x="34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8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666240" y="1761120"/>
                <a:ext cx="20880" cy="1512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8" y="28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8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05840" y="1761120"/>
                <a:ext cx="21240" cy="1512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8"/>
                    </a:lnTo>
                    <a:lnTo>
                      <a:pt x="33" y="24"/>
                    </a:lnTo>
                    <a:lnTo>
                      <a:pt x="35" y="17"/>
                    </a:lnTo>
                    <a:lnTo>
                      <a:pt x="33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8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747240" y="1385640"/>
                <a:ext cx="227520" cy="231120"/>
              </a:xfrm>
              <a:prstGeom prst="rect">
                <a:avLst/>
              </a:prstGeom>
              <a:solidFill>
                <a:srgbClr val="0101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bbe0e3"/>
                    </a:solidFill>
                    <a:latin typeface="Arial"/>
                    <a:ea typeface="MS PGothic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35280" y="1385640"/>
                <a:ext cx="227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新細明體"/>
                  </a:rPr>
                  <a:t>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801960" y="1385640"/>
                <a:ext cx="22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新細明體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3989520" y="1989000"/>
              <a:ext cx="95040" cy="27000"/>
            </a:xfrm>
            <a:custGeom>
              <a:avLst/>
              <a:gdLst/>
              <a:ahLst/>
              <a:rect l="l" t="t" r="r" b="b"/>
              <a:pathLst>
                <a:path w="151" h="48">
                  <a:moveTo>
                    <a:pt x="151" y="48"/>
                  </a:moveTo>
                  <a:lnTo>
                    <a:pt x="0" y="48"/>
                  </a:lnTo>
                  <a:lnTo>
                    <a:pt x="3" y="42"/>
                  </a:lnTo>
                  <a:lnTo>
                    <a:pt x="8" y="37"/>
                  </a:lnTo>
                  <a:lnTo>
                    <a:pt x="13" y="31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1" y="15"/>
                  </a:lnTo>
                  <a:lnTo>
                    <a:pt x="38" y="10"/>
                  </a:lnTo>
                  <a:lnTo>
                    <a:pt x="45" y="7"/>
                  </a:lnTo>
                  <a:lnTo>
                    <a:pt x="52" y="3"/>
                  </a:lnTo>
                  <a:lnTo>
                    <a:pt x="60" y="1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1"/>
                  </a:lnTo>
                  <a:lnTo>
                    <a:pt x="98" y="3"/>
                  </a:lnTo>
                  <a:lnTo>
                    <a:pt x="106" y="7"/>
                  </a:lnTo>
                  <a:lnTo>
                    <a:pt x="113" y="10"/>
                  </a:lnTo>
                  <a:lnTo>
                    <a:pt x="120" y="15"/>
                  </a:lnTo>
                  <a:lnTo>
                    <a:pt x="127" y="19"/>
                  </a:lnTo>
                  <a:lnTo>
                    <a:pt x="132" y="25"/>
                  </a:lnTo>
                  <a:lnTo>
                    <a:pt x="137" y="31"/>
                  </a:lnTo>
                  <a:lnTo>
                    <a:pt x="142" y="37"/>
                  </a:lnTo>
                  <a:lnTo>
                    <a:pt x="146" y="42"/>
                  </a:lnTo>
                  <a:lnTo>
                    <a:pt x="151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911760" y="1576440"/>
              <a:ext cx="572760" cy="552240"/>
              <a:chOff x="3911760" y="1576440"/>
              <a:chExt cx="572760" cy="552240"/>
            </a:xfrm>
          </p:grpSpPr>
          <p:sp>
            <p:nvSpPr>
              <p:cNvPr id="323" name=""/>
              <p:cNvSpPr/>
              <p:nvPr/>
            </p:nvSpPr>
            <p:spPr>
              <a:xfrm>
                <a:off x="3988440" y="1576440"/>
                <a:ext cx="432000" cy="385560"/>
              </a:xfrm>
              <a:custGeom>
                <a:avLst/>
                <a:gdLst/>
                <a:ahLst/>
                <a:rect l="l" t="t" r="r" b="b"/>
                <a:pathLst>
                  <a:path w="705" h="778">
                    <a:moveTo>
                      <a:pt x="705" y="0"/>
                    </a:moveTo>
                    <a:lnTo>
                      <a:pt x="0" y="0"/>
                    </a:lnTo>
                    <a:lnTo>
                      <a:pt x="0" y="718"/>
                    </a:lnTo>
                    <a:lnTo>
                      <a:pt x="207" y="718"/>
                    </a:lnTo>
                    <a:lnTo>
                      <a:pt x="258" y="778"/>
                    </a:lnTo>
                    <a:lnTo>
                      <a:pt x="455" y="778"/>
                    </a:lnTo>
                    <a:lnTo>
                      <a:pt x="510" y="718"/>
                    </a:lnTo>
                    <a:lnTo>
                      <a:pt x="705" y="718"/>
                    </a:lnTo>
                    <a:lnTo>
                      <a:pt x="7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012920" y="1595880"/>
                <a:ext cx="384120" cy="344880"/>
              </a:xfrm>
              <a:custGeom>
                <a:avLst/>
                <a:gdLst/>
                <a:ahLst/>
                <a:rect l="l" t="t" r="r" b="b"/>
                <a:pathLst>
                  <a:path w="625" h="697">
                    <a:moveTo>
                      <a:pt x="397" y="697"/>
                    </a:moveTo>
                    <a:lnTo>
                      <a:pt x="236" y="697"/>
                    </a:lnTo>
                    <a:lnTo>
                      <a:pt x="185" y="637"/>
                    </a:lnTo>
                    <a:lnTo>
                      <a:pt x="0" y="637"/>
                    </a:lnTo>
                    <a:lnTo>
                      <a:pt x="0" y="0"/>
                    </a:lnTo>
                    <a:lnTo>
                      <a:pt x="625" y="0"/>
                    </a:lnTo>
                    <a:lnTo>
                      <a:pt x="625" y="637"/>
                    </a:lnTo>
                    <a:lnTo>
                      <a:pt x="453" y="637"/>
                    </a:lnTo>
                    <a:lnTo>
                      <a:pt x="397" y="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47840" y="1642320"/>
                <a:ext cx="304560" cy="234000"/>
              </a:xfrm>
              <a:prstGeom prst="rect">
                <a:avLst/>
              </a:prstGeom>
              <a:solidFill>
                <a:srgbClr val="0101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911760" y="1980000"/>
                <a:ext cx="572760" cy="14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926160" y="2001960"/>
                <a:ext cx="522360" cy="10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258080" y="2037960"/>
                <a:ext cx="15192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178520" y="1884600"/>
                <a:ext cx="56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63960" y="2016720"/>
                <a:ext cx="20880" cy="18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9" y="29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9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003560" y="2016720"/>
                <a:ext cx="20880" cy="183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9"/>
                    </a:lnTo>
                    <a:lnTo>
                      <a:pt x="34" y="24"/>
                    </a:lnTo>
                    <a:lnTo>
                      <a:pt x="35" y="17"/>
                    </a:lnTo>
                    <a:lnTo>
                      <a:pt x="34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9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042800" y="2016720"/>
                <a:ext cx="20880" cy="18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8" y="29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082400" y="2016720"/>
                <a:ext cx="21240" cy="183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9"/>
                    </a:lnTo>
                    <a:lnTo>
                      <a:pt x="33" y="24"/>
                    </a:lnTo>
                    <a:lnTo>
                      <a:pt x="35" y="17"/>
                    </a:lnTo>
                    <a:lnTo>
                      <a:pt x="33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9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963960" y="2046600"/>
                <a:ext cx="20880" cy="16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9" y="29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9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03560" y="2046600"/>
                <a:ext cx="20880" cy="16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9"/>
                    </a:lnTo>
                    <a:lnTo>
                      <a:pt x="34" y="24"/>
                    </a:lnTo>
                    <a:lnTo>
                      <a:pt x="35" y="17"/>
                    </a:lnTo>
                    <a:lnTo>
                      <a:pt x="34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9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42800" y="2046600"/>
                <a:ext cx="20880" cy="16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8" y="29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082400" y="2046600"/>
                <a:ext cx="21240" cy="16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9"/>
                    </a:lnTo>
                    <a:lnTo>
                      <a:pt x="33" y="24"/>
                    </a:lnTo>
                    <a:lnTo>
                      <a:pt x="35" y="17"/>
                    </a:lnTo>
                    <a:lnTo>
                      <a:pt x="33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9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63960" y="207684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9" y="28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9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8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003560" y="207684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8"/>
                    </a:lnTo>
                    <a:lnTo>
                      <a:pt x="34" y="24"/>
                    </a:lnTo>
                    <a:lnTo>
                      <a:pt x="35" y="17"/>
                    </a:lnTo>
                    <a:lnTo>
                      <a:pt x="34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8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42800" y="207684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8" y="28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8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082400" y="207684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8"/>
                    </a:lnTo>
                    <a:lnTo>
                      <a:pt x="33" y="24"/>
                    </a:lnTo>
                    <a:lnTo>
                      <a:pt x="35" y="17"/>
                    </a:lnTo>
                    <a:lnTo>
                      <a:pt x="33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8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29200" y="1702800"/>
                <a:ext cx="227520" cy="231120"/>
              </a:xfrm>
              <a:prstGeom prst="rect">
                <a:avLst/>
              </a:prstGeom>
              <a:solidFill>
                <a:srgbClr val="0101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bbe0e3"/>
                    </a:solidFill>
                    <a:latin typeface="Arial"/>
                    <a:ea typeface="MS PGothic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006080" y="1702800"/>
                <a:ext cx="227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新細明體"/>
                  </a:rPr>
                  <a:t>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78520" y="1702800"/>
                <a:ext cx="227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新細明體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4363920" y="2457360"/>
              <a:ext cx="117720" cy="81000"/>
            </a:xfrm>
            <a:custGeom>
              <a:avLst/>
              <a:gdLst/>
              <a:ahLst/>
              <a:rect l="l" t="t" r="r" b="b"/>
              <a:pathLst>
                <a:path w="193" h="167">
                  <a:moveTo>
                    <a:pt x="96" y="167"/>
                  </a:moveTo>
                  <a:lnTo>
                    <a:pt x="88" y="167"/>
                  </a:lnTo>
                  <a:lnTo>
                    <a:pt x="81" y="166"/>
                  </a:lnTo>
                  <a:lnTo>
                    <a:pt x="73" y="164"/>
                  </a:lnTo>
                  <a:lnTo>
                    <a:pt x="66" y="161"/>
                  </a:lnTo>
                  <a:lnTo>
                    <a:pt x="59" y="157"/>
                  </a:lnTo>
                  <a:lnTo>
                    <a:pt x="52" y="153"/>
                  </a:lnTo>
                  <a:lnTo>
                    <a:pt x="45" y="148"/>
                  </a:lnTo>
                  <a:lnTo>
                    <a:pt x="38" y="142"/>
                  </a:lnTo>
                  <a:lnTo>
                    <a:pt x="30" y="132"/>
                  </a:lnTo>
                  <a:lnTo>
                    <a:pt x="22" y="121"/>
                  </a:lnTo>
                  <a:lnTo>
                    <a:pt x="15" y="109"/>
                  </a:lnTo>
                  <a:lnTo>
                    <a:pt x="11" y="96"/>
                  </a:lnTo>
                  <a:lnTo>
                    <a:pt x="6" y="83"/>
                  </a:lnTo>
                  <a:lnTo>
                    <a:pt x="2" y="70"/>
                  </a:lnTo>
                  <a:lnTo>
                    <a:pt x="1" y="55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2" y="10"/>
                  </a:lnTo>
                  <a:lnTo>
                    <a:pt x="5" y="0"/>
                  </a:lnTo>
                  <a:lnTo>
                    <a:pt x="188" y="0"/>
                  </a:lnTo>
                  <a:lnTo>
                    <a:pt x="189" y="10"/>
                  </a:lnTo>
                  <a:lnTo>
                    <a:pt x="191" y="20"/>
                  </a:lnTo>
                  <a:lnTo>
                    <a:pt x="193" y="29"/>
                  </a:lnTo>
                  <a:lnTo>
                    <a:pt x="193" y="40"/>
                  </a:lnTo>
                  <a:lnTo>
                    <a:pt x="190" y="65"/>
                  </a:lnTo>
                  <a:lnTo>
                    <a:pt x="184" y="89"/>
                  </a:lnTo>
                  <a:lnTo>
                    <a:pt x="176" y="111"/>
                  </a:lnTo>
                  <a:lnTo>
                    <a:pt x="164" y="129"/>
                  </a:lnTo>
                  <a:lnTo>
                    <a:pt x="150" y="146"/>
                  </a:lnTo>
                  <a:lnTo>
                    <a:pt x="134" y="157"/>
                  </a:lnTo>
                  <a:lnTo>
                    <a:pt x="115" y="165"/>
                  </a:lnTo>
                  <a:lnTo>
                    <a:pt x="96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75080" y="2411280"/>
              <a:ext cx="95400" cy="27000"/>
            </a:xfrm>
            <a:custGeom>
              <a:avLst/>
              <a:gdLst/>
              <a:ahLst/>
              <a:rect l="l" t="t" r="r" b="b"/>
              <a:pathLst>
                <a:path w="151" h="48">
                  <a:moveTo>
                    <a:pt x="151" y="48"/>
                  </a:moveTo>
                  <a:lnTo>
                    <a:pt x="0" y="48"/>
                  </a:lnTo>
                  <a:lnTo>
                    <a:pt x="3" y="42"/>
                  </a:lnTo>
                  <a:lnTo>
                    <a:pt x="8" y="37"/>
                  </a:lnTo>
                  <a:lnTo>
                    <a:pt x="13" y="31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1" y="15"/>
                  </a:lnTo>
                  <a:lnTo>
                    <a:pt x="38" y="10"/>
                  </a:lnTo>
                  <a:lnTo>
                    <a:pt x="45" y="7"/>
                  </a:lnTo>
                  <a:lnTo>
                    <a:pt x="52" y="3"/>
                  </a:lnTo>
                  <a:lnTo>
                    <a:pt x="60" y="1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1"/>
                  </a:lnTo>
                  <a:lnTo>
                    <a:pt x="98" y="3"/>
                  </a:lnTo>
                  <a:lnTo>
                    <a:pt x="106" y="7"/>
                  </a:lnTo>
                  <a:lnTo>
                    <a:pt x="113" y="10"/>
                  </a:lnTo>
                  <a:lnTo>
                    <a:pt x="120" y="15"/>
                  </a:lnTo>
                  <a:lnTo>
                    <a:pt x="127" y="19"/>
                  </a:lnTo>
                  <a:lnTo>
                    <a:pt x="132" y="25"/>
                  </a:lnTo>
                  <a:lnTo>
                    <a:pt x="137" y="31"/>
                  </a:lnTo>
                  <a:lnTo>
                    <a:pt x="142" y="37"/>
                  </a:lnTo>
                  <a:lnTo>
                    <a:pt x="146" y="42"/>
                  </a:lnTo>
                  <a:lnTo>
                    <a:pt x="151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330800" y="1932120"/>
              <a:ext cx="573120" cy="554040"/>
              <a:chOff x="4330800" y="1932120"/>
              <a:chExt cx="573120" cy="554040"/>
            </a:xfrm>
          </p:grpSpPr>
          <p:sp>
            <p:nvSpPr>
              <p:cNvPr id="348" name=""/>
              <p:cNvSpPr/>
              <p:nvPr/>
            </p:nvSpPr>
            <p:spPr>
              <a:xfrm>
                <a:off x="4407120" y="1932120"/>
                <a:ext cx="432720" cy="387000"/>
              </a:xfrm>
              <a:custGeom>
                <a:avLst/>
                <a:gdLst/>
                <a:ahLst/>
                <a:rect l="l" t="t" r="r" b="b"/>
                <a:pathLst>
                  <a:path w="705" h="778">
                    <a:moveTo>
                      <a:pt x="705" y="0"/>
                    </a:moveTo>
                    <a:lnTo>
                      <a:pt x="0" y="0"/>
                    </a:lnTo>
                    <a:lnTo>
                      <a:pt x="0" y="718"/>
                    </a:lnTo>
                    <a:lnTo>
                      <a:pt x="207" y="718"/>
                    </a:lnTo>
                    <a:lnTo>
                      <a:pt x="258" y="778"/>
                    </a:lnTo>
                    <a:lnTo>
                      <a:pt x="455" y="778"/>
                    </a:lnTo>
                    <a:lnTo>
                      <a:pt x="510" y="718"/>
                    </a:lnTo>
                    <a:lnTo>
                      <a:pt x="705" y="718"/>
                    </a:lnTo>
                    <a:lnTo>
                      <a:pt x="7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431960" y="1951920"/>
                <a:ext cx="384120" cy="345240"/>
              </a:xfrm>
              <a:custGeom>
                <a:avLst/>
                <a:gdLst/>
                <a:ahLst/>
                <a:rect l="l" t="t" r="r" b="b"/>
                <a:pathLst>
                  <a:path w="625" h="697">
                    <a:moveTo>
                      <a:pt x="397" y="697"/>
                    </a:moveTo>
                    <a:lnTo>
                      <a:pt x="236" y="697"/>
                    </a:lnTo>
                    <a:lnTo>
                      <a:pt x="185" y="637"/>
                    </a:lnTo>
                    <a:lnTo>
                      <a:pt x="0" y="637"/>
                    </a:lnTo>
                    <a:lnTo>
                      <a:pt x="0" y="0"/>
                    </a:lnTo>
                    <a:lnTo>
                      <a:pt x="625" y="0"/>
                    </a:lnTo>
                    <a:lnTo>
                      <a:pt x="625" y="637"/>
                    </a:lnTo>
                    <a:lnTo>
                      <a:pt x="453" y="637"/>
                    </a:lnTo>
                    <a:lnTo>
                      <a:pt x="397" y="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66520" y="1998360"/>
                <a:ext cx="304920" cy="235080"/>
              </a:xfrm>
              <a:prstGeom prst="rect">
                <a:avLst/>
              </a:prstGeom>
              <a:solidFill>
                <a:srgbClr val="0101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330800" y="2336400"/>
                <a:ext cx="573120" cy="149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345200" y="2358720"/>
                <a:ext cx="522720" cy="10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76760" y="2395080"/>
                <a:ext cx="1522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597200" y="2261520"/>
                <a:ext cx="568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83360" y="2373480"/>
                <a:ext cx="20160" cy="18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9" y="29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9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22240" y="2373480"/>
                <a:ext cx="21240" cy="183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9"/>
                    </a:lnTo>
                    <a:lnTo>
                      <a:pt x="34" y="24"/>
                    </a:lnTo>
                    <a:lnTo>
                      <a:pt x="35" y="17"/>
                    </a:lnTo>
                    <a:lnTo>
                      <a:pt x="34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9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461120" y="2373480"/>
                <a:ext cx="21240" cy="18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8" y="29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01440" y="2373480"/>
                <a:ext cx="20880" cy="183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9"/>
                    </a:lnTo>
                    <a:lnTo>
                      <a:pt x="33" y="24"/>
                    </a:lnTo>
                    <a:lnTo>
                      <a:pt x="35" y="17"/>
                    </a:lnTo>
                    <a:lnTo>
                      <a:pt x="33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9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383360" y="240336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9" y="29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9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422240" y="2403360"/>
                <a:ext cx="21240" cy="16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9"/>
                    </a:lnTo>
                    <a:lnTo>
                      <a:pt x="34" y="24"/>
                    </a:lnTo>
                    <a:lnTo>
                      <a:pt x="35" y="17"/>
                    </a:lnTo>
                    <a:lnTo>
                      <a:pt x="34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9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461120" y="2403360"/>
                <a:ext cx="21240" cy="16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8" y="29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01440" y="2403360"/>
                <a:ext cx="20880" cy="16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9"/>
                    </a:lnTo>
                    <a:lnTo>
                      <a:pt x="33" y="24"/>
                    </a:lnTo>
                    <a:lnTo>
                      <a:pt x="35" y="17"/>
                    </a:lnTo>
                    <a:lnTo>
                      <a:pt x="33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9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383360" y="2433960"/>
                <a:ext cx="20160" cy="1548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9" y="28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9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8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422240" y="243396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8"/>
                    </a:lnTo>
                    <a:lnTo>
                      <a:pt x="34" y="24"/>
                    </a:lnTo>
                    <a:lnTo>
                      <a:pt x="35" y="17"/>
                    </a:lnTo>
                    <a:lnTo>
                      <a:pt x="34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8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61120" y="243396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3" y="32"/>
                    </a:lnTo>
                    <a:lnTo>
                      <a:pt x="28" y="28"/>
                    </a:lnTo>
                    <a:lnTo>
                      <a:pt x="32" y="24"/>
                    </a:lnTo>
                    <a:lnTo>
                      <a:pt x="33" y="17"/>
                    </a:lnTo>
                    <a:lnTo>
                      <a:pt x="32" y="10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4" y="28"/>
                    </a:lnTo>
                    <a:lnTo>
                      <a:pt x="9" y="32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01440" y="2433960"/>
                <a:ext cx="20880" cy="1548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33"/>
                    </a:moveTo>
                    <a:lnTo>
                      <a:pt x="24" y="32"/>
                    </a:lnTo>
                    <a:lnTo>
                      <a:pt x="30" y="28"/>
                    </a:lnTo>
                    <a:lnTo>
                      <a:pt x="33" y="24"/>
                    </a:lnTo>
                    <a:lnTo>
                      <a:pt x="35" y="17"/>
                    </a:lnTo>
                    <a:lnTo>
                      <a:pt x="33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28"/>
                    </a:lnTo>
                    <a:lnTo>
                      <a:pt x="10" y="32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548600" y="2058840"/>
                <a:ext cx="227880" cy="231120"/>
              </a:xfrm>
              <a:prstGeom prst="rect">
                <a:avLst/>
              </a:prstGeom>
              <a:solidFill>
                <a:srgbClr val="0101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bbe0e3"/>
                    </a:solidFill>
                    <a:latin typeface="Arial"/>
                    <a:ea typeface="MS PGothic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32320" y="2058840"/>
                <a:ext cx="22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新細明體"/>
                  </a:rPr>
                  <a:t>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97560" y="2058840"/>
                <a:ext cx="227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新細明體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503880" y="1950120"/>
              <a:ext cx="928440" cy="736920"/>
            </a:xfrm>
            <a:prstGeom prst="line">
              <a:avLst/>
            </a:prstGeom>
            <a:ln w="28440">
              <a:solidFill>
                <a:srgbClr val="0101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10000" y="1876320"/>
              <a:ext cx="0" cy="211320"/>
            </a:xfrm>
            <a:prstGeom prst="line">
              <a:avLst/>
            </a:prstGeom>
            <a:ln w="28440">
              <a:solidFill>
                <a:srgbClr val="0101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46680" y="2184480"/>
              <a:ext cx="0" cy="210960"/>
            </a:xfrm>
            <a:prstGeom prst="line">
              <a:avLst/>
            </a:prstGeom>
            <a:ln w="28440">
              <a:solidFill>
                <a:srgbClr val="0101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22600" y="2549520"/>
              <a:ext cx="0" cy="211320"/>
            </a:xfrm>
            <a:prstGeom prst="line">
              <a:avLst/>
            </a:prstGeom>
            <a:ln w="28440">
              <a:solidFill>
                <a:srgbClr val="0101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697200" y="2706840"/>
              <a:ext cx="0" cy="18576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98760" y="207324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  <a:ea typeface="新細明體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35440" y="2381400"/>
              <a:ext cx="226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  <a:ea typeface="新細明體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18120" y="2746440"/>
              <a:ext cx="61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9999"/>
                  </a:solidFill>
                  <a:latin typeface="細明體"/>
                  <a:ea typeface="細明體"/>
                </a:rPr>
                <a:t>90 </a:t>
              </a:r>
              <a:r>
                <a:rPr b="0" lang="zh-TW" sz="1600" spc="-1" strike="noStrike">
                  <a:solidFill>
                    <a:srgbClr val="009999"/>
                  </a:solidFill>
                  <a:latin typeface="細明體"/>
                  <a:ea typeface="細明體"/>
                </a:rPr>
                <a:t>分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40000" y="2859120"/>
              <a:ext cx="8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0000"/>
                  </a:solidFill>
                  <a:latin typeface="Arial"/>
                  <a:ea typeface="細明體"/>
                </a:rPr>
                <a:t>飲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44920" y="2249640"/>
              <a:ext cx="22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be0e3"/>
                  </a:solidFill>
                  <a:latin typeface="Arial"/>
                  <a:ea typeface="新細明體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05120" y="2019240"/>
              <a:ext cx="0" cy="211320"/>
            </a:xfrm>
            <a:prstGeom prst="line">
              <a:avLst/>
            </a:prstGeom>
            <a:ln w="28440">
              <a:solidFill>
                <a:srgbClr val="0101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 rot="16200000">
            <a:off x="-1248120" y="4512240"/>
            <a:ext cx="344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反應速度的改變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毫秒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657600" y="3922560"/>
            <a:ext cx="1066680" cy="1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咖啡因</a:t>
            </a:r>
            <a:r>
              <a:rPr b="0" lang="en-GB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+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茶胺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657600" y="4267080"/>
            <a:ext cx="609480" cy="1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咖啡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57600" y="4608360"/>
            <a:ext cx="609480" cy="1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茶胺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4913280"/>
            <a:ext cx="609480" cy="1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安慰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153280" y="4191120"/>
            <a:ext cx="990720" cy="1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新細明體"/>
                <a:ea typeface="新細明體"/>
              </a:rPr>
              <a:t>咖啡因</a:t>
            </a:r>
            <a:r>
              <a:rPr b="0" lang="en-GB" sz="1100" spc="-1" strike="noStrike">
                <a:solidFill>
                  <a:srgbClr val="000000"/>
                </a:solidFill>
                <a:latin typeface="新細明體"/>
                <a:ea typeface="新細明體"/>
              </a:rPr>
              <a:t>+</a:t>
            </a:r>
            <a:r>
              <a:rPr b="0" lang="zh-TW" sz="1100" spc="-1" strike="noStrike">
                <a:solidFill>
                  <a:srgbClr val="000000"/>
                </a:solidFill>
                <a:latin typeface="新細明體"/>
                <a:ea typeface="新細明體"/>
              </a:rPr>
              <a:t>茶胺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29600" y="4495680"/>
            <a:ext cx="609480" cy="1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咖啡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229600" y="4836960"/>
            <a:ext cx="609480" cy="1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茶胺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29600" y="5141880"/>
            <a:ext cx="609480" cy="1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安慰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2286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喝茶有助頭腦靈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28600" y="1523880"/>
            <a:ext cx="380988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333399"/>
                </a:solidFill>
                <a:latin typeface="Arial"/>
                <a:ea typeface="新細明體"/>
              </a:rPr>
              <a:t>六星期雙盲測試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新細明體"/>
              </a:rPr>
              <a:t>(75 </a:t>
            </a:r>
            <a:r>
              <a:rPr b="1" lang="zh-TW" sz="2200" spc="-1" strike="noStrike">
                <a:solidFill>
                  <a:srgbClr val="333399"/>
                </a:solidFill>
                <a:latin typeface="Arial"/>
                <a:ea typeface="新細明體"/>
              </a:rPr>
              <a:t>人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新細明體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r>
              <a:rPr b="1" lang="zh-TW" sz="1800" spc="-1" strike="noStrike">
                <a:solidFill>
                  <a:srgbClr val="333399"/>
                </a:solidFill>
                <a:latin typeface="Arial"/>
                <a:ea typeface="新細明體"/>
              </a:rPr>
              <a:t>安慰劑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新細明體"/>
              </a:rPr>
              <a:t>(</a:t>
            </a:r>
            <a:r>
              <a:rPr b="1" lang="zh-TW" sz="1800" spc="-1" strike="noStrike">
                <a:solidFill>
                  <a:srgbClr val="333399"/>
                </a:solidFill>
                <a:latin typeface="Arial"/>
                <a:ea typeface="新細明體"/>
              </a:rPr>
              <a:t>含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新細明體"/>
              </a:rPr>
              <a:t>72</a:t>
            </a:r>
            <a:r>
              <a:rPr b="1" lang="zh-TW" sz="1800" spc="-1" strike="noStrike">
                <a:solidFill>
                  <a:srgbClr val="333399"/>
                </a:solidFill>
                <a:latin typeface="Arial"/>
                <a:ea typeface="新細明體"/>
              </a:rPr>
              <a:t>毫克咖啡因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r>
              <a:rPr b="1" lang="zh-TW" sz="1800" spc="-1" strike="noStrike">
                <a:solidFill>
                  <a:srgbClr val="333399"/>
                </a:solidFill>
                <a:latin typeface="Arial"/>
                <a:ea typeface="新細明體"/>
              </a:rPr>
              <a:t>紅茶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新細明體"/>
              </a:rPr>
              <a:t>(</a:t>
            </a:r>
            <a:r>
              <a:rPr b="1" lang="zh-TW" sz="1800" spc="-1" strike="noStrike">
                <a:solidFill>
                  <a:srgbClr val="333399"/>
                </a:solidFill>
                <a:latin typeface="Arial"/>
                <a:ea typeface="新細明體"/>
              </a:rPr>
              <a:t>含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新細明體"/>
              </a:rPr>
              <a:t>72</a:t>
            </a:r>
            <a:r>
              <a:rPr b="1" lang="zh-TW" sz="1800" spc="-1" strike="noStrike">
                <a:solidFill>
                  <a:srgbClr val="333399"/>
                </a:solidFill>
                <a:latin typeface="Arial"/>
                <a:ea typeface="新細明體"/>
              </a:rPr>
              <a:t>毫克咖啡因及本身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99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333399"/>
                </a:solidFill>
                <a:latin typeface="Arial"/>
                <a:ea typeface="新細明體"/>
              </a:rPr>
              <a:t>茶胺酸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Arial"/>
                <a:ea typeface="新細明體"/>
              </a:rPr>
              <a:t>接受壓力作業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Arial"/>
                <a:ea typeface="新細明體"/>
              </a:rPr>
              <a:t>唾液皮質醇濃度下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" y="5518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3300"/>
                </a:solidFill>
                <a:uFillTx/>
                <a:latin typeface="細明體"/>
                <a:ea typeface="細明體"/>
              </a:rPr>
              <a:t>實驗發現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細明體"/>
                <a:ea typeface="細明體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細明體"/>
                <a:ea typeface="細明體"/>
              </a:rPr>
              <a:t>茶</a:t>
            </a:r>
            <a:r>
              <a:rPr b="1" lang="en-US" sz="2400" spc="-1" strike="noStrike">
                <a:solidFill>
                  <a:srgbClr val="ff3300"/>
                </a:solidFill>
                <a:latin typeface="細明體"/>
                <a:ea typeface="細明體"/>
              </a:rPr>
              <a:t>(</a:t>
            </a:r>
            <a:r>
              <a:rPr b="1" lang="zh-TW" sz="2400" spc="-1" strike="noStrike">
                <a:solidFill>
                  <a:srgbClr val="ff3300"/>
                </a:solidFill>
                <a:latin typeface="細明體"/>
                <a:ea typeface="細明體"/>
              </a:rPr>
              <a:t>非</a:t>
            </a:r>
            <a:r>
              <a:rPr b="1" lang="zh-TW" sz="2400" spc="-1" strike="noStrike">
                <a:solidFill>
                  <a:srgbClr val="ff3300"/>
                </a:solidFill>
                <a:latin typeface="Arial"/>
                <a:ea typeface="新細明體"/>
              </a:rPr>
              <a:t>咖啡因成份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新細明體"/>
              </a:rPr>
              <a:t>)</a:t>
            </a:r>
            <a:r>
              <a:rPr b="1" lang="zh-TW" sz="2400" spc="-1" strike="noStrike">
                <a:solidFill>
                  <a:srgbClr val="ff3300"/>
                </a:solidFill>
                <a:latin typeface="細明體"/>
                <a:ea typeface="細明體"/>
              </a:rPr>
              <a:t>可能改善對壓力反應的復原速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細明體"/>
                <a:ea typeface="細明體"/>
              </a:rPr>
              <a:t>証明</a:t>
            </a:r>
            <a:r>
              <a:rPr b="1" lang="zh-TW" sz="2400" spc="-1" strike="noStrike">
                <a:solidFill>
                  <a:srgbClr val="ff3300"/>
                </a:solidFill>
                <a:latin typeface="Arial"/>
                <a:ea typeface="新細明體"/>
              </a:rPr>
              <a:t>喝茶有助減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5228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茶與減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657600" y="533520"/>
            <a:ext cx="5333760" cy="5257800"/>
            <a:chOff x="3657600" y="533520"/>
            <a:chExt cx="5333760" cy="5257800"/>
          </a:xfrm>
        </p:grpSpPr>
        <p:grpSp>
          <p:nvGrpSpPr>
            <p:cNvPr id="395" name=""/>
            <p:cNvGrpSpPr/>
            <p:nvPr/>
          </p:nvGrpSpPr>
          <p:grpSpPr>
            <a:xfrm>
              <a:off x="3657600" y="533520"/>
              <a:ext cx="5333760" cy="5257800"/>
              <a:chOff x="3657600" y="533520"/>
              <a:chExt cx="5333760" cy="5257800"/>
            </a:xfrm>
          </p:grpSpPr>
          <p:sp>
            <p:nvSpPr>
              <p:cNvPr id="396" name=""/>
              <p:cNvSpPr/>
              <p:nvPr/>
            </p:nvSpPr>
            <p:spPr>
              <a:xfrm>
                <a:off x="3657600" y="533520"/>
                <a:ext cx="5333760" cy="5257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86200" y="2313000"/>
                <a:ext cx="4952880" cy="340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33560" y="636480"/>
                <a:ext cx="5170680" cy="110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3734280" y="1752480"/>
                <a:ext cx="3452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Psychopharmacology  190: 81-89, 200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8387640" y="3763800"/>
              <a:ext cx="507600" cy="733680"/>
              <a:chOff x="8387640" y="3763800"/>
              <a:chExt cx="507600" cy="733680"/>
            </a:xfrm>
          </p:grpSpPr>
          <p:sp>
            <p:nvSpPr>
              <p:cNvPr id="401" name=""/>
              <p:cNvSpPr/>
              <p:nvPr/>
            </p:nvSpPr>
            <p:spPr>
              <a:xfrm>
                <a:off x="8400600" y="3763800"/>
                <a:ext cx="4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安慰劑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387640" y="422100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紅茶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"/>
          <p:cNvSpPr/>
          <p:nvPr/>
        </p:nvSpPr>
        <p:spPr>
          <a:xfrm>
            <a:off x="3124080" y="4924440"/>
            <a:ext cx="685800" cy="257040"/>
          </a:xfrm>
          <a:prstGeom prst="rightArrow">
            <a:avLst>
              <a:gd name="adj1" fmla="val 50000"/>
              <a:gd name="adj2" fmla="val 667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537360" y="3048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9999"/>
                </a:solidFill>
                <a:latin typeface="Arial"/>
                <a:ea typeface="新細明體"/>
              </a:rPr>
              <a:t>抑鬱指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2286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喝茶有助建立健康的情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58831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3300"/>
                </a:solidFill>
                <a:uFillTx/>
                <a:latin typeface="細明體"/>
                <a:ea typeface="細明體"/>
              </a:rPr>
              <a:t>實驗發現</a:t>
            </a:r>
            <a:r>
              <a:rPr b="1" lang="zh-TW" sz="2400" spc="-1" strike="noStrike" u="sng">
                <a:solidFill>
                  <a:srgbClr val="ff3300"/>
                </a:solidFill>
                <a:uFillTx/>
                <a:latin typeface="細明體"/>
                <a:ea typeface="細明體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  <a:ea typeface="新細明體"/>
              </a:rPr>
              <a:t>多喝茶</a:t>
            </a:r>
            <a:r>
              <a:rPr b="1" lang="zh-TW" sz="2400" spc="-1" strike="noStrike">
                <a:solidFill>
                  <a:srgbClr val="ff3300"/>
                </a:solidFill>
                <a:latin typeface="細明體"/>
                <a:ea typeface="細明體"/>
              </a:rPr>
              <a:t>的人比不</a:t>
            </a:r>
            <a:r>
              <a:rPr b="1" lang="zh-TW" sz="2400" spc="-1" strike="noStrike">
                <a:solidFill>
                  <a:srgbClr val="ff3300"/>
                </a:solidFill>
                <a:latin typeface="Arial"/>
                <a:ea typeface="新細明體"/>
              </a:rPr>
              <a:t>喝茶</a:t>
            </a:r>
            <a:r>
              <a:rPr b="1" lang="zh-TW" sz="2400" spc="-1" strike="noStrike">
                <a:solidFill>
                  <a:srgbClr val="ff3300"/>
                </a:solidFill>
                <a:latin typeface="細明體"/>
                <a:ea typeface="細明體"/>
              </a:rPr>
              <a:t>的人有較低機會患上</a:t>
            </a:r>
            <a:r>
              <a:rPr b="1" lang="zh-TW" sz="2400" spc="-1" strike="noStrike">
                <a:solidFill>
                  <a:srgbClr val="ff3300"/>
                </a:solidFill>
                <a:latin typeface="Arial"/>
                <a:ea typeface="新細明體"/>
              </a:rPr>
              <a:t>抑鬱症</a:t>
            </a:r>
            <a:r>
              <a:rPr b="0" lang="zh-TW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80880" y="1066680"/>
            <a:ext cx="7925040" cy="4800600"/>
            <a:chOff x="380880" y="1066680"/>
            <a:chExt cx="7925040" cy="4800600"/>
          </a:xfrm>
        </p:grpSpPr>
        <p:sp>
          <p:nvSpPr>
            <p:cNvPr id="408" name=""/>
            <p:cNvSpPr/>
            <p:nvPr/>
          </p:nvSpPr>
          <p:spPr>
            <a:xfrm>
              <a:off x="380880" y="1066680"/>
              <a:ext cx="792504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609480" y="1152360"/>
              <a:ext cx="693432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63040" y="2514240"/>
              <a:ext cx="461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European Journal of Epidemiology 20: 305-363, 200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533520" y="2808000"/>
              <a:ext cx="7619760" cy="2830680"/>
              <a:chOff x="533520" y="2808000"/>
              <a:chExt cx="7619760" cy="2830680"/>
            </a:xfrm>
          </p:grpSpPr>
          <p:pic>
            <p:nvPicPr>
              <p:cNvPr id="4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520" y="2808000"/>
                <a:ext cx="7619760" cy="28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3379680" y="358128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ff3300"/>
                    </a:solidFill>
                    <a:latin typeface="Arial"/>
                    <a:ea typeface="新細明體"/>
                  </a:rPr>
                  <a:t>非每日喝茶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267080" y="3657240"/>
                <a:ext cx="2743200" cy="15264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67520" y="3153960"/>
                <a:ext cx="6256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700" spc="-1" strike="noStrike">
                    <a:solidFill>
                      <a:srgbClr val="009999"/>
                    </a:solidFill>
                    <a:latin typeface="Arial"/>
                    <a:ea typeface="新細明體"/>
                  </a:rPr>
                  <a:t>抑鬱症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450960" y="3153960"/>
                <a:ext cx="6987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700" spc="-1" strike="noStrike">
                    <a:solidFill>
                      <a:srgbClr val="009999"/>
                    </a:solidFill>
                    <a:latin typeface="Arial"/>
                    <a:ea typeface="新細明體"/>
                  </a:rPr>
                  <a:t>抑鬱指數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"/>
          <p:cNvSpPr/>
          <p:nvPr/>
        </p:nvSpPr>
        <p:spPr>
          <a:xfrm>
            <a:off x="3314160" y="3962520"/>
            <a:ext cx="90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3300"/>
                </a:solidFill>
                <a:latin typeface="Arial"/>
                <a:ea typeface="新細明體"/>
              </a:rPr>
              <a:t>每日飲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  <a:ea typeface="新細明體"/>
              </a:rPr>
              <a:t>1 – 2</a:t>
            </a:r>
            <a:r>
              <a:rPr b="0" lang="zh-TW" sz="1000" spc="-1" strike="noStrike">
                <a:solidFill>
                  <a:srgbClr val="ff3300"/>
                </a:solidFill>
                <a:latin typeface="Arial"/>
                <a:ea typeface="新細明體"/>
              </a:rPr>
              <a:t>杯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99400" y="4175280"/>
            <a:ext cx="90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3300"/>
                </a:solidFill>
                <a:latin typeface="Arial"/>
                <a:ea typeface="新細明體"/>
              </a:rPr>
              <a:t>每日飲 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  <a:ea typeface="新細明體"/>
              </a:rPr>
              <a:t>3 - 4</a:t>
            </a:r>
            <a:r>
              <a:rPr b="0" lang="zh-TW" sz="1000" spc="-1" strike="noStrike">
                <a:solidFill>
                  <a:srgbClr val="ff3300"/>
                </a:solidFill>
                <a:latin typeface="Arial"/>
                <a:ea typeface="新細明體"/>
              </a:rPr>
              <a:t>杯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49440" y="4327560"/>
            <a:ext cx="84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3300"/>
                </a:solidFill>
                <a:latin typeface="Arial"/>
                <a:ea typeface="新細明體"/>
              </a:rPr>
              <a:t>每日飲多於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  <a:ea typeface="新細明體"/>
              </a:rPr>
              <a:t>5</a:t>
            </a:r>
            <a:r>
              <a:rPr b="0" lang="zh-TW" sz="1000" spc="-1" strike="noStrike">
                <a:solidFill>
                  <a:srgbClr val="ff3300"/>
                </a:solidFill>
                <a:latin typeface="Arial"/>
                <a:ea typeface="新細明體"/>
              </a:rPr>
              <a:t>杯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747000" y="380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總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3520" y="1355760"/>
            <a:ext cx="838188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  <a:ea typeface="新細明體"/>
              </a:rPr>
              <a:t>科研證實，茶葉中的茶胺酸有助「放鬆精神及同時保持警覺和靈活的頭腦」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  <a:ea typeface="新細明體"/>
              </a:rPr>
              <a:t>茶是健康的飲品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八成三的被訪者形容茶對心緒有正面的影响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  <a:ea typeface="新細明體"/>
              </a:rPr>
              <a:t>民意調查數據與近年科研的结果吻合 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  <a:ea typeface="新細明體"/>
              </a:rPr>
              <a:t>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新細明體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  <a:ea typeface="新細明體"/>
              </a:rPr>
              <a:t>	</a:t>
            </a:r>
            <a:r>
              <a:rPr b="0" lang="zh-TW" sz="2100" spc="-1" strike="noStrike">
                <a:solidFill>
                  <a:srgbClr val="000000"/>
                </a:solidFill>
                <a:latin typeface="新細明體"/>
                <a:ea typeface="新細明體"/>
              </a:rPr>
              <a:t>茶可減壓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  <a:ea typeface="新細明體"/>
              </a:rPr>
              <a:t>,</a:t>
            </a:r>
            <a:r>
              <a:rPr b="0" lang="zh-TW" sz="2100" spc="-1" strike="noStrike">
                <a:solidFill>
                  <a:srgbClr val="000000"/>
                </a:solidFill>
                <a:latin typeface="新細明體"/>
                <a:ea typeface="新細明體"/>
              </a:rPr>
              <a:t>集中精神和提升警覺和腦筋靈活性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新細明體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新細明體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  <a:ea typeface="新細明體"/>
              </a:rPr>
              <a:t>然而，現在只有小部分的人能有效的把這些功能應用於日常工作上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新細明體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新細明體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  <a:ea typeface="新細明體"/>
              </a:rPr>
              <a:t>茶可以是健康飲食的一部份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  <a:ea typeface="新細明體"/>
              </a:rPr>
              <a:t>, </a:t>
            </a:r>
            <a:r>
              <a:rPr b="0" lang="zh-TW" sz="2100" spc="-1" strike="noStrike">
                <a:solidFill>
                  <a:srgbClr val="000000"/>
                </a:solidFill>
                <a:latin typeface="新細明體"/>
                <a:ea typeface="新細明體"/>
              </a:rPr>
              <a:t>大眾需要更多這方面的認知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14600" y="1295280"/>
            <a:ext cx="655308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的健康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强化心臟血管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降低血脂肪及血糖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增強身體之免疫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控制體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降低患癌風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50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zh-TW" sz="3200" spc="-1" strike="noStrike">
                <a:solidFill>
                  <a:srgbClr val="e50601"/>
                </a:solidFill>
                <a:latin typeface="Arial"/>
                <a:ea typeface="新細明體"/>
              </a:rPr>
              <a:t>改善心理 </a:t>
            </a:r>
            <a:r>
              <a:rPr b="1" lang="en-US" sz="3200" spc="-1" strike="noStrike">
                <a:solidFill>
                  <a:srgbClr val="e50601"/>
                </a:solidFill>
                <a:latin typeface="Arial"/>
                <a:ea typeface="新細明體"/>
              </a:rPr>
              <a:t>- </a:t>
            </a:r>
            <a:r>
              <a:rPr b="1" lang="zh-TW" sz="3200" spc="-1" strike="noStrike">
                <a:solidFill>
                  <a:srgbClr val="e50601"/>
                </a:solidFill>
                <a:latin typeface="Arial"/>
                <a:ea typeface="新細明體"/>
              </a:rPr>
              <a:t>生理壓力反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0601"/>
                </a:solidFill>
                <a:latin typeface="Arial"/>
                <a:ea typeface="新細明體"/>
              </a:rPr>
              <a:t>	</a:t>
            </a:r>
            <a:r>
              <a:rPr b="1" lang="en-US" sz="3200" spc="-1" strike="noStrike">
                <a:solidFill>
                  <a:srgbClr val="e50601"/>
                </a:solidFill>
                <a:latin typeface="Arial"/>
                <a:ea typeface="新細明體"/>
              </a:rPr>
              <a:t>(= </a:t>
            </a:r>
            <a:r>
              <a:rPr b="1" lang="zh-TW" sz="3200" spc="-1" strike="noStrike">
                <a:solidFill>
                  <a:srgbClr val="e50601"/>
                </a:solidFill>
                <a:latin typeface="Arial"/>
                <a:ea typeface="新細明體"/>
              </a:rPr>
              <a:t>放鬆精神同時保持頭腦靈活</a:t>
            </a:r>
            <a:r>
              <a:rPr b="1" lang="en-US" sz="3200" spc="-1" strike="noStrike">
                <a:solidFill>
                  <a:srgbClr val="e50601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50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50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60680" y="423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7040" y="304920"/>
            <a:ext cx="23338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1600" y="194004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調查结果顯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飲茶後覺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舒暢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3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提神醒腦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鬆弛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000000"/>
                </a:solidFill>
                <a:uFillTx/>
                <a:latin typeface="新細明體"/>
                <a:ea typeface="新細明體"/>
              </a:rPr>
              <a:t>港大民意調查報告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新細明體"/>
                <a:ea typeface="新細明體"/>
              </a:rPr>
              <a:t>200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66236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50601"/>
                </a:solidFill>
                <a:latin typeface="新細明體"/>
                <a:ea typeface="新細明體"/>
              </a:rPr>
              <a:t> </a:t>
            </a:r>
            <a:r>
              <a:rPr b="1" lang="zh-TW" sz="2800" spc="-1" strike="noStrike">
                <a:solidFill>
                  <a:srgbClr val="e50601"/>
                </a:solidFill>
                <a:latin typeface="新細明體"/>
                <a:ea typeface="新細明體"/>
              </a:rPr>
              <a:t>結果反映市民對飲茶的正面好處有一定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11280" y="1143000"/>
            <a:ext cx="447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0601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50601"/>
                </a:solidFill>
                <a:latin typeface="新細明體"/>
                <a:ea typeface="新細明體"/>
              </a:rPr>
              <a:t>六成六的被訪者不知那種成份使茶有這些功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新細明體"/>
                <a:ea typeface="新細明體"/>
              </a:rPr>
              <a:t>18%</a:t>
            </a:r>
            <a:r>
              <a:rPr b="0" lang="zh-TW" sz="2400" spc="-1" strike="noStrike">
                <a:solidFill>
                  <a:srgbClr val="0033cc"/>
                </a:solidFill>
                <a:latin typeface="Arial"/>
                <a:ea typeface="新細明體"/>
              </a:rPr>
              <a:t>被訪者認為是咖啡因 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  <a:ea typeface="新細明體"/>
              </a:rPr>
              <a:t>(caffeine)</a:t>
            </a:r>
            <a:r>
              <a:rPr b="0" lang="zh-TW" sz="2400" spc="-1" strike="noStrike">
                <a:solidFill>
                  <a:srgbClr val="0033cc"/>
                </a:solidFill>
                <a:latin typeface="Arial"/>
                <a:ea typeface="新細明體"/>
              </a:rPr>
              <a:t>所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只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新細明體"/>
              </a:rPr>
              <a:t>4%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被訪者提及茶胺酸，導出真正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260676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其實茶的</a:t>
            </a:r>
            <a:r>
              <a:rPr b="0" lang="zh-TW" sz="2400" spc="-1" strike="noStrike">
                <a:solidFill>
                  <a:srgbClr val="0033cc"/>
                </a:solidFill>
                <a:latin typeface="Arial"/>
                <a:ea typeface="新細明體"/>
              </a:rPr>
              <a:t>咖啡因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成份只有</a:t>
            </a:r>
            <a:r>
              <a:rPr b="0" lang="zh-TW" sz="2400" spc="-1" strike="noStrike">
                <a:solidFill>
                  <a:srgbClr val="0033cc"/>
                </a:solidFill>
                <a:latin typeface="Arial"/>
                <a:ea typeface="新細明體"/>
              </a:rPr>
              <a:t>咖啡的一半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每杯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大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40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毫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3680" y="37339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但茶有一樣成份是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咖啡沒有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茶有助提神醒腦及放鬆精神的主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4191120"/>
            <a:ext cx="4876920" cy="2514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2971800" cy="1235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2360" y="6248520"/>
            <a:ext cx="28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每杯大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15 - 17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毫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9000" y="5486400"/>
            <a:ext cx="379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50601"/>
                </a:solidFill>
                <a:latin typeface="Arial"/>
                <a:ea typeface="新細明體"/>
              </a:rPr>
              <a:t>茶胺酸 </a:t>
            </a:r>
            <a:r>
              <a:rPr b="0" lang="en-US" sz="4400" spc="-1" strike="noStrike">
                <a:solidFill>
                  <a:srgbClr val="e50601"/>
                </a:solidFill>
                <a:latin typeface="Arial"/>
                <a:ea typeface="新細明體"/>
              </a:rPr>
              <a:t>Thean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1447920"/>
            <a:ext cx="79246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細明體"/>
                <a:ea typeface="細明體"/>
              </a:rPr>
              <a:t>茶胺酸 </a:t>
            </a:r>
            <a:r>
              <a:rPr b="0" lang="zh-TW" sz="2400" spc="-1" strike="noStrike">
                <a:solidFill>
                  <a:srgbClr val="000000"/>
                </a:solidFill>
                <a:latin typeface="細明體"/>
                <a:ea typeface="細明體"/>
              </a:rPr>
              <a:t>是一種氨基酸</a:t>
            </a:r>
            <a:r>
              <a:rPr b="0" lang="en-US" sz="2400" spc="-1" strike="noStrike">
                <a:solidFill>
                  <a:srgbClr val="000000"/>
                </a:solidFill>
                <a:latin typeface="細明體"/>
                <a:ea typeface="細明體"/>
              </a:rPr>
              <a:t>,</a:t>
            </a:r>
            <a:r>
              <a:rPr b="0" lang="zh-TW" sz="2400" spc="-1" strike="noStrike">
                <a:solidFill>
                  <a:srgbClr val="0033cc"/>
                </a:solidFill>
                <a:latin typeface="Arial"/>
                <a:ea typeface="新細明體"/>
              </a:rPr>
              <a:t>結構</a:t>
            </a:r>
            <a:r>
              <a:rPr b="0" lang="zh-TW" sz="2400" spc="-1" strike="noStrike">
                <a:solidFill>
                  <a:srgbClr val="0033cc"/>
                </a:solidFill>
                <a:latin typeface="細明體"/>
                <a:ea typeface="新細明體"/>
              </a:rPr>
              <a:t>類似谷</a:t>
            </a:r>
            <a:r>
              <a:rPr b="0" lang="zh-TW" sz="2400" spc="-1" strike="noStrike">
                <a:solidFill>
                  <a:srgbClr val="0033cc"/>
                </a:solidFill>
                <a:latin typeface="Arial"/>
                <a:ea typeface="新細明體"/>
              </a:rPr>
              <a:t>氨酸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glutamic a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只有茶和一種罕有的菇才能找到</a:t>
            </a:r>
            <a:r>
              <a:rPr b="0" lang="zh-TW" sz="2400" spc="-1" strike="noStrike">
                <a:solidFill>
                  <a:srgbClr val="0033cc"/>
                </a:solidFill>
                <a:latin typeface="Arial"/>
                <a:ea typeface="新細明體"/>
              </a:rPr>
              <a:t>茶胺酸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血液裏</a:t>
            </a:r>
            <a:r>
              <a:rPr b="0" lang="zh-TW" sz="2400" spc="-1" strike="noStrike">
                <a:solidFill>
                  <a:srgbClr val="0033cc"/>
                </a:solidFill>
                <a:latin typeface="Arial"/>
                <a:ea typeface="新細明體"/>
              </a:rPr>
              <a:t>茶胺酸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濃度的高點出現於飲茶後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6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分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於小白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新細明體"/>
              </a:rPr>
              <a:t> </a:t>
            </a:r>
            <a:r>
              <a:rPr b="0" lang="zh-TW" sz="2400" spc="-1" strike="noStrike">
                <a:solidFill>
                  <a:srgbClr val="0033cc"/>
                </a:solidFill>
                <a:latin typeface="Arial"/>
                <a:ea typeface="新細明體"/>
              </a:rPr>
              <a:t>茶胺酸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能</a:t>
            </a:r>
            <a:r>
              <a:rPr b="0" lang="zh-TW" sz="2400" spc="-1" strike="noStrike">
                <a:solidFill>
                  <a:srgbClr val="0033cc"/>
                </a:solidFill>
                <a:latin typeface="Arial"/>
                <a:ea typeface="新細明體"/>
              </a:rPr>
              <a:t>影响腦神經傳遞素的釋放和代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更重要的是 </a:t>
            </a:r>
            <a:r>
              <a:rPr b="0" lang="zh-TW" sz="2400" spc="-1" strike="noStrike">
                <a:solidFill>
                  <a:srgbClr val="0033cc"/>
                </a:solidFill>
                <a:latin typeface="Arial"/>
                <a:ea typeface="新細明體"/>
              </a:rPr>
              <a:t>茶胺酸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可以影响人的</a:t>
            </a:r>
            <a:r>
              <a:rPr b="0" lang="zh-TW" sz="2400" spc="-1" strike="noStrike">
                <a:solidFill>
                  <a:srgbClr val="0033cc"/>
                </a:solidFill>
                <a:latin typeface="Arial"/>
                <a:ea typeface="新細明體"/>
              </a:rPr>
              <a:t>腦電圖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EEG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增加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腦電波。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腦電波，正是協助達到精神放鬆並同時保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持頭腦靈活的精神狀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03480" y="5678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43720" y="5500800"/>
            <a:ext cx="519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0601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50601"/>
                </a:solidFill>
                <a:latin typeface="新細明體"/>
                <a:ea typeface="新細明體"/>
              </a:rPr>
              <a:t>茶胺酸是茶可以改善心理及生理壓力反應的元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50601"/>
                </a:solidFill>
                <a:latin typeface="Arial"/>
                <a:ea typeface="新細明體"/>
              </a:rPr>
              <a:t>　</a:t>
            </a:r>
            <a:r>
              <a:rPr b="1" lang="en-US" sz="2800" spc="-1" strike="noStrike">
                <a:solidFill>
                  <a:srgbClr val="e50601"/>
                </a:solidFill>
                <a:latin typeface="Arial"/>
                <a:ea typeface="新細明體"/>
              </a:rPr>
              <a:t>(= </a:t>
            </a:r>
            <a:r>
              <a:rPr b="1" lang="zh-TW" sz="2800" spc="-1" strike="noStrike">
                <a:solidFill>
                  <a:srgbClr val="e50601"/>
                </a:solidFill>
                <a:latin typeface="Arial"/>
                <a:ea typeface="新細明體"/>
              </a:rPr>
              <a:t>放鬆精神同時保持頭腦靈活</a:t>
            </a:r>
            <a:r>
              <a:rPr b="1" lang="en-US" sz="2800" spc="-1" strike="noStrike">
                <a:solidFill>
                  <a:srgbClr val="e50601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808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000000"/>
                </a:solidFill>
                <a:uFillTx/>
                <a:latin typeface="新細明體"/>
                <a:ea typeface="新細明體"/>
              </a:rPr>
              <a:t>茶胺酸是什麼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新細明體"/>
                <a:ea typeface="新細明體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51400" y="395280"/>
            <a:ext cx="552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細明體"/>
                <a:ea typeface="細明體"/>
              </a:rPr>
              <a:t>茶</a:t>
            </a:r>
            <a:r>
              <a:rPr b="1" lang="en-US" sz="4800" spc="-1" strike="noStrike">
                <a:solidFill>
                  <a:srgbClr val="000000"/>
                </a:solidFill>
                <a:latin typeface="細明體"/>
                <a:ea typeface="細明體"/>
              </a:rPr>
              <a:t>,</a:t>
            </a:r>
            <a:r>
              <a:rPr b="1" lang="zh-TW" sz="4800" spc="-1" strike="noStrike">
                <a:solidFill>
                  <a:srgbClr val="0033cc"/>
                </a:solidFill>
                <a:latin typeface="細明體"/>
                <a:ea typeface="細明體"/>
              </a:rPr>
              <a:t>茶胺酸</a:t>
            </a:r>
            <a:r>
              <a:rPr b="1" lang="en-US" sz="4800" spc="-1" strike="noStrike">
                <a:solidFill>
                  <a:srgbClr val="000000"/>
                </a:solidFill>
                <a:latin typeface="細明體"/>
                <a:ea typeface="細明體"/>
              </a:rPr>
              <a:t>,</a:t>
            </a:r>
            <a:r>
              <a:rPr b="1" lang="zh-TW" sz="4800" spc="-1" strike="noStrike">
                <a:solidFill>
                  <a:srgbClr val="000000"/>
                </a:solidFill>
                <a:latin typeface="細明體"/>
                <a:ea typeface="細明體"/>
              </a:rPr>
              <a:t>精神狀態與表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971800" y="1347840"/>
            <a:ext cx="3505320" cy="243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00400" y="4419720"/>
            <a:ext cx="1333440" cy="166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[Cartoon: Child brainstorming alternatives]"/>
          <p:cNvPicPr/>
          <p:nvPr/>
        </p:nvPicPr>
        <p:blipFill>
          <a:blip r:embed="rId3"/>
          <a:stretch/>
        </p:blipFill>
        <p:spPr>
          <a:xfrm>
            <a:off x="609480" y="4915080"/>
            <a:ext cx="236232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doze cartoons, doze cartoon, doze picture, doze pictures, doze image, doze images, doze illustration, doze illustrations"/>
          <p:cNvPicPr/>
          <p:nvPr/>
        </p:nvPicPr>
        <p:blipFill>
          <a:blip r:embed="rId4"/>
          <a:stretch/>
        </p:blipFill>
        <p:spPr>
          <a:xfrm>
            <a:off x="5181480" y="3962520"/>
            <a:ext cx="186696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69960" y="2895480"/>
            <a:ext cx="144144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Sleepy Fish"/>
          <p:cNvPicPr/>
          <p:nvPr/>
        </p:nvPicPr>
        <p:blipFill>
          <a:blip r:embed="rId6"/>
          <a:stretch/>
        </p:blipFill>
        <p:spPr>
          <a:xfrm>
            <a:off x="7010280" y="3962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934320" y="1828800"/>
            <a:ext cx="1871640" cy="1525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1219320" y="1371600"/>
            <a:ext cx="1081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26240" y="39528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000000"/>
                </a:solidFill>
                <a:uFillTx/>
                <a:latin typeface="細明體"/>
                <a:ea typeface="細明體"/>
              </a:rPr>
              <a:t>腦波與精神狀態</a:t>
            </a:r>
            <a:r>
              <a:rPr b="1" lang="zh-TW" sz="2400" spc="-1" strike="noStrike" u="sng">
                <a:solidFill>
                  <a:srgbClr val="009999"/>
                </a:solidFill>
                <a:uFillTx/>
                <a:latin typeface="細明體"/>
                <a:ea typeface="細明體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16680" y="1295280"/>
            <a:ext cx="7612200" cy="4782600"/>
            <a:chOff x="616680" y="1295280"/>
            <a:chExt cx="7612200" cy="4782600"/>
          </a:xfrm>
        </p:grpSpPr>
        <p:sp>
          <p:nvSpPr>
            <p:cNvPr id="74" name=""/>
            <p:cNvSpPr/>
            <p:nvPr/>
          </p:nvSpPr>
          <p:spPr>
            <a:xfrm>
              <a:off x="664560" y="5770800"/>
              <a:ext cx="493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資料來源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: Trends in Food Science &amp; Technology 10: 199-204, 19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16680" y="1295280"/>
              <a:ext cx="7612200" cy="4493160"/>
              <a:chOff x="616680" y="1295280"/>
              <a:chExt cx="7612200" cy="4493160"/>
            </a:xfrm>
          </p:grpSpPr>
          <p:pic>
            <p:nvPicPr>
              <p:cNvPr id="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6680" y="1295280"/>
                <a:ext cx="7612200" cy="44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6266880" y="3917520"/>
                <a:ext cx="1801440" cy="58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Awake, Relaxe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&amp; Aler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1840" y="3096360"/>
                <a:ext cx="10875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Doze slee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34200" y="2154240"/>
                <a:ext cx="12124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Sound slee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252480" y="4697640"/>
                <a:ext cx="16909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Awake, Excitab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186560" y="1454400"/>
              <a:ext cx="131040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73200" y="1310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Arial"/>
                  <a:ea typeface="細明體"/>
                </a:rPr>
                <a:t>腦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61480" y="1454400"/>
              <a:ext cx="1310400" cy="23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45680" y="1310040"/>
              <a:ext cx="5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頻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18120" y="1454400"/>
              <a:ext cx="1719720" cy="23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30760" y="13100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Arial"/>
                  <a:ea typeface="細明體"/>
                </a:rPr>
                <a:t>精神狀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46080" y="2169720"/>
              <a:ext cx="14738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30760" y="2089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Arial"/>
                  <a:ea typeface="細明體"/>
                </a:rPr>
                <a:t>完全睡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27800" y="3123360"/>
              <a:ext cx="14738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32560" y="3137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Arial"/>
                  <a:ea typeface="細明體"/>
                </a:rPr>
                <a:t>打瞌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46080" y="3997440"/>
              <a:ext cx="1555920" cy="4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69720" y="375876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e50601"/>
                  </a:solidFill>
                  <a:latin typeface="Arial"/>
                  <a:ea typeface="細明體"/>
                </a:rPr>
                <a:t>警覺，喚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e50601"/>
                  </a:solidFill>
                  <a:latin typeface="Arial"/>
                  <a:ea typeface="細明體"/>
                </a:rPr>
                <a:t>同時精神放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46080" y="4712760"/>
              <a:ext cx="1801800" cy="3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69720" y="4727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Arial"/>
                  <a:ea typeface="細明體"/>
                </a:rPr>
                <a:t>喚醒，易激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41040" y="2248920"/>
              <a:ext cx="131040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04480" y="2232360"/>
              <a:ext cx="1064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5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δ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- </a:t>
              </a:r>
              <a:r>
                <a:rPr b="1" lang="zh-TW" sz="15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腦波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8960" y="3123360"/>
              <a:ext cx="1310400" cy="23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04480" y="3123360"/>
              <a:ext cx="1064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θ- </a:t>
              </a:r>
              <a:r>
                <a:rPr b="1" lang="zh-TW" sz="15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腦波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7240" y="3997440"/>
              <a:ext cx="1310040" cy="23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04480" y="3917880"/>
              <a:ext cx="1064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e50601"/>
                  </a:solidFill>
                  <a:latin typeface="Arial"/>
                  <a:ea typeface="新細明體"/>
                </a:rPr>
                <a:t>α- </a:t>
              </a:r>
              <a:r>
                <a:rPr b="1" lang="zh-TW" sz="1500" spc="-1" strike="noStrike">
                  <a:solidFill>
                    <a:srgbClr val="e50601"/>
                  </a:solidFill>
                  <a:latin typeface="Arial"/>
                  <a:ea typeface="新細明體"/>
                </a:rPr>
                <a:t>腦波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22760" y="4792320"/>
              <a:ext cx="1310040" cy="23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04480" y="4696200"/>
              <a:ext cx="1064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β- </a:t>
              </a:r>
              <a:r>
                <a:rPr b="1" lang="zh-TW" sz="15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腦波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41040" y="5348160"/>
              <a:ext cx="7042680" cy="31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63480" y="5283720"/>
              <a:ext cx="187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圖二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: </a:t>
              </a:r>
              <a:r>
                <a:rPr b="0" lang="zh-TW" sz="13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腦波及精神狀態的分類與關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09480" y="3581280"/>
            <a:ext cx="7620120" cy="9144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9280" y="56880"/>
            <a:ext cx="7656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8960" y="2173320"/>
            <a:ext cx="458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62360" y="4435560"/>
            <a:ext cx="704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資料來源</a:t>
            </a:r>
            <a:r>
              <a:rPr b="0" i="1" lang="ja-JP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: Kia Nobre, Oxford University, 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Data presented at 35th Annual Meeting of Japanese Society of Clinical Neurophys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77520" y="152280"/>
            <a:ext cx="449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000000"/>
                </a:solidFill>
                <a:uFillTx/>
                <a:latin typeface="細明體"/>
                <a:ea typeface="細明體"/>
              </a:rPr>
              <a:t>飲用</a:t>
            </a:r>
            <a:r>
              <a:rPr b="1" lang="zh-TW" sz="4800" spc="-1" strike="noStrike" u="sng">
                <a:solidFill>
                  <a:srgbClr val="0033cc"/>
                </a:solidFill>
                <a:uFillTx/>
                <a:latin typeface="細明體"/>
                <a:ea typeface="細明體"/>
              </a:rPr>
              <a:t>茶胺酸後</a:t>
            </a:r>
            <a:r>
              <a:rPr b="1" lang="el-GR" sz="4800" spc="-1" strike="noStrike" u="sng">
                <a:solidFill>
                  <a:srgbClr val="ff3300"/>
                </a:solidFill>
                <a:uFillTx/>
                <a:latin typeface="細明體"/>
                <a:ea typeface="細明體"/>
              </a:rPr>
              <a:t>α</a:t>
            </a:r>
            <a:r>
              <a:rPr b="1" lang="zh-TW" sz="4800" spc="-1" strike="noStrike" u="sng">
                <a:solidFill>
                  <a:srgbClr val="ff3300"/>
                </a:solidFill>
                <a:uFillTx/>
                <a:latin typeface="細明體"/>
                <a:ea typeface="細明體"/>
              </a:rPr>
              <a:t>波活躍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02920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3300"/>
                </a:solidFill>
                <a:latin typeface="Arial"/>
                <a:ea typeface="新細明體"/>
              </a:rPr>
              <a:t>茶胺酸使用者的精神維持於</a:t>
            </a:r>
            <a:r>
              <a:rPr b="1" lang="zh-TW" sz="2600" spc="-1" strike="noStrike">
                <a:solidFill>
                  <a:srgbClr val="3366ff"/>
                </a:solidFill>
                <a:latin typeface="Arial"/>
                <a:ea typeface="新細明體"/>
              </a:rPr>
              <a:t>放鬆但警覺的狀態，</a:t>
            </a:r>
            <a:br>
              <a:rPr sz="2600"/>
            </a:br>
            <a:r>
              <a:rPr b="1" lang="zh-TW" sz="2600" spc="-1" strike="noStrike">
                <a:solidFill>
                  <a:srgbClr val="3366ff"/>
                </a:solidFill>
                <a:latin typeface="Arial"/>
                <a:ea typeface="新細明體"/>
              </a:rPr>
              <a:t>　頭腦依然清醒靈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  <a:ea typeface="新細明體"/>
              </a:rPr>
              <a:t>這個狀態雖然放鬆，但不會打瞌睡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  <a:ea typeface="新細明體"/>
              </a:rPr>
              <a:t>雖然警覺性高，但又不精神緊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-304920" y="990720"/>
            <a:ext cx="9296640" cy="3504960"/>
            <a:chOff x="-304920" y="990720"/>
            <a:chExt cx="9296640" cy="3504960"/>
          </a:xfrm>
        </p:grpSpPr>
        <p:sp>
          <p:nvSpPr>
            <p:cNvPr id="112" name=""/>
            <p:cNvSpPr/>
            <p:nvPr/>
          </p:nvSpPr>
          <p:spPr>
            <a:xfrm>
              <a:off x="304920" y="990720"/>
              <a:ext cx="8686800" cy="350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-304920" y="1278000"/>
              <a:ext cx="9159840" cy="3142440"/>
              <a:chOff x="-304920" y="1278000"/>
              <a:chExt cx="9159840" cy="3142440"/>
            </a:xfrm>
          </p:grpSpPr>
          <p:sp>
            <p:nvSpPr>
              <p:cNvPr id="114" name=""/>
              <p:cNvSpPr/>
              <p:nvPr/>
            </p:nvSpPr>
            <p:spPr>
              <a:xfrm>
                <a:off x="-304920" y="3030120"/>
                <a:ext cx="237492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cc"/>
                    </a:solidFill>
                    <a:latin typeface="細明體"/>
                    <a:ea typeface="細明體"/>
                  </a:rPr>
                  <a:t>L-</a:t>
                </a:r>
                <a:r>
                  <a:rPr b="1" lang="zh-TW" sz="1800" spc="-1" strike="noStrike">
                    <a:solidFill>
                      <a:srgbClr val="0033cc"/>
                    </a:solidFill>
                    <a:latin typeface="細明體"/>
                    <a:ea typeface="細明體"/>
                  </a:rPr>
                  <a:t>茶胺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(50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亳克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380880" y="1278000"/>
                <a:ext cx="8474040" cy="3142440"/>
                <a:chOff x="380880" y="1278000"/>
                <a:chExt cx="8474040" cy="31424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82640" y="1927080"/>
                  <a:ext cx="458640" cy="95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380880" y="1278000"/>
                  <a:ext cx="8474040" cy="3142440"/>
                  <a:chOff x="380880" y="1278000"/>
                  <a:chExt cx="8474040" cy="3142440"/>
                </a:xfrm>
              </p:grpSpPr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1692000" y="2658600"/>
                    <a:ext cx="5780160" cy="1147680"/>
                    <a:chOff x="1692000" y="2658600"/>
                    <a:chExt cx="5780160" cy="1147680"/>
                  </a:xfrm>
                </p:grpSpPr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692000" y="2658600"/>
                      <a:ext cx="1209600" cy="114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36440" y="2658600"/>
                      <a:ext cx="1206720" cy="114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78000" y="2658600"/>
                      <a:ext cx="1208160" cy="114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21000" y="2658600"/>
                      <a:ext cx="1208160" cy="11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64000" y="2658600"/>
                      <a:ext cx="1208160" cy="114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1612800" y="1278000"/>
                    <a:ext cx="5861160" cy="1147320"/>
                    <a:chOff x="1612800" y="1278000"/>
                    <a:chExt cx="5861160" cy="1147320"/>
                  </a:xfrm>
                </p:grpSpPr>
                <p:pic>
                  <p:nvPicPr>
                    <p:cNvPr id="1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12800" y="1278000"/>
                      <a:ext cx="1209600" cy="114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778120" y="1278000"/>
                      <a:ext cx="1208160" cy="114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40200" y="1278000"/>
                      <a:ext cx="1208160" cy="114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3720" y="1278000"/>
                      <a:ext cx="1208160" cy="114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265800" y="1278000"/>
                      <a:ext cx="1208160" cy="114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2039760" y="4052160"/>
                    <a:ext cx="6275520" cy="368280"/>
                    <a:chOff x="2039760" y="4052160"/>
                    <a:chExt cx="6275520" cy="36828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2039760" y="4052160"/>
                      <a:ext cx="6033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3159000" y="4052160"/>
                      <a:ext cx="4921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4279680" y="4052160"/>
                      <a:ext cx="5238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5422680" y="4052160"/>
                      <a:ext cx="460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530760" y="4052160"/>
                      <a:ext cx="1784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105 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分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7897680" y="1855440"/>
                    <a:ext cx="957240" cy="1332720"/>
                    <a:chOff x="7897680" y="1855440"/>
                    <a:chExt cx="957240" cy="1332720"/>
                  </a:xfrm>
                </p:grpSpPr>
                <p:grpSp>
                  <p:nvGrpSpPr>
                    <p:cNvPr id="137" name=""/>
                    <p:cNvGrpSpPr/>
                    <p:nvPr/>
                  </p:nvGrpSpPr>
                  <p:grpSpPr>
                    <a:xfrm>
                      <a:off x="7897680" y="1923480"/>
                      <a:ext cx="114120" cy="1194840"/>
                      <a:chOff x="7897680" y="1923480"/>
                      <a:chExt cx="114120" cy="1194840"/>
                    </a:xfrm>
                  </p:grpSpPr>
                  <p:sp>
                    <p:nvSpPr>
                      <p:cNvPr id="138" name=""/>
                      <p:cNvSpPr/>
                      <p:nvPr/>
                    </p:nvSpPr>
                    <p:spPr>
                      <a:xfrm>
                        <a:off x="7897680" y="1923480"/>
                        <a:ext cx="114120" cy="68040"/>
                      </a:xfrm>
                      <a:prstGeom prst="rect">
                        <a:avLst/>
                      </a:prstGeom>
                      <a:solidFill>
                        <a:srgbClr val="ff3b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" name=""/>
                      <p:cNvSpPr/>
                      <p:nvPr/>
                    </p:nvSpPr>
                    <p:spPr>
                      <a:xfrm>
                        <a:off x="7897680" y="1993680"/>
                        <a:ext cx="114120" cy="67680"/>
                      </a:xfrm>
                      <a:prstGeom prst="rect">
                        <a:avLst/>
                      </a:prstGeom>
                      <a:solidFill>
                        <a:srgbClr val="ff77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7897680" y="2063520"/>
                        <a:ext cx="114120" cy="68040"/>
                      </a:xfrm>
                      <a:prstGeom prst="rect">
                        <a:avLst/>
                      </a:prstGeom>
                      <a:solidFill>
                        <a:srgbClr val="ffb3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7897680" y="2133720"/>
                        <a:ext cx="114120" cy="68040"/>
                      </a:xfrm>
                      <a:prstGeom prst="rect">
                        <a:avLst/>
                      </a:prstGeom>
                      <a:solidFill>
                        <a:srgbClr val="ffe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2" name=""/>
                      <p:cNvSpPr/>
                      <p:nvPr/>
                    </p:nvSpPr>
                    <p:spPr>
                      <a:xfrm>
                        <a:off x="7897680" y="2203920"/>
                        <a:ext cx="114120" cy="68760"/>
                      </a:xfrm>
                      <a:prstGeom prst="rect">
                        <a:avLst/>
                      </a:prstGeom>
                      <a:solidFill>
                        <a:srgbClr val="d1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7897680" y="2276280"/>
                        <a:ext cx="114120" cy="66960"/>
                      </a:xfrm>
                      <a:prstGeom prst="rect">
                        <a:avLst/>
                      </a:prstGeom>
                      <a:solidFill>
                        <a:srgbClr val="95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7897680" y="2346480"/>
                        <a:ext cx="114120" cy="66960"/>
                      </a:xfrm>
                      <a:prstGeom prst="rect">
                        <a:avLst/>
                      </a:prstGeom>
                      <a:solidFill>
                        <a:srgbClr val="5a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7897680" y="2416680"/>
                        <a:ext cx="114120" cy="66960"/>
                      </a:xfrm>
                      <a:prstGeom prst="rect">
                        <a:avLst/>
                      </a:prstGeom>
                      <a:solidFill>
                        <a:srgbClr val="1d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7897680" y="2486520"/>
                        <a:ext cx="114120" cy="68040"/>
                      </a:xfrm>
                      <a:prstGeom prst="rect">
                        <a:avLst/>
                      </a:prstGeom>
                      <a:solidFill>
                        <a:srgbClr val="00ff1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>
                        <a:off x="7897680" y="2557800"/>
                        <a:ext cx="114120" cy="66960"/>
                      </a:xfrm>
                      <a:prstGeom prst="rect">
                        <a:avLst/>
                      </a:prstGeom>
                      <a:solidFill>
                        <a:srgbClr val="00ff5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" name=""/>
                      <p:cNvSpPr/>
                      <p:nvPr/>
                    </p:nvSpPr>
                    <p:spPr>
                      <a:xfrm>
                        <a:off x="7897680" y="2628000"/>
                        <a:ext cx="114120" cy="66960"/>
                      </a:xfrm>
                      <a:prstGeom prst="rect">
                        <a:avLst/>
                      </a:prstGeom>
                      <a:solidFill>
                        <a:srgbClr val="00ff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7897680" y="2698200"/>
                        <a:ext cx="114120" cy="66960"/>
                      </a:xfrm>
                      <a:prstGeom prst="rect">
                        <a:avLst/>
                      </a:prstGeom>
                      <a:solidFill>
                        <a:srgbClr val="00ff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7897680" y="2768400"/>
                        <a:ext cx="114120" cy="68760"/>
                      </a:xfrm>
                      <a:prstGeom prst="rect">
                        <a:avLst/>
                      </a:prstGeom>
                      <a:solidFill>
                        <a:srgbClr val="00e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7897680" y="2839680"/>
                        <a:ext cx="114120" cy="67680"/>
                      </a:xfrm>
                      <a:prstGeom prst="rect">
                        <a:avLst/>
                      </a:prstGeom>
                      <a:solidFill>
                        <a:srgbClr val="00b3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7897680" y="2909880"/>
                        <a:ext cx="114120" cy="68040"/>
                      </a:xfrm>
                      <a:prstGeom prst="rect">
                        <a:avLst/>
                      </a:prstGeom>
                      <a:solidFill>
                        <a:srgbClr val="0077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7897680" y="2979720"/>
                        <a:ext cx="114120" cy="68040"/>
                      </a:xfrm>
                      <a:prstGeom prst="rect">
                        <a:avLst/>
                      </a:prstGeom>
                      <a:solidFill>
                        <a:srgbClr val="003b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7897680" y="3050280"/>
                        <a:ext cx="114120" cy="68040"/>
                      </a:xfrm>
                      <a:prstGeom prst="rect">
                        <a:avLst/>
                      </a:pr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8059680" y="1855440"/>
                      <a:ext cx="50760" cy="66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8059680" y="3120480"/>
                      <a:ext cx="50760" cy="67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8059680" y="1921680"/>
                      <a:ext cx="50760" cy="1198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8078760" y="1915560"/>
                      <a:ext cx="20196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+0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8078760" y="2102760"/>
                      <a:ext cx="20196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+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8078760" y="2293200"/>
                      <a:ext cx="20196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+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8078760" y="2482200"/>
                      <a:ext cx="20196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+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8078760" y="2672640"/>
                      <a:ext cx="20196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+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8078760" y="2861640"/>
                      <a:ext cx="20196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+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8078760" y="3052080"/>
                      <a:ext cx="5724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8291520" y="2410920"/>
                      <a:ext cx="5634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6" name=""/>
                  <p:cNvSpPr/>
                  <p:nvPr/>
                </p:nvSpPr>
                <p:spPr>
                  <a:xfrm>
                    <a:off x="380880" y="1699920"/>
                    <a:ext cx="10065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TW" sz="1800" spc="-1" strike="noStrike">
                        <a:solidFill>
                          <a:srgbClr val="000000"/>
                        </a:solidFill>
                        <a:latin typeface="細明體"/>
                        <a:ea typeface="細明體"/>
                      </a:rPr>
                      <a:t>對照組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細明體"/>
                        <a:ea typeface="細明體"/>
                      </a:rPr>
                      <a:t> 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細明體"/>
                        <a:ea typeface="細明體"/>
                      </a:rPr>
                      <a:t>(</a:t>
                    </a:r>
                    <a:r>
                      <a:rPr b="1" lang="zh-TW" sz="1800" spc="-1" strike="noStrike">
                        <a:solidFill>
                          <a:srgbClr val="000000"/>
                        </a:solidFill>
                        <a:latin typeface="細明體"/>
                        <a:ea typeface="細明體"/>
                      </a:rPr>
                      <a:t>水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細明體"/>
                        <a:ea typeface="細明體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7881120" y="3334680"/>
                  <a:ext cx="829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1600" spc="-1" strike="noStrike">
                      <a:solidFill>
                        <a:srgbClr val="ff3300"/>
                      </a:solidFill>
                      <a:latin typeface="Times New Roman"/>
                      <a:ea typeface="新細明體"/>
                    </a:rPr>
                    <a:t>α</a:t>
                  </a:r>
                  <a:r>
                    <a:rPr b="1" lang="zh-TW" sz="1600" spc="-1" strike="noStrike">
                      <a:solidFill>
                        <a:srgbClr val="ff3300"/>
                      </a:solidFill>
                      <a:latin typeface="Times New Roman"/>
                      <a:ea typeface="新細明體"/>
                    </a:rPr>
                    <a:t>波活躍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6095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 u="sng">
                <a:solidFill>
                  <a:srgbClr val="e50601"/>
                </a:solidFill>
                <a:uFillTx/>
                <a:latin typeface="Arial"/>
                <a:ea typeface="新細明體"/>
              </a:rPr>
              <a:t>實驗顯示 </a:t>
            </a:r>
            <a:r>
              <a:rPr b="1" lang="en-US" sz="1800" spc="-1" strike="noStrike" u="sng">
                <a:solidFill>
                  <a:srgbClr val="e50601"/>
                </a:solidFill>
                <a:uFillTx/>
                <a:latin typeface="Arial"/>
                <a:ea typeface="新細明體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e50601"/>
                </a:solidFill>
                <a:latin typeface="細明體"/>
                <a:ea typeface="細明體"/>
              </a:rPr>
              <a:t>茶胺酸加強，右腦頂葉</a:t>
            </a:r>
            <a:r>
              <a:rPr b="1" lang="en-US" sz="2200" spc="-1" strike="noStrike">
                <a:solidFill>
                  <a:srgbClr val="e50601"/>
                </a:solidFill>
                <a:latin typeface="細明體"/>
                <a:ea typeface="細明體"/>
              </a:rPr>
              <a:t>/</a:t>
            </a:r>
            <a:r>
              <a:rPr b="1" lang="zh-TW" sz="2200" spc="-1" strike="noStrike">
                <a:solidFill>
                  <a:srgbClr val="e50601"/>
                </a:solidFill>
                <a:latin typeface="細明體"/>
                <a:ea typeface="細明體"/>
              </a:rPr>
              <a:t>枕葉區的</a:t>
            </a:r>
            <a:r>
              <a:rPr b="1" lang="en-US" sz="2200" spc="-1" strike="noStrike">
                <a:solidFill>
                  <a:srgbClr val="e50601"/>
                </a:solidFill>
                <a:latin typeface="細明體"/>
                <a:ea typeface="細明體"/>
              </a:rPr>
              <a:t>α</a:t>
            </a:r>
            <a:r>
              <a:rPr b="1" lang="zh-TW" sz="2200" spc="-1" strike="noStrike">
                <a:solidFill>
                  <a:srgbClr val="e50601"/>
                </a:solidFill>
                <a:latin typeface="細明體"/>
                <a:ea typeface="細明體"/>
              </a:rPr>
              <a:t>波長振動活性有助集中注意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5680" y="76320"/>
            <a:ext cx="444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000000"/>
                </a:solidFill>
                <a:uFillTx/>
                <a:latin typeface="細明體"/>
                <a:ea typeface="細明體"/>
              </a:rPr>
              <a:t>茶胺酸與注意力集中　</a:t>
            </a:r>
            <a:r>
              <a:rPr b="1" lang="zh-TW" sz="2400" spc="-1" strike="noStrike" u="sng">
                <a:solidFill>
                  <a:srgbClr val="009999"/>
                </a:solidFill>
                <a:uFillTx/>
                <a:latin typeface="細明體"/>
                <a:ea typeface="細明體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143000" y="914400"/>
            <a:ext cx="6553080" cy="5181480"/>
            <a:chOff x="1143000" y="914400"/>
            <a:chExt cx="6553080" cy="5181480"/>
          </a:xfrm>
        </p:grpSpPr>
        <p:sp>
          <p:nvSpPr>
            <p:cNvPr id="171" name=""/>
            <p:cNvSpPr/>
            <p:nvPr/>
          </p:nvSpPr>
          <p:spPr>
            <a:xfrm>
              <a:off x="1143000" y="914400"/>
              <a:ext cx="6553080" cy="518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3440" y="2362320"/>
              <a:ext cx="355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Clinical Psychopharmacology 30: 25-38,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371600" y="2778120"/>
              <a:ext cx="5866920" cy="3317760"/>
              <a:chOff x="1371600" y="2778120"/>
              <a:chExt cx="5866920" cy="3317760"/>
            </a:xfrm>
          </p:grpSpPr>
          <p:pic>
            <p:nvPicPr>
              <p:cNvPr id="1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47680" y="2778120"/>
                <a:ext cx="5190840" cy="331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1599840" y="3059280"/>
                <a:ext cx="1218960" cy="429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安慰劑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71600" y="3886200"/>
                <a:ext cx="1523880" cy="8553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茶胺酸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(250 </a:t>
                </a:r>
                <a:r>
                  <a:rPr b="0" lang="zh-TW" sz="14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毫克溶於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200 </a:t>
                </a:r>
                <a:r>
                  <a:rPr b="0" lang="zh-TW" sz="14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毫升水中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67080" y="4952880"/>
                <a:ext cx="106632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時間（毫秒）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71880" y="5013360"/>
                <a:ext cx="93312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最高百分比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2666880" y="923760"/>
              <a:ext cx="4114800" cy="143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 rot="2851800">
            <a:off x="6590880" y="3390480"/>
            <a:ext cx="685800" cy="762120"/>
          </a:xfrm>
          <a:prstGeom prst="downArrow">
            <a:avLst>
              <a:gd name="adj1" fmla="val 27713"/>
              <a:gd name="adj2" fmla="val 41411"/>
            </a:avLst>
          </a:prstGeom>
          <a:solidFill>
            <a:srgbClr val="e506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1:16:38Z</dcterms:created>
  <dc:creator>Edmund Li</dc:creator>
  <dc:description/>
  <dc:language>en-US</dc:language>
  <cp:lastModifiedBy>Josephine Chan</cp:lastModifiedBy>
  <dcterms:modified xsi:type="dcterms:W3CDTF">2007-03-22T07:43:03Z</dcterms:modified>
  <cp:revision>101</cp:revision>
  <dc:subject/>
  <dc:title>Slide 1</dc:title>
</cp:coreProperties>
</file>