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85E-D9B8-4603-A46B-FDC7F4E6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C3F-8BA8-40B5-911D-9A692850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B9A31-4EC4-4785-A3B0-D7191FC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3D7CC-018A-4722-BD4A-AE2EA92A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3939D-8A95-45EB-8805-6EFECF3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5CD54-185D-45E1-BE9B-D7C7D98A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087AD-6357-4617-ABB3-843A0F2E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7F1A5-953E-4993-8401-30108CD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F9D3F-8964-46A9-B309-4E2F0F35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42F53-A370-4D3C-8DD9-63957A68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F2C97-D3AF-41D9-9310-F15B5B8A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18554-6633-4B98-8169-F7135757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F25-7A1D-4678-B686-B2492D03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EDB07-A5BD-413D-BDC2-333540C1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6698B-5999-4BED-9D76-A8B532A7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6F497-A797-4F9C-9AA4-51B9FC68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BCF5B-5AA4-4255-8F6A-79F5230D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D9593-8974-453A-AF10-08F9F98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4A07E-312C-4669-B9D5-A4E262C9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8C6D3-7DCC-4021-853C-1E21E841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C3E0B-80F9-4615-8FD0-5E2FC7F5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1E8E9-97D8-4125-A867-AB5BB70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8B509-A77D-4284-B4F1-7B0CFBC1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A5D-E0C5-431E-A3A3-AC53C9C7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E3E6D-0BED-4B29-A47F-729C610E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3335C-F9C2-49FE-BA35-C2617E35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3BD7-3420-419B-A883-26D7440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4B780-6579-46BB-A2B7-9FF41CAC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B084E-8050-4CDE-BE75-F1FB359D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8A4BB-D95C-4A0D-AC9D-A3701C3E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585A8-8083-4E7C-BFE0-928EDED9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AEF50-8AF9-4C30-B72A-7594A6B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1111D-108F-46E1-BBFA-386D550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C74C1-3D54-41AE-A88D-45B6E62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58A7-C5A8-4D63-833C-5B418CE4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D0D3C-2F32-4C7C-ADEC-CCF9FE9D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BEEFD-7FB6-4B10-BC2A-9F3A609B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A523A-21E5-47AC-8073-F070FEFA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781B0-4540-4244-909C-B58D96E0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5AC2E-3969-492E-9E38-4DE1267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29874-BB18-4D5A-8B8F-BFCA580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EE8E7-5211-4DD6-99EA-296DCCC3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9E5F5-54D3-487D-BA27-1D935A32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FA90C-D880-4FB4-ACCC-16ECAE52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C8B52-7799-4330-A45B-5130745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25E-4FB0-41E2-B679-146FAFD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7C195-5982-4041-B970-AB230CC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643F5-B277-4C51-A157-1F19953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A0C2F-D355-4A15-BAA4-ABD36AB7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71210-FE19-40B7-95CD-B1AF048D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28E5C-9C9C-4DBE-BE11-D4EE1448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01D2-7546-4FE8-AF8E-0549C416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2008-442D-4066-8208-3C7AFE9B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4C5A-1F50-4A7E-82BA-4C531CBA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927-9830-4301-9B52-0389DFA9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3BF0-9BA6-40E3-9894-43B5437E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E82-B8BD-4B3A-B191-ABB9061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02EC-00FF-464F-919B-E3772C2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8E2-7A38-4CCE-AA1E-C0C570E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A721-35F2-45B8-B7E3-FDAD3522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C853-043C-4FC4-897C-7FD8A8A3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2FAD-7699-480F-85A5-AB0FDE1B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16AD-1FD2-43C1-AAEB-86B85325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ED3C-CC9B-4976-9AEA-D0CA9D3C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65EA-7B93-463B-86A0-5711CE1B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0B7B-C250-4D42-832C-748343E0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CACB-9101-4712-9045-2475E6E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CB9-3EB3-4227-ACF5-B484A3D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782B-2735-4722-A914-D040D999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70C5-597B-434A-9B95-F2E7EFE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80CE-C48E-4D63-815F-C13D1F02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C487-144B-4067-AEA0-34ACC2F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199D-BBB4-4F66-88CD-5DDB5585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07E2-7327-4F48-BD51-6821CCE1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5F9F-0D8F-4D81-95C0-DCF3C620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2E79-78C2-41B9-BDC4-79EC8DA7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7C2B-AF2D-4AC9-984B-1E20B8B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F413-BC77-4F2F-B4C9-5DEC438D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A00-52C6-4D2A-8BCE-521760B6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FEBF-698B-48C7-BDC7-2C58652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738F-5E73-48F1-97BA-3592F6BA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7117-6027-4B51-A9CD-87C64D0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4FAA-609C-4BF2-A6C3-7C0BED70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3486-2F20-4C0D-8D85-CA9132B0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7ECF-67FC-4D5A-A8CB-A2979418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FEE0-7D11-4FC8-93C5-375EAC87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A8BC3-0A08-4F34-8F43-E4E1A974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0914-7EBB-4A09-84A5-4E37A50A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0451-3878-4536-89AA-A872B331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8A4-6B92-4F56-9505-631D749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52CB-B9D7-48B2-A66D-B317C826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D673-F79E-4C93-9B56-E0EB788A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D6E09-6B81-49A4-BEB5-0849502F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10C4D-50FC-4DBE-86C6-9AA6453B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468F9-43E7-4EB7-87F8-09151ED6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E28B-D5E9-41AF-A8F9-67C5589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D8B0B-D979-48D9-BB1E-7089E1F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9578D-91B7-425F-A729-62C81622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F879-5DFB-4B96-9018-B5770E03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57B8-C349-47EF-839C-330D8A8A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010-D835-4D7A-9E6F-B9CEFD0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B1E6-D441-4F3C-9742-447AA8A8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82BC-9165-4C28-8299-3026ADD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7C134-A247-40BA-9FA7-C37E51A2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4D6ED-816A-44A6-9FE0-B1FB5DD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A07FE-0565-4392-B1DB-B1F6F5D2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A5B74-7F73-439E-846C-BCFA78A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B40EC-A7C9-4DA0-8525-9DE5511F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53608-4A36-4A2D-A795-D05044E2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3BC01-77E9-4030-BA2F-E2EBA5E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57936-8EA3-4981-8D00-D333C3A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567-E9E0-4759-8D5D-1B3EFF68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950F-4AE5-432C-B455-EE76104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2C753-7FDF-4E45-9ABC-983ED3E8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090DC-6459-4CCC-A712-9A90E171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99AE-7050-4CD5-B445-A6558AFA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B5BBB-FEDB-4795-ABDB-D6820E53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0D36-5A12-41DF-8936-8DF70C31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FAE2A-14EA-463E-BC89-F2107498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0875F-FFC7-4EF3-9124-5E395A2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D9142-76F4-4DDC-B98E-9EFECECB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B805C-CCDB-404C-87DB-7C03EFD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663-D0EF-4980-B712-507F12A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0372-AD29-41D6-88CB-8C54134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4E887-F44B-44DD-856E-5974674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7ABA5-3EBC-495E-BB40-BF8DDF93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FA80-B16A-4D72-9492-F63F747D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C220-3612-4562-82A2-1CB5C7D8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D5D5-5432-4CFD-BF60-076EE15B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D624-527F-44E7-902F-DAE0CA76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82907-A4E9-4A71-93EF-2DE3E852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302FD-2EE4-4067-B44A-205DE3AA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71BB5-5576-4EBB-AE53-B327A696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FEE-2CE5-4E91-A746-0A77C3D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FA92-D8E9-471E-89E6-9E9FC7D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88E36-CCB5-4DCB-B372-6759D1D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D98C9-B5A4-4320-9A16-D8063708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E8D55-99E6-47D2-A505-566F83F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B869-F583-4471-B2A7-295B516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23A22-DCE2-4FE0-946F-412FCB0D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B8F3-793F-4561-ACFC-18EA9B44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12D98-CD9B-456E-8B6C-C0943D51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B6BF3-6F99-4BD7-85E3-F9FF6B86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B5A79-4F0E-42A5-98B6-CD740BDC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A2B6-B611-4252-B3BC-2D900B926AAF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DA5-C860-44FD-BE46-D42EA82C41C7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線接點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517A-2CB6-4406-B00C-540A670DA6BE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D430-070F-4A0B-BCC9-97E08EA9E47B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D7B-FB97-4D2E-B532-3B57442840AF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F722-3DF3-4698-B968-F383617ACE8D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線接點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橢圓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橢圓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3C78-277F-405D-91D5-94640B1C3422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563B-5B72-45B1-AD23-D481DD79FDCB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接點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DA92-C6B0-42FC-95E4-55B57CF14C3E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D329-2F60-4028-BDF6-18936B5CE68D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B0F8-AA8E-4AD9-B0B3-9CE734DFFE49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C9D9-688E-4904-A5D4-01B31D853386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線接點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橢圓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橢圓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5B9C-51E3-454D-9022-68A035537BCB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975-3B24-4FF0-8EBA-CC0F4CD26B63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接點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5C9F-BD29-4E91-A3BE-9BB25CE726EE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EB3F-9296-4069-9E54-2C58CF333C66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線接點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接點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35C1-70F7-4E0D-B200-C01B3746639F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27BC-9BC3-494C-AFE6-A382CD34A794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ADC-CEFF-461D-982A-71705EBB0869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125-B0B8-4162-99F5-D7864AFEFF2D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3016-36EA-467F-9B34-E783C237B254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CC7-5AAC-4967-BD12-3F921F66E4DA}" type="slidenum"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線接點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橢圓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橢圓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65A0-415E-4142-B744-1AA82192F588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997B-7439-47B2-9372-73F5B79AEC26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99760" y="3571920"/>
            <a:ext cx="592956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公眾對道教的認識</a:t>
            </a:r>
            <a:br>
              <a:rPr sz="3800"/>
            </a:br>
            <a:r>
              <a:rPr b="0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及活動參與意見調查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08" name="Object 5"/>
          <p:cNvGraphicFramePr/>
          <p:nvPr/>
        </p:nvGraphicFramePr>
        <p:xfrm>
          <a:off x="428760" y="5786280"/>
          <a:ext cx="4982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786280"/>
                    <a:ext cx="498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文字方塊 6"/>
          <p:cNvSpPr/>
          <p:nvPr/>
        </p:nvSpPr>
        <p:spPr>
          <a:xfrm>
            <a:off x="928800" y="5786280"/>
            <a:ext cx="1785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標楷體"/>
                <a:ea typeface="標楷體"/>
              </a:rPr>
              <a:t>香港大學民意研究計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oudy Old Style"/>
                <a:ea typeface="Arial"/>
              </a:rPr>
              <a:t>Public Opinion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oudy Old Style"/>
                <a:ea typeface="Arial"/>
              </a:rPr>
              <a:t>University of Hong K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C:\Documents and Settings\winnie\Desktop\logo_banner.jpg"/>
          <p:cNvPicPr/>
          <p:nvPr/>
        </p:nvPicPr>
        <p:blipFill>
          <a:blip r:embed="rId3"/>
          <a:stretch/>
        </p:blipFill>
        <p:spPr>
          <a:xfrm>
            <a:off x="8358120" y="4143240"/>
            <a:ext cx="492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42600" y="264276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背景資料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723276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性別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內容版面配置區 4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39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304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年齡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42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28440" y="357120"/>
            <a:ext cx="73753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教育程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4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45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1438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職業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48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1438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出生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內容版面配置區 4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58040" cy="4626000"/>
          </a:xfrm>
          <a:prstGeom prst="rect">
            <a:avLst/>
          </a:prstGeom>
          <a:ln w="0">
            <a:noFill/>
          </a:ln>
        </p:spPr>
      </p:pic>
      <p:sp>
        <p:nvSpPr>
          <p:cNvPr id="651" name="文字方塊 6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375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4296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半被訪者可以正確說出至少一項道教神仙或習俗，他們最熟悉的三個道教神仙依次為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黃大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1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觀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8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呂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約一半被訪者有到廟宇或在家中拜神或上香的習慣，包括約兩成人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每日都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7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定期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超過八成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86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從來沒有參與任何道教團體舉辦的活動，近五成半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4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曾經到廟宇求籤、拜神、祈福或問事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成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1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贊成把道祖誕列為香港法定勞工假期，三成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0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對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85880" y="9997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文字版面配置區 4"/>
          <p:cNvSpPr/>
          <p:nvPr/>
        </p:nvSpPr>
        <p:spPr>
          <a:xfrm>
            <a:off x="714240" y="385776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5898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探討公眾對道教的認識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教活動的參與及相關意見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74760" indent="-374760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香港道教聯合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74760" indent="-374760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5898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14240" y="1642680"/>
            <a:ext cx="8072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-161604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操粵語的香港居民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7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1,013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69.4%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在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3.1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5182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對道教神仙或習俗的認識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內容版面配置區 4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4043520" cy="4543200"/>
          </a:xfrm>
          <a:prstGeom prst="rect">
            <a:avLst/>
          </a:prstGeom>
          <a:ln w="0">
            <a:noFill/>
          </a:ln>
        </p:spPr>
      </p:pic>
      <p:pic>
        <p:nvPicPr>
          <p:cNvPr id="618" name="圖表 5" descr=""/>
          <p:cNvPicPr/>
          <p:nvPr/>
        </p:nvPicPr>
        <p:blipFill>
          <a:blip r:embed="rId2"/>
          <a:stretch/>
        </p:blipFill>
        <p:spPr>
          <a:xfrm>
            <a:off x="5357880" y="300024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19" name="文字方塊 6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字方塊 7"/>
          <p:cNvSpPr/>
          <p:nvPr/>
        </p:nvSpPr>
        <p:spPr>
          <a:xfrm>
            <a:off x="5429160" y="2071800"/>
            <a:ext cx="2928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首五個最多被訪者認識的道教神仙或習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「拜神」或「裝香」的習慣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內容版面配置區 4" descr=""/>
          <p:cNvPicPr/>
          <p:nvPr/>
        </p:nvPicPr>
        <p:blipFill>
          <a:blip r:embed="rId1"/>
          <a:stretch/>
        </p:blipFill>
        <p:spPr>
          <a:xfrm>
            <a:off x="587520" y="1527120"/>
            <a:ext cx="7932600" cy="4572000"/>
          </a:xfrm>
          <a:prstGeom prst="rect">
            <a:avLst/>
          </a:prstGeom>
          <a:ln w="0">
            <a:noFill/>
          </a:ln>
        </p:spPr>
      </p:pic>
      <p:sp>
        <p:nvSpPr>
          <p:cNvPr id="623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到廟宇「求籤」、「拜神」、「祈福」、「問事」的經驗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內容版面配置區 4" descr=""/>
          <p:cNvPicPr/>
          <p:nvPr/>
        </p:nvPicPr>
        <p:blipFill>
          <a:blip r:embed="rId1"/>
          <a:stretch/>
        </p:blipFill>
        <p:spPr>
          <a:xfrm>
            <a:off x="431640" y="1714680"/>
            <a:ext cx="8223480" cy="4525920"/>
          </a:xfrm>
          <a:prstGeom prst="rect">
            <a:avLst/>
          </a:prstGeom>
          <a:ln w="0">
            <a:noFill/>
          </a:ln>
        </p:spPr>
      </p:pic>
      <p:sp>
        <p:nvSpPr>
          <p:cNvPr id="626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道教團體舉辦之活動的參與</a:t>
            </a:r>
            <a:br>
              <a:rPr sz="3000"/>
            </a:b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例如太平清醮、道教節、清明法會、盂蘭法會、萬緣法會、萬人齊誦道德經、太極拳班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，或者道學講座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內容版面配置區 4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29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將道祖誕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農曆二月十五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列為香港法定勞工假期？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32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304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宗教信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35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2:17:16Z</dcterms:created>
  <dc:creator>winnie</dc:creator>
  <dc:description/>
  <dc:language>en-US</dc:language>
  <cp:lastModifiedBy>winnie</cp:lastModifiedBy>
  <dcterms:modified xsi:type="dcterms:W3CDTF">2010-03-28T09:06:43Z</dcterms:modified>
  <cp:revision>52</cp:revision>
  <dc:subject/>
  <dc:title>投影片 1</dc:title>
</cp:coreProperties>
</file>