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0445F4-0B29-49EC-AE16-FF0818EF121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C14-E1E0-4C0D-9AF0-7A1ED65D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32D-3BC7-44D0-829E-AD8B733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31E-BB1B-405B-8DD2-ACD855F4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A0F-EAAE-4D00-A7E5-F8FB601E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641-DD92-4074-89E1-382D3F4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4CB-C078-4A78-B9BC-29971AE2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EB0-7597-49CD-8E64-8BC8E29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D5A-AAA6-4D18-B6A7-F37F206B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F7E-B908-40EF-9DB8-6658350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3B6-5AAD-41D1-9565-7E310B7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E5A-2C5B-4DA9-A791-85927D9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1B5-15C7-493F-80F2-5F833271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422-DBE6-4FCD-87FD-1E55C09861D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添馬艦發展的公眾諮詢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343400"/>
            <a:ext cx="74674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你認為政府應該給予市民幾多時間進行公開諮詢？ （只問傾向贊成進一步諮詢公眾者，以月計 ）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3440" y="4495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09720" y="1633680"/>
          <a:ext cx="1044396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633680"/>
                    <a:ext cx="104439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52280" y="2057400"/>
          <a:ext cx="8610840" cy="45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057400"/>
                    <a:ext cx="86108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2133720"/>
          <a:ext cx="3047760" cy="1143000"/>
        </p:xfrm>
        <a:graphic>
          <a:graphicData uri="http://schemas.openxmlformats.org/drawingml/2006/table">
            <a:tbl>
              <a:tblPr/>
              <a:tblGrid>
                <a:gridCol w="1523520"/>
                <a:gridCol w="1524240"/>
              </a:tblGrid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時間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.8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個月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個月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一般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市民並未充分了解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政府就添馬艦建政府總部的具體建議及相關的爭論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巿民普遍認為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政府發放的資料不足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，並認為政府應該就計劃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進行公眾諮詢，最好為期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6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個月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倘若政府決意將向立法會財務委員會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申請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52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億元撥款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，亦會得到四成半被訪者支持，反對者有三成半。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支持者比反對者多，但未及半數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換言之，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巿民希望政府採取開放的態度，解釋添馬艦工程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的計劃，就算問題不能以簡單的民意調查解決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如果政府恃著整體民望高企而不著力爭取民意，甚至發放沒有科學基礎的民意數字，最終只會得不償失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被訪者個人</a:t>
            </a:r>
            <a:br>
              <a:rPr sz="1000"/>
            </a:br>
            <a:br>
              <a:rPr sz="10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背景資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性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828800"/>
          <a:ext cx="7724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2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62940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1,01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600200"/>
          <a:ext cx="775044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750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1,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Webdings"/>
                <a:ea typeface="Webdings"/>
              </a:rPr>
              <a:t>教育程度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219320"/>
          <a:ext cx="815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95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1,0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職業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99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新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市民對添馬艦發展計劃的認識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巿民對政府申請撥款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的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支持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巿民對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添馬艦工程進一步諮詢的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取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目的：探討巿民是否希望政府就添馬艦的發展進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公眾諮詢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保護海港協會對有關議題可能有既定立場，但並無影響香港大學民意研究計劃的獨立性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問卷由民研計劃諮詢保護海港協會後獨立設計，所有操作、數據收集及分析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由港大民研計劃獨立進行，結果亦由民研計劃全面負責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方法和結果全面公開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，公正程度由公眾評價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286000"/>
            <a:ext cx="7239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1560" indent="-1771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日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訪問對象：年齡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歲或以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操粵語、國語或英語的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，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2860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,018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63.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% 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以符合資格的目標對象計算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+/-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數據調整：調查數字已經按照政府統計處提供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中全港人口年齡及性別分佈初步統計數字，以「加權」方法作出調整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你對政府就添馬艦興建政府總部既建議，同埋相關既爭論認識有幾多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97920" y="2438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14600" y="1295280"/>
          <a:ext cx="67816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295280"/>
                    <a:ext cx="67816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4920" y="2347920"/>
          <a:ext cx="831852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4792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到目前為止，你認為政府就添馬艦建政府總部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之建議，向公眾提供的資料是否足夠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?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97920" y="2438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429000" y="1371600"/>
          <a:ext cx="6095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6095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" y="2362320"/>
          <a:ext cx="7772400" cy="42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777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政府將於本月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23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日，向立法會財務委員會，申請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2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億元撥款，以進行添馬艦工程。就你現時掌握既資料</a:t>
            </a:r>
            <a:br>
              <a:rPr sz="2400"/>
            </a:b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同理據，你傾向支持定係反對撥款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3920" y="281952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43200" y="1143000"/>
          <a:ext cx="7772400" cy="42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77724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4920" y="2286000"/>
          <a:ext cx="8623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0"/>
                    <a:ext cx="8623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有意見認為政府應該就添馬艦工程進一步諮詢公眾，但亦有意見認為係時候作出決定。你傾向贊成邊種講法？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3040" y="31240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1379520"/>
          <a:ext cx="8386920" cy="36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9520"/>
                    <a:ext cx="83869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2280" y="2209680"/>
          <a:ext cx="8699760" cy="4648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9680"/>
                    <a:ext cx="8699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6-19T04:19:55Z</dcterms:modified>
  <cp:revision>865</cp:revision>
  <dc:subject/>
  <dc:title>無投影片標題</dc:title>
</cp:coreProperties>
</file>