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7e00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1F73-D7CE-4D5D-9EAA-0F5B9F2C6668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6B40-35C0-4F85-B364-1A2760EA46C0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448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580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52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448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580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448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580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52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448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580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7e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7e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7e00"/>
                </a:solidFill>
                <a:latin typeface="Trebuchet MS"/>
              </a:rPr>
              <a:t>《</a:t>
            </a:r>
            <a:r>
              <a:rPr b="1" lang="en-US" sz="3600" spc="-1" strike="noStrike">
                <a:solidFill>
                  <a:srgbClr val="fc7e00"/>
                </a:solidFill>
                <a:latin typeface="Trebuchet MS"/>
              </a:rPr>
              <a:t>Roadblocks To Quit Smoking Survey</a:t>
            </a:r>
            <a:r>
              <a:rPr b="1" lang="en-US" sz="3600" spc="-1" strike="noStrike">
                <a:solidFill>
                  <a:srgbClr val="fc7e00"/>
                </a:solidFill>
                <a:latin typeface="Trebuchet MS"/>
              </a:rPr>
              <a:t>》</a:t>
            </a:r>
            <a:endParaRPr b="1" lang="en-US" sz="36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480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  <a:ea typeface="PMingLiU"/>
              </a:rPr>
              <a:t>23 October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454000">
            <a:off x="533520" y="761760"/>
            <a:ext cx="1923840" cy="693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216400">
            <a:off x="1600200" y="1828800"/>
            <a:ext cx="1447920" cy="52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20216400">
            <a:off x="4647960" y="990720"/>
            <a:ext cx="1923840" cy="693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1347400">
            <a:off x="6629400" y="1676520"/>
            <a:ext cx="1924200" cy="693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20433000">
            <a:off x="304920" y="5715000"/>
            <a:ext cx="1923840" cy="693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 rot="21232200">
            <a:off x="6095520" y="5181480"/>
            <a:ext cx="1924200" cy="69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 rot="20216400">
            <a:off x="7391520" y="5866920"/>
            <a:ext cx="144756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7e00"/>
                </a:solidFill>
                <a:latin typeface="Trebuchet MS"/>
              </a:rPr>
              <a:t>Respondents encountered symptoms like anxiety, upset and </a:t>
            </a:r>
            <a:br>
              <a:rPr sz="3000"/>
            </a:br>
            <a:r>
              <a:rPr b="1" lang="en-US" sz="3000" spc="-1" strike="noStrike">
                <a:solidFill>
                  <a:srgbClr val="fc7e00"/>
                </a:solidFill>
                <a:latin typeface="Trebuchet MS"/>
              </a:rPr>
              <a:t>depress during smoking cessation</a:t>
            </a:r>
            <a:endParaRPr b="1" lang="en-US" sz="3000" spc="-1" strike="noStrike">
              <a:solidFill>
                <a:srgbClr val="fc7e00"/>
              </a:solidFill>
              <a:latin typeface="Trebuchet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28600" y="2054160"/>
          <a:ext cx="638172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8600" y="2054160"/>
                    <a:ext cx="6381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507360" y="636912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Successful Sample: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492200"/>
            <a:ext cx="72392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2c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  <a:ea typeface="PMingLiU"/>
              </a:rPr>
              <a:t>Did you encounter these problems during smoking cessation?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PMingLiU"/>
              </a:rPr>
              <a:t>(multiple answ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7e00"/>
                </a:solidFill>
                <a:latin typeface="Trebuchet MS"/>
              </a:rPr>
              <a:t>Smokers always crave for smoking at breakfast time/ after meals</a:t>
            </a:r>
            <a:endParaRPr b="1" lang="en-US" sz="3600" spc="-1" strike="noStrike">
              <a:solidFill>
                <a:srgbClr val="fc7e00"/>
              </a:solidFill>
              <a:latin typeface="Trebuchet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76320" y="1905120"/>
          <a:ext cx="92203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905120"/>
                    <a:ext cx="92203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654960" y="644508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Successful Sample: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79440"/>
            <a:ext cx="762012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2c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ebuchet MS"/>
                <a:ea typeface="PMingLiU"/>
              </a:rPr>
              <a:t>From the incidents listed below, to what extend will they make you crave for smoking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7e00"/>
                </a:solidFill>
                <a:latin typeface="Trebuchet MS"/>
              </a:rPr>
              <a:t>More than half of the respondents will be more determined to give up smoking due to enforcement of the no smoking policy in public areas (e.g. restaurants &amp; bars)</a:t>
            </a:r>
            <a:endParaRPr b="1" lang="en-US" sz="24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143" name=""/>
          <p:cNvSpPr/>
          <p:nvPr/>
        </p:nvSpPr>
        <p:spPr>
          <a:xfrm>
            <a:off x="6431040" y="632448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Successful Sample: 4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600200"/>
            <a:ext cx="701064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2c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  <a:ea typeface="PMingLiU"/>
              </a:rPr>
              <a:t>Will the enforcement of  no smoking policy in public area such as restaurants enhance your determination of giving up smoking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2362320"/>
          <a:ext cx="8107200" cy="39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107200" cy="39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7e00"/>
                </a:solidFill>
                <a:latin typeface="Trebuchet MS"/>
              </a:rPr>
              <a:t>Conclusion</a:t>
            </a: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survey indicates smokers used various methods to quit smoking. However, a substantial percentage of them experienced withdrawal syndromes such as anxiety, upset and depression. Further to that, even dinning and work may trigger the crave for smoking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Legislative Council has just passed the “Smoking (Public Health) (Amendment) Bill 2005” which no-smoking zones will be expanded to more public areas including restaurants, indoor workplaces and karaoke, creating an urgency for smokers to quit smoking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lower the failure rate of smoking cessation, there rests a need to educate the smokers the appropriate way to quit smoking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7e00"/>
                </a:solidFill>
                <a:latin typeface="Trebuchet MS"/>
              </a:rPr>
              <a:t>Survey Overview</a:t>
            </a: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1143000"/>
          <a:ext cx="7315200" cy="5208480"/>
        </p:xfrm>
        <a:graphic>
          <a:graphicData uri="http://schemas.openxmlformats.org/drawingml/2006/table">
            <a:tbl>
              <a:tblPr/>
              <a:tblGrid>
                <a:gridCol w="1936800"/>
                <a:gridCol w="5378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Public Opinion Programme of the University of Hong Ko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To understand the roadblocks smokers encountered in the process of smoking ces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19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 Sept to 29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 Sept,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Method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Telephone inter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Random sampling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18-65 Cantonese speaking Hong Kong citizens who have attempted quitting smoking (both successful and fail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Successful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Effective 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rebuchet MS"/>
                          <a:ea typeface="PMingLiU"/>
                        </a:rPr>
                        <a:t>8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Sampling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標楷體"/>
                        </a:rPr>
                        <a:t>Not more than plus/minus 4.4 percentage points at 95% confidence lev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4880" y="26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c7e00"/>
                </a:solidFill>
                <a:latin typeface="Trebuchet MS"/>
              </a:rPr>
              <a:t>Survey Findings</a:t>
            </a:r>
            <a:endParaRPr b="1" lang="en-US" sz="38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90680" y="4527360"/>
            <a:ext cx="640080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c7e00"/>
                </a:solidFill>
                <a:latin typeface="Trebuchet MS"/>
              </a:rPr>
              <a:t>Smoking history</a:t>
            </a:r>
            <a:br>
              <a:rPr sz="3400"/>
            </a:br>
            <a:r>
              <a:rPr b="1" lang="en-US" sz="3400" spc="-1" strike="noStrike">
                <a:solidFill>
                  <a:srgbClr val="fc7e00"/>
                </a:solidFill>
                <a:latin typeface="Trebuchet MS"/>
              </a:rPr>
              <a:t>Mean: 17.4 years</a:t>
            </a:r>
            <a:endParaRPr b="1" lang="en-US" sz="34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6847560" y="624348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PMingLiU"/>
              </a:rPr>
              <a:t>Successful Sample: 4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43080" y="1219320"/>
          <a:ext cx="847692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219320"/>
                    <a:ext cx="847692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400800" y="3519360"/>
            <a:ext cx="193824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PMingLiU"/>
              </a:rPr>
              <a:t>Mean: 17.4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PMingLiU"/>
              </a:rPr>
              <a:t>Error: 0.36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62920" y="14860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9600" y="28195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1160" y="2209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41148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7480" y="35053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8006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7e00"/>
                </a:solidFill>
                <a:latin typeface="Trebuchet MS"/>
              </a:rPr>
              <a:t>Average number of cigarettes smoked everyday: 16.6</a:t>
            </a:r>
            <a:endParaRPr b="1" lang="en-US" sz="32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108" name=""/>
          <p:cNvSpPr/>
          <p:nvPr/>
        </p:nvSpPr>
        <p:spPr>
          <a:xfrm>
            <a:off x="6011280" y="617544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Successful Sample : 4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371600"/>
          <a:ext cx="876312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76312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172200" y="1828800"/>
            <a:ext cx="1938240" cy="119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PMingLiU"/>
              </a:rPr>
              <a:t>Average: 16.6 cigarettes/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PMingLiU"/>
              </a:rPr>
              <a:t>Error: 0.28 cigar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7e00"/>
                </a:solidFill>
                <a:latin typeface="Trebuchet MS"/>
              </a:rPr>
              <a:t>Nearly 50% of respondents give up smoking for better health</a:t>
            </a:r>
            <a:endParaRPr b="1" lang="en-US" sz="32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636912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Successful Sample: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1840" y="1911240"/>
          <a:ext cx="863748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911240"/>
                    <a:ext cx="863748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066680" y="1432080"/>
            <a:ext cx="739152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2c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ebuchet MS"/>
                <a:ea typeface="PMingLiU"/>
              </a:rPr>
              <a:t>What is your major reason for quit smoking? (multiple answer)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7e00"/>
                </a:solidFill>
                <a:latin typeface="Trebuchet MS"/>
              </a:rPr>
              <a:t>“</a:t>
            </a:r>
            <a:r>
              <a:rPr b="1" lang="en-US" sz="3000" spc="-1" strike="noStrike">
                <a:solidFill>
                  <a:srgbClr val="fc7e00"/>
                </a:solidFill>
                <a:latin typeface="Trebuchet MS"/>
              </a:rPr>
              <a:t>Quit by willpower” is the most common way for </a:t>
            </a:r>
            <a:r>
              <a:rPr b="1" lang="en-US" sz="3200" spc="-1" strike="noStrike">
                <a:solidFill>
                  <a:srgbClr val="fc7e00"/>
                </a:solidFill>
                <a:latin typeface="Trebuchet MS"/>
              </a:rPr>
              <a:t>smoking cessation</a:t>
            </a:r>
            <a:endParaRPr b="1" lang="en-US" sz="3200" spc="-1" strike="noStrike">
              <a:solidFill>
                <a:srgbClr val="fc7e00"/>
              </a:solidFill>
              <a:latin typeface="Trebuchet M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2286000"/>
          <a:ext cx="7620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620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5576760" y="6548400"/>
            <a:ext cx="354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PMingLiU"/>
              </a:rPr>
              <a:t>Successful Sample: 500, multipl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812960"/>
            <a:ext cx="70102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2c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ebuchet MS"/>
                <a:ea typeface="PMingLiU"/>
              </a:rPr>
              <a:t>What method did you use to quit smoking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7e00"/>
                </a:solidFill>
                <a:latin typeface="Trebuchet MS"/>
              </a:rPr>
              <a:t>Heavy smokers also rely on willpower to quit smoking</a:t>
            </a:r>
            <a:endParaRPr b="1" lang="en-US" sz="4000" spc="-1" strike="noStrike">
              <a:solidFill>
                <a:srgbClr val="fc7e00"/>
              </a:solidFill>
              <a:latin typeface="Trebuchet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2362320"/>
          <a:ext cx="82486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2486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652720" y="6548400"/>
            <a:ext cx="354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PMingLiU"/>
              </a:rPr>
              <a:t>Successful Sample: 271, multipl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676520"/>
            <a:ext cx="701064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2c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ebuchet MS"/>
                <a:ea typeface="PMingLiU"/>
              </a:rPr>
              <a:t>What method did you use to quit smokinig? </a:t>
            </a:r>
            <a:r>
              <a:rPr b="0" lang="fr-FR" sz="2000" spc="-1" strike="noStrike">
                <a:solidFill>
                  <a:srgbClr val="000000"/>
                </a:solidFill>
                <a:latin typeface="Trebuchet MS"/>
                <a:ea typeface="SimSun"/>
              </a:rPr>
              <a:t>( for those who smoke 16+ cigarette dai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c7e00"/>
                </a:solidFill>
                <a:latin typeface="Trebuchet MS"/>
              </a:rPr>
              <a:t>About 20% of respondents fail to quit smoking for 5 times or above</a:t>
            </a:r>
            <a:endParaRPr b="1" lang="en-US" sz="3500" spc="-1" strike="noStrike">
              <a:solidFill>
                <a:srgbClr val="fc7e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6450120" y="617544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Successful Sample: 4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447920"/>
            <a:ext cx="70106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2c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ebuchet MS"/>
                <a:ea typeface="PMingLiU"/>
              </a:rPr>
              <a:t>How many times did you fail to quit smoking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2000160"/>
          <a:ext cx="802008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00160"/>
                    <a:ext cx="802008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2:22:46Z</dcterms:created>
  <dc:creator>Grey Worldwide</dc:creator>
  <dc:description/>
  <dc:language>en-US</dc:language>
  <cp:lastModifiedBy>HKUPOP</cp:lastModifiedBy>
  <dcterms:modified xsi:type="dcterms:W3CDTF">2006-10-23T08:49:51Z</dcterms:modified>
  <cp:revision>1334</cp:revision>
  <dc:subject/>
  <dc:title>PowerPoint Presentation</dc:title>
</cp:coreProperties>
</file>