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734-A11F-419C-9EF4-5EEA92ADCB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E89E-0766-45F1-82EA-54E5C801BAF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30240" y="77796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8160" y="4739760"/>
            <a:ext cx="49276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BEF6-B86F-4611-BB59-1A96C5DB846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30240" y="77796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38160" y="4739760"/>
            <a:ext cx="49276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E3D4-A8B6-4BD9-9139-1CEF04EF0BB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30240" y="77796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8160" y="4739760"/>
            <a:ext cx="49276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B4C0-8A30-4691-9E38-599DD7B9B9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30240" y="77796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38160" y="4739760"/>
            <a:ext cx="49276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67DC-7C80-4835-A082-DE0C06D33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2864-DFD3-4A9F-9037-6325061C5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1404-E302-4A24-B7A6-9D67DD578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3539-BF74-497F-A638-A5AA79548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BDD7-F2DD-4F1F-B951-AB3E94C5D5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F51C-EBE3-4424-AE44-07B3E6F31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EDAF-2FA6-44F6-902E-0D38464CC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FF60-0076-44B9-8903-801611278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83E4-D642-48BA-ABA8-CAAAA0205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4A6E-1A99-42B7-A516-5F807E58B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F990-C979-46EA-A181-549668CCD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F89C-659C-4634-B850-89E0B733D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855D-DAD7-45F9-AE04-EACBF4C65B2A}" type="slidenum">
              <a:rPr b="0" lang="zh-TW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db.lv/zinas/data/upimages/foto2005/20.03-hk-wome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entury Gothic"/>
              </a:rPr>
              <a:t>HK Single Women’s Attitude Towards Sex &amp; Contraception Survey </a:t>
            </a:r>
            <a:r>
              <a:rPr b="1" lang="fr-FR" sz="3200" spc="-1" strike="noStrike">
                <a:solidFill>
                  <a:srgbClr val="a50021"/>
                </a:solidFill>
                <a:latin typeface="Century Gothic"/>
              </a:rPr>
              <a:t>Report</a:t>
            </a:r>
            <a:endParaRPr b="1" lang="en-US" sz="32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ed by</a:t>
            </a:r>
            <a:r>
              <a:rPr b="0" lang="zh-CN" sz="2000" spc="-1" strike="noStrike">
                <a:solidFill>
                  <a:srgbClr val="000000"/>
                </a:solidFill>
                <a:latin typeface="Century Gothic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s. Karie Pa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ogramme Manager, Public Opinion Programme, The University of Hong Ko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August 23, 2007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0"/>
            <a:ext cx="1981440" cy="16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6ED2-E5EE-4596-97D4-272DF6F477F8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762120" y="2438280"/>
            <a:ext cx="7358040" cy="3606840"/>
            <a:chOff x="762120" y="2438280"/>
            <a:chExt cx="7358040" cy="3606840"/>
          </a:xfrm>
        </p:grpSpPr>
        <p:graphicFrame>
          <p:nvGraphicFramePr>
            <p:cNvPr id="397" name=""/>
            <p:cNvGraphicFramePr/>
            <p:nvPr/>
          </p:nvGraphicFramePr>
          <p:xfrm>
            <a:off x="762120" y="2438280"/>
            <a:ext cx="735804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438280"/>
                      <a:ext cx="735804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9" name=""/>
            <p:cNvSpPr/>
            <p:nvPr/>
          </p:nvSpPr>
          <p:spPr>
            <a:xfrm>
              <a:off x="762120" y="2620440"/>
              <a:ext cx="6922080" cy="33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262200" y="6248520"/>
            <a:ext cx="20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1676520"/>
            <a:ext cx="75438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 :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How many sex partners do you think a woman can have in her life-tim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50021"/>
                </a:solidFill>
                <a:latin typeface="Century Gothic"/>
              </a:rPr>
              <a:t>54% think a woman can have more than one sex partners in her life-time</a:t>
            </a:r>
            <a:endParaRPr b="1" lang="en-US" sz="32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03" name="文字方塊 8"/>
          <p:cNvSpPr/>
          <p:nvPr/>
        </p:nvSpPr>
        <p:spPr>
          <a:xfrm>
            <a:off x="6172200" y="4038480"/>
            <a:ext cx="1523880" cy="337320"/>
          </a:xfrm>
          <a:prstGeom prst="rect">
            <a:avLst/>
          </a:prstGeom>
          <a:solidFill>
            <a:srgbClr val="ffe1eb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a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2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群組 14"/>
          <p:cNvGrpSpPr/>
          <p:nvPr/>
        </p:nvGrpSpPr>
        <p:grpSpPr>
          <a:xfrm>
            <a:off x="8001000" y="3048120"/>
            <a:ext cx="983160" cy="2057400"/>
            <a:chOff x="8001000" y="3048120"/>
            <a:chExt cx="983160" cy="2057400"/>
          </a:xfrm>
        </p:grpSpPr>
        <p:sp>
          <p:nvSpPr>
            <p:cNvPr id="405" name="右大括弧 12"/>
            <p:cNvSpPr/>
            <p:nvPr/>
          </p:nvSpPr>
          <p:spPr>
            <a:xfrm>
              <a:off x="8001000" y="3048120"/>
              <a:ext cx="380880" cy="20574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8640 h 2057400"/>
                <a:gd name="textAreaBottom" fmla="*/ 2048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字方塊 13"/>
            <p:cNvSpPr/>
            <p:nvPr/>
          </p:nvSpPr>
          <p:spPr>
            <a:xfrm>
              <a:off x="8347680" y="39499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267080" y="365760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4477-1A7C-4334-8B09-7504D127DE4A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1066680" y="2438280"/>
            <a:ext cx="7358040" cy="3606840"/>
            <a:chOff x="1066680" y="2438280"/>
            <a:chExt cx="7358040" cy="3606840"/>
          </a:xfrm>
        </p:grpSpPr>
        <p:graphicFrame>
          <p:nvGraphicFramePr>
            <p:cNvPr id="409" name=""/>
            <p:cNvGraphicFramePr/>
            <p:nvPr/>
          </p:nvGraphicFramePr>
          <p:xfrm>
            <a:off x="1066680" y="2438280"/>
            <a:ext cx="735804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438280"/>
                      <a:ext cx="735804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1" name=""/>
            <p:cNvSpPr/>
            <p:nvPr/>
          </p:nvSpPr>
          <p:spPr>
            <a:xfrm>
              <a:off x="1066680" y="2620440"/>
              <a:ext cx="6922080" cy="33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033600" y="6248520"/>
            <a:ext cx="20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43000" y="1752480"/>
            <a:ext cx="746748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Q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: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How often do you think a woman can have sex in a week?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50021"/>
                </a:solidFill>
                <a:latin typeface="Century Gothic"/>
              </a:rPr>
              <a:t>60% think a woman can have sex more than once a week</a:t>
            </a:r>
            <a:endParaRPr b="1" lang="en-US" sz="32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15" name="文字方塊 8"/>
          <p:cNvSpPr/>
          <p:nvPr/>
        </p:nvSpPr>
        <p:spPr>
          <a:xfrm>
            <a:off x="6477120" y="4419720"/>
            <a:ext cx="1523880" cy="337320"/>
          </a:xfrm>
          <a:prstGeom prst="rect">
            <a:avLst/>
          </a:prstGeom>
          <a:solidFill>
            <a:srgbClr val="ffe1eb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群組 12"/>
          <p:cNvGrpSpPr/>
          <p:nvPr/>
        </p:nvGrpSpPr>
        <p:grpSpPr>
          <a:xfrm>
            <a:off x="8153280" y="3276720"/>
            <a:ext cx="990720" cy="1600200"/>
            <a:chOff x="8153280" y="3276720"/>
            <a:chExt cx="990720" cy="1600200"/>
          </a:xfrm>
        </p:grpSpPr>
        <p:sp>
          <p:nvSpPr>
            <p:cNvPr id="417" name="右大括弧 13"/>
            <p:cNvSpPr/>
            <p:nvPr/>
          </p:nvSpPr>
          <p:spPr>
            <a:xfrm>
              <a:off x="8153280" y="3276720"/>
              <a:ext cx="380880" cy="16002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920 h 1600200"/>
                <a:gd name="textAreaBottom" fmla="*/ 159228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79"/>
                    <a:pt x="10800" y="357"/>
                  </a:cubicBezTo>
                  <a:lnTo>
                    <a:pt x="10800" y="10443"/>
                  </a:lnTo>
                  <a:cubicBezTo>
                    <a:pt x="10800" y="10622"/>
                    <a:pt x="16200" y="10800"/>
                    <a:pt x="21600" y="10800"/>
                  </a:cubicBezTo>
                  <a:cubicBezTo>
                    <a:pt x="16200" y="10800"/>
                    <a:pt x="10800" y="10979"/>
                    <a:pt x="10800" y="11157"/>
                  </a:cubicBezTo>
                  <a:lnTo>
                    <a:pt x="10800" y="21243"/>
                  </a:lnTo>
                  <a:cubicBezTo>
                    <a:pt x="10800" y="21422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字方塊 14"/>
            <p:cNvSpPr/>
            <p:nvPr/>
          </p:nvSpPr>
          <p:spPr>
            <a:xfrm>
              <a:off x="8458200" y="3886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95D0-799F-4111-94A2-1D2A56C0FFF4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066680" y="2438280"/>
            <a:ext cx="7358040" cy="3606840"/>
            <a:chOff x="1066680" y="2438280"/>
            <a:chExt cx="7358040" cy="3606840"/>
          </a:xfrm>
        </p:grpSpPr>
        <p:graphicFrame>
          <p:nvGraphicFramePr>
            <p:cNvPr id="420" name=""/>
            <p:cNvGraphicFramePr/>
            <p:nvPr/>
          </p:nvGraphicFramePr>
          <p:xfrm>
            <a:off x="1066680" y="2438280"/>
            <a:ext cx="735804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438280"/>
                      <a:ext cx="735804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1066680" y="2620440"/>
              <a:ext cx="6922080" cy="33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109920" y="6248520"/>
            <a:ext cx="20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1828800"/>
            <a:ext cx="746748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: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o you find it acceptable for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a sexual relationship without lov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50021"/>
                </a:solidFill>
                <a:latin typeface="Century Gothic"/>
              </a:rPr>
              <a:t>4% accept a sexual relationship </a:t>
            </a:r>
            <a:br>
              <a:rPr sz="3200"/>
            </a:br>
            <a:r>
              <a:rPr b="1" lang="fr-FR" sz="3200" spc="-1" strike="noStrike">
                <a:solidFill>
                  <a:srgbClr val="a50021"/>
                </a:solidFill>
                <a:latin typeface="Century Gothic"/>
              </a:rPr>
              <a:t>without love</a:t>
            </a:r>
            <a:endParaRPr b="1" lang="en-US" sz="32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6942-D5DD-42BB-A643-173A2165B7F3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1066680" y="2438280"/>
            <a:ext cx="7358040" cy="3606840"/>
            <a:chOff x="1066680" y="2438280"/>
            <a:chExt cx="7358040" cy="3606840"/>
          </a:xfrm>
        </p:grpSpPr>
        <p:graphicFrame>
          <p:nvGraphicFramePr>
            <p:cNvPr id="427" name=""/>
            <p:cNvGraphicFramePr/>
            <p:nvPr/>
          </p:nvGraphicFramePr>
          <p:xfrm>
            <a:off x="1066680" y="2438280"/>
            <a:ext cx="735804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438280"/>
                      <a:ext cx="735804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9" name=""/>
            <p:cNvSpPr/>
            <p:nvPr/>
          </p:nvSpPr>
          <p:spPr>
            <a:xfrm>
              <a:off x="1066680" y="2620440"/>
              <a:ext cx="6922080" cy="33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262200" y="6248520"/>
            <a:ext cx="20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1752480"/>
            <a:ext cx="746748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: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o you consider sex satisfaction important to wom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a50021"/>
                </a:solidFill>
                <a:latin typeface="Century Gothic"/>
              </a:rPr>
              <a:t>73% consider sex satisfaction is important to women</a:t>
            </a:r>
            <a:endParaRPr b="1" lang="en-US" sz="36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D038-B620-4BCD-B542-A3F6D8530143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  <a:ea typeface="新細明體"/>
              </a:rPr>
              <a:t>HK single women’s attitude towards contraception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6A43-D0F3-430B-B650-5CB086FCD6FC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304920" y="2286000"/>
            <a:ext cx="8424720" cy="3429000"/>
            <a:chOff x="304920" y="2286000"/>
            <a:chExt cx="8424720" cy="3429000"/>
          </a:xfrm>
        </p:grpSpPr>
        <p:graphicFrame>
          <p:nvGraphicFramePr>
            <p:cNvPr id="435" name=""/>
            <p:cNvGraphicFramePr/>
            <p:nvPr/>
          </p:nvGraphicFramePr>
          <p:xfrm>
            <a:off x="304920" y="2286000"/>
            <a:ext cx="8424720" cy="342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0"/>
                      <a:ext cx="8424720" cy="342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7" name=""/>
            <p:cNvSpPr/>
            <p:nvPr/>
          </p:nvSpPr>
          <p:spPr>
            <a:xfrm>
              <a:off x="304920" y="2459160"/>
              <a:ext cx="7925760" cy="32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505320" y="62485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Valid sample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502</a:t>
            </a:r>
            <a:r>
              <a:rPr b="0" lang="zh-CN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（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Multiple response allowed)</a:t>
            </a:r>
            <a:r>
              <a:rPr b="0" lang="zh-CN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23880" y="1676520"/>
            <a:ext cx="64771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:  Have you tried any of the following contraception means?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57% have used condom for contraception</a:t>
            </a:r>
            <a:br>
              <a:rPr sz="3200"/>
            </a:br>
            <a:r>
              <a:rPr b="1" lang="fr-FR" sz="2800" spc="-1" strike="noStrike">
                <a:solidFill>
                  <a:srgbClr val="a50021"/>
                </a:solidFill>
                <a:latin typeface="Century Gothic"/>
              </a:rPr>
              <a:t>17% have </a:t>
            </a:r>
            <a:r>
              <a:rPr b="1" lang="en-US" sz="2800" spc="-1" strike="noStrike">
                <a:solidFill>
                  <a:srgbClr val="a50021"/>
                </a:solidFill>
                <a:latin typeface="Century Gothic"/>
              </a:rPr>
              <a:t>taken oral contraceptiv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5% have used external ejaculation</a:t>
            </a:r>
            <a:r>
              <a:rPr b="1" lang="en-US" sz="3600" spc="-1" strike="noStrike">
                <a:solidFill>
                  <a:srgbClr val="a50021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73DF-43ED-4357-BD7D-53CB37FAFEF1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04920" y="2362320"/>
            <a:ext cx="8424720" cy="3530520"/>
            <a:chOff x="304920" y="2362320"/>
            <a:chExt cx="8424720" cy="3530520"/>
          </a:xfrm>
        </p:grpSpPr>
        <p:graphicFrame>
          <p:nvGraphicFramePr>
            <p:cNvPr id="442" name=""/>
            <p:cNvGraphicFramePr/>
            <p:nvPr/>
          </p:nvGraphicFramePr>
          <p:xfrm>
            <a:off x="304920" y="2362320"/>
            <a:ext cx="8424720" cy="353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362320"/>
                      <a:ext cx="8424720" cy="35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04920" y="2540520"/>
              <a:ext cx="7925760" cy="33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1371600" y="1676520"/>
            <a:ext cx="678168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: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o you think condom is for preventing STD or for contracep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86240" y="6248520"/>
            <a:ext cx="20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entury Gothic"/>
              </a:rPr>
              <a:t>70% think condom can prevent 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Century Gothic"/>
              </a:rPr>
              <a:t>pregnancy </a:t>
            </a:r>
            <a:r>
              <a:rPr b="1" lang="fr-FR" sz="2800" spc="-1" strike="noStrike">
                <a:solidFill>
                  <a:srgbClr val="a50021"/>
                </a:solidFill>
                <a:latin typeface="Century Gothic"/>
              </a:rPr>
              <a:t>and STD</a:t>
            </a:r>
            <a:endParaRPr b="1" lang="en-US" sz="28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66B6-E64E-460A-9C79-A58CDDA8EAD3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304920" y="2286000"/>
            <a:ext cx="8424720" cy="3786120"/>
            <a:chOff x="304920" y="2286000"/>
            <a:chExt cx="8424720" cy="3786120"/>
          </a:xfrm>
        </p:grpSpPr>
        <p:graphicFrame>
          <p:nvGraphicFramePr>
            <p:cNvPr id="449" name=""/>
            <p:cNvGraphicFramePr/>
            <p:nvPr/>
          </p:nvGraphicFramePr>
          <p:xfrm>
            <a:off x="304920" y="2286000"/>
            <a:ext cx="8424720" cy="378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0"/>
                      <a:ext cx="8424720" cy="378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"/>
            <p:cNvSpPr/>
            <p:nvPr/>
          </p:nvSpPr>
          <p:spPr>
            <a:xfrm>
              <a:off x="304920" y="2477160"/>
              <a:ext cx="7925760" cy="35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33520" y="1752480"/>
            <a:ext cx="807696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: Do you regard oral contraceptives or condom as a more reli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contraception metho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entury Gothic"/>
              </a:rPr>
              <a:t>46% consider condom more reliable for contraception</a:t>
            </a:r>
            <a:br>
              <a:rPr sz="2800"/>
            </a:br>
            <a:r>
              <a:rPr b="1" lang="zh-CN" sz="2800" spc="-1" strike="noStrike">
                <a:solidFill>
                  <a:srgbClr val="a50021"/>
                </a:solidFill>
                <a:latin typeface="Century Gothic"/>
              </a:rPr>
              <a:t>3</a:t>
            </a:r>
            <a:r>
              <a:rPr b="1" lang="en-US" sz="2800" spc="-1" strike="noStrike">
                <a:solidFill>
                  <a:srgbClr val="a50021"/>
                </a:solidFill>
                <a:latin typeface="Century Gothic"/>
              </a:rPr>
              <a:t>3% think oral contraceptives more reliable</a:t>
            </a:r>
            <a:endParaRPr b="1" lang="en-US" sz="28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54" name=""/>
          <p:cNvSpPr/>
          <p:nvPr/>
        </p:nvSpPr>
        <p:spPr>
          <a:xfrm>
            <a:off x="5881320" y="6195960"/>
            <a:ext cx="20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MS Gothic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MS Gothic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MS Gothic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AED7-070A-4010-A0E0-6DA1B5048709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1066680" y="2438280"/>
            <a:ext cx="7358040" cy="3606840"/>
            <a:chOff x="1066680" y="2438280"/>
            <a:chExt cx="7358040" cy="3606840"/>
          </a:xfrm>
        </p:grpSpPr>
        <p:graphicFrame>
          <p:nvGraphicFramePr>
            <p:cNvPr id="456" name=""/>
            <p:cNvGraphicFramePr/>
            <p:nvPr/>
          </p:nvGraphicFramePr>
          <p:xfrm>
            <a:off x="1066680" y="2438280"/>
            <a:ext cx="735804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438280"/>
                      <a:ext cx="735804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8" name=""/>
            <p:cNvSpPr/>
            <p:nvPr/>
          </p:nvSpPr>
          <p:spPr>
            <a:xfrm>
              <a:off x="1066680" y="2620440"/>
              <a:ext cx="6922080" cy="33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762120" y="1676520"/>
            <a:ext cx="7772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:  Do you agree that oral contraceptive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a safe and reliable contraception method?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50021"/>
                </a:solidFill>
                <a:latin typeface="Century Gothic"/>
              </a:rPr>
              <a:t>48% agree </a:t>
            </a:r>
            <a:r>
              <a:rPr b="1" lang="en-GB" sz="3200" spc="-1" strike="noStrike">
                <a:solidFill>
                  <a:srgbClr val="a50021"/>
                </a:solidFill>
                <a:latin typeface="Century Gothic"/>
              </a:rPr>
              <a:t>oral contraceptive is a reliable contraception method</a:t>
            </a:r>
            <a:endParaRPr b="1" lang="en-US" sz="32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61" name=""/>
          <p:cNvSpPr/>
          <p:nvPr/>
        </p:nvSpPr>
        <p:spPr>
          <a:xfrm>
            <a:off x="6109920" y="6270480"/>
            <a:ext cx="20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51720" y="4952880"/>
            <a:ext cx="1233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Don’t know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Hard to 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198F-1492-4613-8004-E101E73322EB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990720" y="2438280"/>
            <a:ext cx="7238880" cy="3454560"/>
            <a:chOff x="990720" y="2438280"/>
            <a:chExt cx="7238880" cy="3454560"/>
          </a:xfrm>
        </p:grpSpPr>
        <p:graphicFrame>
          <p:nvGraphicFramePr>
            <p:cNvPr id="464" name=""/>
            <p:cNvGraphicFramePr/>
            <p:nvPr/>
          </p:nvGraphicFramePr>
          <p:xfrm>
            <a:off x="990720" y="2438280"/>
            <a:ext cx="7237440" cy="345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438280"/>
                      <a:ext cx="7237440" cy="345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990720" y="2545200"/>
              <a:ext cx="7238880" cy="31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523880" y="1676520"/>
            <a:ext cx="64771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: Do you think oral contraceptives have side-effects?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a50021"/>
                </a:solidFill>
                <a:latin typeface="Century Gothic"/>
              </a:rPr>
              <a:t>85% believe oral contraceptives have side effects</a:t>
            </a:r>
            <a:endParaRPr b="1" lang="en-US" sz="36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69" name=""/>
          <p:cNvSpPr/>
          <p:nvPr/>
        </p:nvSpPr>
        <p:spPr>
          <a:xfrm>
            <a:off x="5938920" y="6172200"/>
            <a:ext cx="22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新細明體"/>
              </a:rPr>
              <a:t>Valid samples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5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9242-955C-4746-A389-C0F86D834A1D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</a:rPr>
              <a:t>Survey Overview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711680"/>
        </p:xfrm>
        <a:graphic>
          <a:graphicData uri="http://schemas.openxmlformats.org/drawingml/2006/table">
            <a:tbl>
              <a:tblPr/>
              <a:tblGrid>
                <a:gridCol w="2057400"/>
                <a:gridCol w="6172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Survey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To understand HK single women’s attitude towards sex and contraception so as to provide public health education that fits their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Date of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July 9 – August 9,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Method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 Unicode MS"/>
                        </a:rPr>
                        <a:t>Random Telephone Inter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Target respon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Single women aged between 18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Survey instit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Public Opinion Programme, The University of Hong K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Successful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Effective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89.5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 Unicode MS"/>
                        </a:rPr>
                        <a:t>(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 Unicode MS"/>
                        </a:rPr>
                        <a:t>based on qualified targets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Sampling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宋体"/>
                        </a:rPr>
                        <a:t>Less than 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453B-FA37-43FB-BE41-89750C9C4D1A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228600" y="2133720"/>
            <a:ext cx="8224560" cy="4091040"/>
            <a:chOff x="228600" y="2133720"/>
            <a:chExt cx="8224560" cy="4091040"/>
          </a:xfrm>
        </p:grpSpPr>
        <p:graphicFrame>
          <p:nvGraphicFramePr>
            <p:cNvPr id="471" name=""/>
            <p:cNvGraphicFramePr/>
            <p:nvPr/>
          </p:nvGraphicFramePr>
          <p:xfrm>
            <a:off x="231120" y="2133720"/>
            <a:ext cx="8222040" cy="409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1120" y="2133720"/>
                      <a:ext cx="8222040" cy="409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3" name=""/>
            <p:cNvSpPr/>
            <p:nvPr/>
          </p:nvSpPr>
          <p:spPr>
            <a:xfrm>
              <a:off x="228600" y="2452680"/>
              <a:ext cx="7754040" cy="36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914400" y="1600200"/>
            <a:ext cx="7772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0c0c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: Do you know any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benefits of taking oral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contraceptives other than contraception?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entury Gothic"/>
              </a:rPr>
              <a:t>58% </a:t>
            </a:r>
            <a:r>
              <a:rPr b="1" lang="en-US" sz="2800" spc="-1" strike="noStrike">
                <a:solidFill>
                  <a:srgbClr val="a50021"/>
                </a:solidFill>
                <a:latin typeface="Century Gothic"/>
              </a:rPr>
              <a:t>do not know any benefits of oral contraceptives other than contraception</a:t>
            </a:r>
            <a:endParaRPr b="1" lang="en-US" sz="28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624852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500</a:t>
            </a:r>
            <a:r>
              <a:rPr b="0" lang="zh-CN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（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Multiple answers allowed)</a:t>
            </a:r>
            <a:r>
              <a:rPr b="0" lang="zh-CN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96ED-F17A-4A78-8B11-E3B7F81A3092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  <a:ea typeface="新細明體"/>
              </a:rPr>
              <a:t>Conclusion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63A0-7B38-41A6-9886-77E5CF778980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  <a:ea typeface="新細明體"/>
              </a:rPr>
              <a:t>HK single women’s attitude towards sex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47% find it acceptable to start having sex at 18; 10% say 17 or younger; and 3%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ay one should wait after marriag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54% think a woman can have more than one sex partners in her life-tim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60% think a woman can have sex more than once a wee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4% accept a sexual relationship without love and 90% do no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73% consider sex satisfaction important to women</a:t>
            </a:r>
            <a:r>
              <a:rPr b="0" lang="fr-FR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7510-61CE-4F2E-85C6-52F0062640F9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  <a:ea typeface="新細明體"/>
              </a:rPr>
              <a:t>HK single women’s attitude towards contraception</a:t>
            </a:r>
            <a:r>
              <a:rPr b="1" lang="en-US" sz="4000" spc="-1" strike="noStrike">
                <a:solidFill>
                  <a:srgbClr val="a50021"/>
                </a:solidFill>
                <a:latin typeface="Century Gothic"/>
              </a:rPr>
              <a:t> (1)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The majority (57%) have used condom for contraception. 17% hav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ken oral contraceptives, which is lesser than the 25% of using external ejacul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70% think condom can be used for both contraception and STD prevention ; 17% perceiv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that condom is for contraception onl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46% regard condom as a more reliable contraception method while </a:t>
            </a:r>
            <a:r>
              <a:rPr b="0" lang="zh-CN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% consider oral contraceptive more reliable</a:t>
            </a: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48% agree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at oral contraceptive is a safe and reliable contraception mean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A0BB-3A62-40D1-A115-EAEFD8E5781A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  <a:ea typeface="新細明體"/>
              </a:rPr>
              <a:t>HK single women’s attitude towards contraception </a:t>
            </a:r>
            <a:r>
              <a:rPr b="1" lang="en-US" sz="4000" spc="-1" strike="noStrike">
                <a:solidFill>
                  <a:srgbClr val="a50021"/>
                </a:solidFill>
                <a:latin typeface="Century Gothic"/>
              </a:rPr>
              <a:t>(2)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Gothic"/>
              </a:rPr>
              <a:t>85% think oral contraceptives have side effec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Gothic"/>
              </a:rPr>
              <a:t>58%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know any benefits of oral contraceptives other than contracept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ult shows that HK single women are not conservative on sex, yet lack sound knowledge of contraception know-how. There is a need in promoting public education in this are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F411-7FFF-41E2-8247-04DAF47CC0CB}" type="slidenum">
              <a:t>24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Respondents’ Profile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77F1-E60B-429D-96D7-FC30F83D5442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</a:rPr>
              <a:t>Age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447920"/>
          <a:ext cx="8478720" cy="42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4787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181480" y="61722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宋体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9C8F-D6FA-4704-9320-1046AA0A961B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</a:rPr>
              <a:t>Education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676520"/>
          <a:ext cx="853452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3452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181480" y="61722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宋体"/>
              </a:rPr>
              <a:t>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C65B-BA1D-4925-B140-6796632D4879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</a:rPr>
              <a:t>Job status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61722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宋体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880" y="1600200"/>
          <a:ext cx="811548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1154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6FF8-A45B-456A-A239-577E8CBAF88E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entury Gothic"/>
              </a:rPr>
              <a:t>Monthly Personal Income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61722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宋体"/>
              </a:rPr>
              <a:t>4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1600200"/>
          <a:ext cx="830592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0592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5440-A15A-4BCD-A45A-A72AED09D1C5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  <a:ea typeface="新細明體"/>
              </a:rPr>
              <a:t>HK single women’s attitude towards sex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4A67-C557-404B-90CF-F533BBAFF4F4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70572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Valid samples</a:t>
            </a:r>
            <a:r>
              <a:rPr b="0" lang="zh-TW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50021"/>
                </a:solidFill>
                <a:latin typeface="Century Gothic"/>
              </a:rPr>
              <a:t>47% accept starting sex at 18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entury Gothic"/>
              </a:rPr>
              <a:t>10% accept starting sex at 17 or younger</a:t>
            </a:r>
            <a:br>
              <a:rPr sz="3200"/>
            </a:b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Only 3%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ay should wait after marriage</a:t>
            </a:r>
            <a:endParaRPr b="1" lang="en-US" sz="28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131920"/>
            <a:ext cx="855036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447920"/>
            <a:ext cx="76201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3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Q :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When should a young female start having se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90960" y="1857240"/>
            <a:ext cx="8536320" cy="4771800"/>
            <a:chOff x="390960" y="1857240"/>
            <a:chExt cx="8536320" cy="4771800"/>
          </a:xfrm>
        </p:grpSpPr>
        <p:grpSp>
          <p:nvGrpSpPr>
            <p:cNvPr id="74" name=""/>
            <p:cNvGrpSpPr/>
            <p:nvPr/>
          </p:nvGrpSpPr>
          <p:grpSpPr>
            <a:xfrm>
              <a:off x="1733400" y="1857240"/>
              <a:ext cx="7031160" cy="4414680"/>
              <a:chOff x="1733400" y="1857240"/>
              <a:chExt cx="7031160" cy="441468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4172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4480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4968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5312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4828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65172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5660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05968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764560" y="1857240"/>
                <a:ext cx="0" cy="44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733400" y="6049800"/>
                <a:ext cx="22248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33400" y="6059160"/>
                <a:ext cx="222480" cy="97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33400" y="6068880"/>
                <a:ext cx="222480" cy="936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33400" y="6078240"/>
                <a:ext cx="222480" cy="97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33400" y="6087960"/>
                <a:ext cx="222480" cy="936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33400" y="6097320"/>
                <a:ext cx="222480" cy="792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33400" y="6105240"/>
                <a:ext cx="222480" cy="97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33400" y="6114960"/>
                <a:ext cx="222480" cy="1908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33400" y="6134040"/>
                <a:ext cx="222480" cy="936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33400" y="6143400"/>
                <a:ext cx="22248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733400" y="6152760"/>
                <a:ext cx="222480" cy="79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33400" y="6160680"/>
                <a:ext cx="222480" cy="97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33400" y="6170400"/>
                <a:ext cx="222480" cy="936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33400" y="6179760"/>
                <a:ext cx="222480" cy="97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33400" y="6189480"/>
                <a:ext cx="22248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33400" y="6049800"/>
                <a:ext cx="222480" cy="149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33400" y="5754600"/>
                <a:ext cx="42552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33400" y="5763960"/>
                <a:ext cx="425520" cy="936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33400" y="5773320"/>
                <a:ext cx="425520" cy="828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33400" y="5781600"/>
                <a:ext cx="425520" cy="936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33400" y="5790960"/>
                <a:ext cx="425520" cy="936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33400" y="5800320"/>
                <a:ext cx="425520" cy="972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33400" y="5810040"/>
                <a:ext cx="425520" cy="936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733400" y="5819400"/>
                <a:ext cx="425520" cy="1764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33400" y="5837040"/>
                <a:ext cx="425520" cy="936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33400" y="5846400"/>
                <a:ext cx="425520" cy="972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33400" y="5856120"/>
                <a:ext cx="425520" cy="936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33400" y="5865480"/>
                <a:ext cx="425520" cy="97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33400" y="5875200"/>
                <a:ext cx="425520" cy="79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33400" y="5883120"/>
                <a:ext cx="425520" cy="936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33400" y="5892480"/>
                <a:ext cx="425520" cy="972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33400" y="5754600"/>
                <a:ext cx="425520" cy="1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33400" y="5466960"/>
                <a:ext cx="55800" cy="9720"/>
              </a:xfrm>
              <a:prstGeom prst="rect">
                <a:avLst/>
              </a:prstGeom>
              <a:solidFill>
                <a:srgbClr val="ff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33400" y="5476680"/>
                <a:ext cx="55800" cy="9360"/>
              </a:xfrm>
              <a:prstGeom prst="rect">
                <a:avLst/>
              </a:prstGeom>
              <a:solidFill>
                <a:srgbClr val="ff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33400" y="5486040"/>
                <a:ext cx="55800" cy="9720"/>
              </a:xfrm>
              <a:prstGeom prst="rect">
                <a:avLst/>
              </a:prstGeom>
              <a:solidFill>
                <a:srgbClr val="ff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33400" y="5495760"/>
                <a:ext cx="55800" cy="7920"/>
              </a:xfrm>
              <a:prstGeom prst="rect">
                <a:avLst/>
              </a:prstGeom>
              <a:solidFill>
                <a:srgbClr val="f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33400" y="5503680"/>
                <a:ext cx="55800" cy="9360"/>
              </a:xfrm>
              <a:prstGeom prst="rect">
                <a:avLst/>
              </a:prstGeom>
              <a:solidFill>
                <a:srgbClr val="ff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33400" y="5513040"/>
                <a:ext cx="55800" cy="9720"/>
              </a:xfrm>
              <a:prstGeom prst="rect">
                <a:avLst/>
              </a:prstGeom>
              <a:solidFill>
                <a:srgbClr val="f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33400" y="5522760"/>
                <a:ext cx="55800" cy="9360"/>
              </a:xfrm>
              <a:prstGeom prst="rect">
                <a:avLst/>
              </a:pr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33400" y="5532120"/>
                <a:ext cx="558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33400" y="5541840"/>
                <a:ext cx="55800" cy="9360"/>
              </a:xfrm>
              <a:prstGeom prst="rect">
                <a:avLst/>
              </a:pr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733400" y="5551200"/>
                <a:ext cx="55800" cy="7920"/>
              </a:xfrm>
              <a:prstGeom prst="rect">
                <a:avLst/>
              </a:prstGeom>
              <a:solidFill>
                <a:srgbClr val="f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33400" y="5559120"/>
                <a:ext cx="55800" cy="9720"/>
              </a:xfrm>
              <a:prstGeom prst="rect">
                <a:avLst/>
              </a:prstGeom>
              <a:solidFill>
                <a:srgbClr val="ff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33400" y="5568840"/>
                <a:ext cx="55800" cy="9360"/>
              </a:xfrm>
              <a:prstGeom prst="rect">
                <a:avLst/>
              </a:prstGeom>
              <a:solidFill>
                <a:srgbClr val="ff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33400" y="5578200"/>
                <a:ext cx="55800" cy="9720"/>
              </a:xfrm>
              <a:prstGeom prst="rect">
                <a:avLst/>
              </a:prstGeom>
              <a:solidFill>
                <a:srgbClr val="ff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733400" y="5587920"/>
                <a:ext cx="55800" cy="9360"/>
              </a:xfrm>
              <a:prstGeom prst="rect">
                <a:avLst/>
              </a:prstGeom>
              <a:solidFill>
                <a:srgbClr val="ff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33400" y="5597280"/>
                <a:ext cx="55800" cy="936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33400" y="5466960"/>
                <a:ext cx="55800" cy="139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33400" y="5170320"/>
                <a:ext cx="42552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33400" y="5179680"/>
                <a:ext cx="425520" cy="97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33400" y="5189400"/>
                <a:ext cx="425520" cy="936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33400" y="5198760"/>
                <a:ext cx="425520" cy="97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33400" y="5208480"/>
                <a:ext cx="425520" cy="936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33400" y="5217840"/>
                <a:ext cx="425520" cy="792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33400" y="5225760"/>
                <a:ext cx="425520" cy="97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33400" y="5235480"/>
                <a:ext cx="425520" cy="1908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33400" y="5254560"/>
                <a:ext cx="425520" cy="936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33400" y="5263920"/>
                <a:ext cx="42552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33400" y="5273280"/>
                <a:ext cx="425520" cy="79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33400" y="5281200"/>
                <a:ext cx="425520" cy="97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733400" y="5290920"/>
                <a:ext cx="425520" cy="936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33400" y="5300280"/>
                <a:ext cx="425520" cy="97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33400" y="5310000"/>
                <a:ext cx="42552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33400" y="5170320"/>
                <a:ext cx="425520" cy="149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33400" y="4875120"/>
                <a:ext cx="67644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733400" y="4884480"/>
                <a:ext cx="676440" cy="97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33400" y="4894200"/>
                <a:ext cx="676440" cy="79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33400" y="4902120"/>
                <a:ext cx="676440" cy="936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33400" y="4911480"/>
                <a:ext cx="676440" cy="936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33400" y="4920840"/>
                <a:ext cx="676440" cy="972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33400" y="4930560"/>
                <a:ext cx="676440" cy="936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733400" y="4939920"/>
                <a:ext cx="676440" cy="1764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33400" y="4957560"/>
                <a:ext cx="676440" cy="936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33400" y="4966920"/>
                <a:ext cx="676440" cy="972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733400" y="4976640"/>
                <a:ext cx="676440" cy="936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33400" y="4986000"/>
                <a:ext cx="676440" cy="97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33400" y="4995720"/>
                <a:ext cx="676440" cy="936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33400" y="5005080"/>
                <a:ext cx="676440" cy="79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33400" y="5013000"/>
                <a:ext cx="676440" cy="972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33400" y="4875120"/>
                <a:ext cx="676440" cy="1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33400" y="4578120"/>
                <a:ext cx="19368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33400" y="4587480"/>
                <a:ext cx="193680" cy="97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33400" y="4597200"/>
                <a:ext cx="193680" cy="936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33400" y="4606560"/>
                <a:ext cx="193680" cy="97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33400" y="4616280"/>
                <a:ext cx="193680" cy="79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33400" y="4624200"/>
                <a:ext cx="19368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33400" y="4633560"/>
                <a:ext cx="193680" cy="97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33400" y="4643280"/>
                <a:ext cx="193680" cy="1908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33400" y="4662360"/>
                <a:ext cx="193680" cy="936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33400" y="4671720"/>
                <a:ext cx="193680" cy="792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33400" y="4679640"/>
                <a:ext cx="193680" cy="97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33400" y="4689360"/>
                <a:ext cx="193680" cy="936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33400" y="4698720"/>
                <a:ext cx="193680" cy="97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33400" y="4708440"/>
                <a:ext cx="193680" cy="936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33400" y="4717800"/>
                <a:ext cx="19368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33400" y="4578120"/>
                <a:ext cx="193680" cy="149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33400" y="4282920"/>
                <a:ext cx="33336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33400" y="4292280"/>
                <a:ext cx="333360" cy="79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33400" y="4300200"/>
                <a:ext cx="333360" cy="97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33400" y="4309920"/>
                <a:ext cx="333360" cy="936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33400" y="4319280"/>
                <a:ext cx="333360" cy="97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33400" y="4329000"/>
                <a:ext cx="33336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33400" y="4338360"/>
                <a:ext cx="333360" cy="97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33400" y="4348080"/>
                <a:ext cx="333360" cy="1728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733400" y="4365360"/>
                <a:ext cx="333360" cy="97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33400" y="4375080"/>
                <a:ext cx="33336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33400" y="4384440"/>
                <a:ext cx="333360" cy="936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33400" y="4393800"/>
                <a:ext cx="333360" cy="79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33400" y="4401720"/>
                <a:ext cx="333360" cy="97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33400" y="4411440"/>
                <a:ext cx="333360" cy="936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33400" y="4420800"/>
                <a:ext cx="333360" cy="972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33400" y="4282920"/>
                <a:ext cx="333360" cy="1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33400" y="3995640"/>
                <a:ext cx="454320" cy="9360"/>
              </a:xfrm>
              <a:prstGeom prst="rect">
                <a:avLst/>
              </a:prstGeom>
              <a:solidFill>
                <a:srgbClr val="ff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33400" y="4005000"/>
                <a:ext cx="454320" cy="9720"/>
              </a:xfrm>
              <a:prstGeom prst="rect">
                <a:avLst/>
              </a:prstGeom>
              <a:solidFill>
                <a:srgbClr val="ff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33400" y="4014720"/>
                <a:ext cx="454320" cy="7920"/>
              </a:xfrm>
              <a:prstGeom prst="rect">
                <a:avLst/>
              </a:prstGeom>
              <a:solidFill>
                <a:srgbClr val="ff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33400" y="4022640"/>
                <a:ext cx="454320" cy="9360"/>
              </a:xfrm>
              <a:prstGeom prst="rect">
                <a:avLst/>
              </a:prstGeom>
              <a:solidFill>
                <a:srgbClr val="f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733400" y="4032000"/>
                <a:ext cx="454320" cy="9360"/>
              </a:xfrm>
              <a:prstGeom prst="rect">
                <a:avLst/>
              </a:prstGeom>
              <a:solidFill>
                <a:srgbClr val="ff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733400" y="4041360"/>
                <a:ext cx="454320" cy="9720"/>
              </a:xfrm>
              <a:prstGeom prst="rect">
                <a:avLst/>
              </a:prstGeom>
              <a:solidFill>
                <a:srgbClr val="f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33400" y="4051080"/>
                <a:ext cx="454320" cy="9360"/>
              </a:xfrm>
              <a:prstGeom prst="rect">
                <a:avLst/>
              </a:pr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33400" y="4060440"/>
                <a:ext cx="4543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33400" y="4070160"/>
                <a:ext cx="454320" cy="7920"/>
              </a:xfrm>
              <a:prstGeom prst="rect">
                <a:avLst/>
              </a:pr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33400" y="4078080"/>
                <a:ext cx="454320" cy="9360"/>
              </a:xfrm>
              <a:prstGeom prst="rect">
                <a:avLst/>
              </a:prstGeom>
              <a:solidFill>
                <a:srgbClr val="f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33400" y="4087440"/>
                <a:ext cx="454320" cy="9720"/>
              </a:xfrm>
              <a:prstGeom prst="rect">
                <a:avLst/>
              </a:prstGeom>
              <a:solidFill>
                <a:srgbClr val="ff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33400" y="4097160"/>
                <a:ext cx="454320" cy="9360"/>
              </a:xfrm>
              <a:prstGeom prst="rect">
                <a:avLst/>
              </a:prstGeom>
              <a:solidFill>
                <a:srgbClr val="ff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33400" y="4106520"/>
                <a:ext cx="454320" cy="9720"/>
              </a:xfrm>
              <a:prstGeom prst="rect">
                <a:avLst/>
              </a:prstGeom>
              <a:solidFill>
                <a:srgbClr val="ff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33400" y="4116240"/>
                <a:ext cx="454320" cy="9360"/>
              </a:xfrm>
              <a:prstGeom prst="rect">
                <a:avLst/>
              </a:prstGeom>
              <a:solidFill>
                <a:srgbClr val="ff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33400" y="4125600"/>
                <a:ext cx="454320" cy="79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33400" y="3995640"/>
                <a:ext cx="454320" cy="137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33400" y="3698640"/>
                <a:ext cx="75888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33400" y="3708000"/>
                <a:ext cx="758880" cy="97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33400" y="3717720"/>
                <a:ext cx="758880" cy="936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33400" y="3727080"/>
                <a:ext cx="758880" cy="97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33400" y="3736800"/>
                <a:ext cx="758880" cy="79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33400" y="3744720"/>
                <a:ext cx="75888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3400" y="3754080"/>
                <a:ext cx="758880" cy="97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33400" y="3763800"/>
                <a:ext cx="758880" cy="1908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33400" y="3782880"/>
                <a:ext cx="758880" cy="936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33400" y="3792240"/>
                <a:ext cx="758880" cy="792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33400" y="3800160"/>
                <a:ext cx="758880" cy="97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33400" y="3809880"/>
                <a:ext cx="758880" cy="936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33400" y="3819240"/>
                <a:ext cx="758880" cy="97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33400" y="3828960"/>
                <a:ext cx="758880" cy="936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3400" y="3838320"/>
                <a:ext cx="758880" cy="972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33400" y="3698640"/>
                <a:ext cx="758880" cy="149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33400" y="3403440"/>
                <a:ext cx="2362320" cy="936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33400" y="3412800"/>
                <a:ext cx="2362320" cy="79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33400" y="3420720"/>
                <a:ext cx="2362320" cy="97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33400" y="3430440"/>
                <a:ext cx="2362320" cy="936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33400" y="3439800"/>
                <a:ext cx="2362320" cy="97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33400" y="3449520"/>
                <a:ext cx="236232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33400" y="3458880"/>
                <a:ext cx="2362320" cy="97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33400" y="3468600"/>
                <a:ext cx="2362320" cy="1728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733400" y="3485880"/>
                <a:ext cx="2362320" cy="97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33400" y="3495600"/>
                <a:ext cx="236232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33400" y="3504960"/>
                <a:ext cx="2362320" cy="936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33400" y="3514320"/>
                <a:ext cx="2362320" cy="97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733400" y="3524040"/>
                <a:ext cx="2362320" cy="79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33400" y="3531960"/>
                <a:ext cx="2362320" cy="936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33400" y="3541320"/>
                <a:ext cx="2362320" cy="972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33400" y="3403440"/>
                <a:ext cx="2362320" cy="1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33400" y="3106440"/>
                <a:ext cx="193680" cy="972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33400" y="3116160"/>
                <a:ext cx="193680" cy="936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33400" y="3125520"/>
                <a:ext cx="193680" cy="97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33400" y="3135240"/>
                <a:ext cx="193680" cy="79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33400" y="3143160"/>
                <a:ext cx="193680" cy="936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33400" y="3152520"/>
                <a:ext cx="193680" cy="972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33400" y="3162240"/>
                <a:ext cx="193680" cy="936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33400" y="3171600"/>
                <a:ext cx="193680" cy="1908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33400" y="3190680"/>
                <a:ext cx="193680" cy="79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33400" y="3198600"/>
                <a:ext cx="19368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33400" y="3207960"/>
                <a:ext cx="193680" cy="97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33400" y="3217680"/>
                <a:ext cx="193680" cy="936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733400" y="3227040"/>
                <a:ext cx="193680" cy="97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33400" y="3236760"/>
                <a:ext cx="193680" cy="936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733400" y="3246120"/>
                <a:ext cx="193680" cy="792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33400" y="3106440"/>
                <a:ext cx="193680" cy="1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33400" y="2811240"/>
                <a:ext cx="6594480" cy="7920"/>
              </a:xfrm>
              <a:prstGeom prst="rect">
                <a:avLst/>
              </a:pr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33400" y="2819160"/>
                <a:ext cx="6594480" cy="936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33400" y="2828520"/>
                <a:ext cx="6594480" cy="972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33400" y="2838240"/>
                <a:ext cx="6594480" cy="936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733400" y="2847600"/>
                <a:ext cx="6594480" cy="97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733400" y="2857320"/>
                <a:ext cx="659448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733400" y="2866680"/>
                <a:ext cx="6594480" cy="79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33400" y="2874600"/>
                <a:ext cx="6594480" cy="1908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33400" y="2893680"/>
                <a:ext cx="6594480" cy="9720"/>
              </a:xfrm>
              <a:prstGeom prst="rect">
                <a:avLst/>
              </a:pr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33400" y="2903400"/>
                <a:ext cx="6594480" cy="9360"/>
              </a:xfrm>
              <a:prstGeom prst="rect">
                <a:avLst/>
              </a:pr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733400" y="2912760"/>
                <a:ext cx="6594480" cy="9720"/>
              </a:xfrm>
              <a:prstGeom prst="rect">
                <a:avLst/>
              </a:pr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33400" y="2922480"/>
                <a:ext cx="6594480" cy="7920"/>
              </a:xfrm>
              <a:prstGeom prst="rect">
                <a:avLst/>
              </a:pr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33400" y="2930400"/>
                <a:ext cx="6594480" cy="9360"/>
              </a:xfrm>
              <a:prstGeom prst="rect">
                <a:avLst/>
              </a:pr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33400" y="2939760"/>
                <a:ext cx="6594480" cy="9720"/>
              </a:xfrm>
              <a:prstGeom prst="rect">
                <a:avLst/>
              </a:pr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733400" y="2949480"/>
              <a:ext cx="6594480" cy="9360"/>
            </a:xfrm>
            <a:prstGeom prst="rect">
              <a:avLst/>
            </a:prstGeom>
            <a:solidFill>
              <a:srgbClr val="ff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33400" y="2811240"/>
              <a:ext cx="6594480" cy="1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33400" y="2523960"/>
              <a:ext cx="249480" cy="9360"/>
            </a:xfrm>
            <a:prstGeom prst="rect">
              <a:avLst/>
            </a:pr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33400" y="2533320"/>
              <a:ext cx="249480" cy="7920"/>
            </a:xfrm>
            <a:prstGeom prst="rect">
              <a:avLst/>
            </a:prstGeom>
            <a:solidFill>
              <a:srgbClr val="ff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33400" y="2541240"/>
              <a:ext cx="249480" cy="9720"/>
            </a:xfrm>
            <a:prstGeom prst="rect">
              <a:avLst/>
            </a:prstGeom>
            <a:solidFill>
              <a:srgbClr val="f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33400" y="2550960"/>
              <a:ext cx="249480" cy="9360"/>
            </a:xfrm>
            <a:prstGeom prst="rect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33400" y="2560320"/>
              <a:ext cx="249480" cy="9720"/>
            </a:xfrm>
            <a:prstGeom prst="rect">
              <a:avLst/>
            </a:prstGeom>
            <a:solidFill>
              <a:srgbClr val="ff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33400" y="2570040"/>
              <a:ext cx="249480" cy="9360"/>
            </a:xfrm>
            <a:prstGeom prst="rect">
              <a:avLst/>
            </a:prstGeom>
            <a:solidFill>
              <a:srgbClr val="f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3400" y="2579400"/>
              <a:ext cx="249480" cy="9720"/>
            </a:xfrm>
            <a:prstGeom prst="rect">
              <a:avLst/>
            </a:prstGeom>
            <a:solidFill>
              <a:srgbClr val="ff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33400" y="2589120"/>
              <a:ext cx="2494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33400" y="2597040"/>
              <a:ext cx="249480" cy="9360"/>
            </a:xfrm>
            <a:prstGeom prst="rect">
              <a:avLst/>
            </a:prstGeom>
            <a:solidFill>
              <a:srgbClr val="ff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33400" y="2606400"/>
              <a:ext cx="249480" cy="9720"/>
            </a:xfrm>
            <a:prstGeom prst="rect">
              <a:avLst/>
            </a:prstGeom>
            <a:solidFill>
              <a:srgbClr val="f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33400" y="2616120"/>
              <a:ext cx="249480" cy="9360"/>
            </a:xfrm>
            <a:prstGeom prst="rect">
              <a:avLst/>
            </a:prstGeom>
            <a:solidFill>
              <a:srgbClr val="ff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33400" y="2625480"/>
              <a:ext cx="249480" cy="9360"/>
            </a:xfrm>
            <a:prstGeom prst="rect">
              <a:avLst/>
            </a:pr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33400" y="2634840"/>
              <a:ext cx="249480" cy="9720"/>
            </a:xfrm>
            <a:prstGeom prst="rect">
              <a:avLst/>
            </a:prstGeom>
            <a:solidFill>
              <a:srgbClr val="f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33400" y="2644560"/>
              <a:ext cx="249480" cy="7920"/>
            </a:xfrm>
            <a:prstGeom prst="rect">
              <a:avLst/>
            </a:prstGeom>
            <a:solidFill>
              <a:srgbClr val="ff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33400" y="2652480"/>
              <a:ext cx="249480" cy="936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33400" y="2523960"/>
              <a:ext cx="249480" cy="13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33400" y="2226960"/>
              <a:ext cx="1036800" cy="9720"/>
            </a:xfrm>
            <a:prstGeom prst="rect">
              <a:avLst/>
            </a:prstGeom>
            <a:solidFill>
              <a:srgbClr val="ff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33400" y="2236680"/>
              <a:ext cx="1036800" cy="9360"/>
            </a:xfrm>
            <a:prstGeom prst="rect">
              <a:avLst/>
            </a:prstGeom>
            <a:solidFill>
              <a:srgbClr val="ff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33400" y="2246040"/>
              <a:ext cx="1036800" cy="9720"/>
            </a:xfrm>
            <a:prstGeom prst="rect">
              <a:avLst/>
            </a:prstGeom>
            <a:solidFill>
              <a:srgbClr val="ff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33400" y="2255760"/>
              <a:ext cx="1036800" cy="7920"/>
            </a:xfrm>
            <a:prstGeom prst="rect">
              <a:avLst/>
            </a:prstGeom>
            <a:solidFill>
              <a:srgbClr val="ff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3400" y="2263680"/>
              <a:ext cx="1036800" cy="9360"/>
            </a:xfrm>
            <a:prstGeom prst="rect">
              <a:avLst/>
            </a:prstGeom>
            <a:solidFill>
              <a:srgbClr val="ff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33400" y="2273040"/>
              <a:ext cx="1036800" cy="9720"/>
            </a:xfrm>
            <a:prstGeom prst="rect">
              <a:avLst/>
            </a:prstGeom>
            <a:solidFill>
              <a:srgbClr val="ff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33400" y="2282760"/>
              <a:ext cx="1036800" cy="9360"/>
            </a:xfrm>
            <a:prstGeom prst="rect">
              <a:avLst/>
            </a:prstGeom>
            <a:solidFill>
              <a:srgbClr val="ff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33400" y="2292120"/>
              <a:ext cx="1036800" cy="19080"/>
            </a:xfrm>
            <a:prstGeom prst="rect">
              <a:avLst/>
            </a:pr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3400" y="2311200"/>
              <a:ext cx="1036800" cy="7920"/>
            </a:xfrm>
            <a:prstGeom prst="rect">
              <a:avLst/>
            </a:prstGeom>
            <a:solidFill>
              <a:srgbClr val="ff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33400" y="2319120"/>
              <a:ext cx="1036800" cy="9360"/>
            </a:xfrm>
            <a:prstGeom prst="rect">
              <a:avLst/>
            </a:prstGeom>
            <a:solidFill>
              <a:srgbClr val="ff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3400" y="2328480"/>
              <a:ext cx="1036800" cy="9720"/>
            </a:xfrm>
            <a:prstGeom prst="rect">
              <a:avLst/>
            </a:prstGeom>
            <a:solidFill>
              <a:srgbClr val="ff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33400" y="2338200"/>
              <a:ext cx="1036800" cy="9360"/>
            </a:xfrm>
            <a:prstGeom prst="rect">
              <a:avLst/>
            </a:prstGeom>
            <a:solidFill>
              <a:srgbClr val="ff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33400" y="2347560"/>
              <a:ext cx="1036800" cy="9720"/>
            </a:xfrm>
            <a:prstGeom prst="rect">
              <a:avLst/>
            </a:prstGeom>
            <a:solidFill>
              <a:srgbClr val="ff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33400" y="2357280"/>
              <a:ext cx="1036800" cy="9360"/>
            </a:xfrm>
            <a:prstGeom prst="rect">
              <a:avLst/>
            </a:prstGeom>
            <a:solidFill>
              <a:srgbClr val="ff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33400" y="2366640"/>
              <a:ext cx="1036800" cy="7920"/>
            </a:xfrm>
            <a:prstGeom prst="rect">
              <a:avLst/>
            </a:prstGeom>
            <a:solidFill>
              <a:srgbClr val="ff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33400" y="2226960"/>
              <a:ext cx="1036800" cy="1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33400" y="1931760"/>
              <a:ext cx="82800" cy="7920"/>
            </a:xfrm>
            <a:prstGeom prst="rect">
              <a:avLst/>
            </a:prstGeom>
            <a:solidFill>
              <a:srgbClr val="ff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33400" y="1939680"/>
              <a:ext cx="82800" cy="9360"/>
            </a:xfrm>
            <a:prstGeom prst="rect">
              <a:avLst/>
            </a:prstGeom>
            <a:solidFill>
              <a:srgbClr val="ff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33400" y="1949040"/>
              <a:ext cx="82800" cy="9720"/>
            </a:xfrm>
            <a:prstGeom prst="rect">
              <a:avLst/>
            </a:prstGeom>
            <a:solidFill>
              <a:srgbClr val="ff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33400" y="1958760"/>
              <a:ext cx="82800" cy="9360"/>
            </a:xfrm>
            <a:prstGeom prst="rect">
              <a:avLst/>
            </a:prstGeom>
            <a:solidFill>
              <a:srgbClr val="ff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33400" y="1968120"/>
              <a:ext cx="82800" cy="9720"/>
            </a:xfrm>
            <a:prstGeom prst="rect">
              <a:avLst/>
            </a:prstGeom>
            <a:solidFill>
              <a:srgbClr val="ff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33400" y="1977840"/>
              <a:ext cx="82800" cy="9360"/>
            </a:xfrm>
            <a:prstGeom prst="rect">
              <a:avLst/>
            </a:prstGeom>
            <a:solidFill>
              <a:srgbClr val="ff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33400" y="1987200"/>
              <a:ext cx="82800" cy="7920"/>
            </a:xfrm>
            <a:prstGeom prst="rect">
              <a:avLst/>
            </a:prstGeom>
            <a:solidFill>
              <a:srgbClr val="ff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33400" y="1995120"/>
              <a:ext cx="82800" cy="19080"/>
            </a:xfrm>
            <a:prstGeom prst="rect">
              <a:avLst/>
            </a:pr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33400" y="2014200"/>
              <a:ext cx="82800" cy="9720"/>
            </a:xfrm>
            <a:prstGeom prst="rect">
              <a:avLst/>
            </a:prstGeom>
            <a:solidFill>
              <a:srgbClr val="ff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33400" y="2023920"/>
              <a:ext cx="82800" cy="9360"/>
            </a:xfrm>
            <a:prstGeom prst="rect">
              <a:avLst/>
            </a:prstGeom>
            <a:solidFill>
              <a:srgbClr val="ff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33400" y="2033280"/>
              <a:ext cx="82800" cy="9720"/>
            </a:xfrm>
            <a:prstGeom prst="rect">
              <a:avLst/>
            </a:prstGeom>
            <a:solidFill>
              <a:srgbClr val="ff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33400" y="2043000"/>
              <a:ext cx="82800" cy="7920"/>
            </a:xfrm>
            <a:prstGeom prst="rect">
              <a:avLst/>
            </a:prstGeom>
            <a:solidFill>
              <a:srgbClr val="ff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3400" y="2050920"/>
              <a:ext cx="82800" cy="9360"/>
            </a:xfrm>
            <a:prstGeom prst="rect">
              <a:avLst/>
            </a:prstGeom>
            <a:solidFill>
              <a:srgbClr val="ff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33400" y="2060280"/>
              <a:ext cx="82800" cy="9720"/>
            </a:xfrm>
            <a:prstGeom prst="rect">
              <a:avLst/>
            </a:prstGeom>
            <a:solidFill>
              <a:srgbClr val="ff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33400" y="2070000"/>
              <a:ext cx="82800" cy="9360"/>
            </a:xfrm>
            <a:prstGeom prst="rect">
              <a:avLst/>
            </a:prstGeom>
            <a:solidFill>
              <a:srgbClr val="ff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33400" y="1931760"/>
              <a:ext cx="82800" cy="1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33400" y="6271920"/>
              <a:ext cx="703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73340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43684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14172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480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54968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25312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94828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65172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35660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05968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8764560" y="62719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33400" y="1857240"/>
              <a:ext cx="0" cy="44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95600" y="627192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95600" y="597672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95600" y="567972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95600" y="539244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95600" y="509724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95600" y="480024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95600" y="450504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95600" y="420840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95600" y="392076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5600" y="362556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5600" y="332892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95600" y="303192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95600" y="273672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95600" y="244944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95600" y="215388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95600" y="1857240"/>
              <a:ext cx="3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06000" y="425412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2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26600" y="395892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31520" y="367164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32800" y="3374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1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66320" y="307944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66760" y="278280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4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22120" y="248580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2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09440" y="219996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55440" y="190332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58320" y="54766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&lt;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95120" y="600372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2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9680" y="568944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4240" y="520848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69640" y="455112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95160" y="486540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6760" y="6430680"/>
              <a:ext cx="23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0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19840" y="6430680"/>
              <a:ext cx="23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5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76120" y="643068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10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81000" y="643068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15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84080" y="643068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20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88960" y="643068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25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84120" y="643068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30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87560" y="643068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35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92440" y="643068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40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95520" y="643068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45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600400" y="643068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Gothic"/>
                </a:rPr>
                <a:t>50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880" y="6041880"/>
              <a:ext cx="111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Don't know/depen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1320" y="5744880"/>
              <a:ext cx="114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After getting marri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83240" y="544824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Don't c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9160" y="5162400"/>
              <a:ext cx="114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26 years old or abo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97200" y="486540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25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97200" y="456876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24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97200" y="427320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23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97200" y="397656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22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97200" y="368928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21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7200" y="339372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20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97200" y="309708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19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97200" y="280152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18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97200" y="250488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17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97200" y="221760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16 years o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0960" y="1922400"/>
              <a:ext cx="1273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Gothic"/>
                </a:rPr>
                <a:t>15 years old or young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文字方塊 8"/>
          <p:cNvSpPr/>
          <p:nvPr/>
        </p:nvSpPr>
        <p:spPr>
          <a:xfrm>
            <a:off x="6019920" y="4648320"/>
            <a:ext cx="2209680" cy="337320"/>
          </a:xfrm>
          <a:prstGeom prst="rect">
            <a:avLst/>
          </a:prstGeom>
          <a:solidFill>
            <a:srgbClr val="ffe1eb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an: 19.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ears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F12C-A4B6-4EE1-9A06-0C713CC62F64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7:02:50Z</dcterms:created>
  <dc:creator>HIT-G280-00</dc:creator>
  <dc:description/>
  <dc:language>en-US</dc:language>
  <cp:lastModifiedBy>HIT-G280-00</cp:lastModifiedBy>
  <dcterms:modified xsi:type="dcterms:W3CDTF">2007-09-04T09:41:00Z</dcterms:modified>
  <cp:revision>517</cp:revision>
  <dc:subject/>
  <dc:title>Slide 1</dc:title>
</cp:coreProperties>
</file>