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9B8-1F71-452D-AE63-D1E057EB0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EFC-E2C5-47D6-8F2B-E54311F087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E4A-77AD-488A-8788-AAF58455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B24-20C0-4114-ADF1-000C4F9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617-5D67-4622-A5A2-ECC3D587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F47-2D14-4953-87D7-F9F8E7EF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031D-D48B-4F05-A917-EF24D8AA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850-4D0C-4F56-A0BF-BDF54263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207-94A7-44AC-ABA7-400C878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061-C3AC-4863-9266-5AD47534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A3F7-201F-4EE3-AF34-45D58AB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F3C-8964-4BB5-82FB-863208B1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EBDE-8E25-4355-B0E6-3E75C764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547-E163-4AAF-B03C-0BB7C07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7492-21AA-487F-B5BB-CF86B17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8C9-A953-4ED5-82BE-D5F7C88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80E-9832-4CA1-ABA8-2909A7D9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0638-2872-4C77-B906-E1FC643D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9A2B-A09D-4A95-8392-6D946EBE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0A9D-303D-47A8-87EF-9C66A639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5578-6799-4CC5-8629-C75D8D84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8B8B-477E-4CEF-9617-8FAD267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2F19-1916-4079-A232-FCE644F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08BE-19DF-43A7-AE95-81D16D0A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BFE-4896-4FA5-8095-3724616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E00B-D074-4502-87FD-2BACC3C1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B8A1-570F-4F48-9ECA-49234E1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61C2-5FEB-4431-9E51-C9C7684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1569-7EEC-454B-A021-285A10C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42B8-BAC8-47AF-96DC-31B324F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B2B9-329B-4964-B280-97A92A3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5D70-C5F2-4BB8-A7D5-26B7E130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FE6E-7D04-49EA-8EC2-6C5D3DC0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1ED8-E160-4961-96A9-8796D2D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3C9F-25F6-4D0B-8E9F-416D716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A66-B4C1-4ACA-A215-F52532D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69E9-7BE2-4C11-8553-78A421A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6766-85C9-4CD2-AF58-6A061DE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841F-EBDC-47FA-8C3E-E313D1E4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D976-8064-4470-BD17-26E2DC4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6B65-79F0-4299-BD23-54BC72E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9866-B7F6-4AEE-A21D-53242A5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A94D-E165-4B75-A8A9-3907895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46F9-476F-4F03-88C0-EF1D2A83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F55B-F2F8-43EC-995D-D2ECF26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821-6716-4868-A408-CA2BB50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012-ED57-4E55-BF64-84F1EF5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0B-6837-49D8-B024-561687D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CFB-9A78-4D12-9DB2-EFC4CF0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31D-B5C2-4D6A-B856-4454649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BD1-9D34-4502-8B81-A4910947468A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FA6D-DED6-4BBE-BB5D-732315606513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DB7-2B96-4A25-8373-CBB125813C67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0357-0D57-4ED0-9AC9-5C90526C73D2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765-5BB7-492B-AD5D-89E6C209392B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B31-4B59-470C-A20D-B888FA3BC05C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2EF-0936-468C-8B91-694FD8EE54F3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772-092D-4F19-9C41-F5AA78492525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30280" y="2060640"/>
            <a:ext cx="6308640" cy="2455920"/>
          </a:xfrm>
          <a:prstGeom prst="rect">
            <a:avLst/>
          </a:prstGeom>
          <a:ln w="0">
            <a:noFill/>
          </a:ln>
        </p:spPr>
      </p:pic>
      <p:sp>
        <p:nvSpPr>
          <p:cNvPr id="184" name="Subtitle 2"/>
          <p:cNvSpPr/>
          <p:nvPr/>
        </p:nvSpPr>
        <p:spPr>
          <a:xfrm>
            <a:off x="1523880" y="358128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鍾庭耀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微軟正黑體"/>
              </a:rPr>
              <a:t>香港大學民意研究計劃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C0F-7686-40A0-91BE-47260FDA2E0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353880" y="2341440"/>
            <a:ext cx="6967800" cy="20052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3EBB-C801-4C12-B990-2C30383FFF01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0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或以上出現老花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徵狀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或其他視力退化者的</a:t>
            </a:r>
            <a:r>
              <a:rPr b="1" lang="zh-TW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視力問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457200" y="1676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雙眼有冇曾經出現過以下既視力問題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明確表示出現老花徵狀或其他視力退化問題的被訪者中，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超過三成受訪者在</a:t>
            </a:r>
            <a:r>
              <a:rPr b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5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前出現相關問題</a:t>
            </a:r>
            <a:br>
              <a:rPr sz="3600"/>
            </a:b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平均於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48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歲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出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380880" y="1676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幾多歲開始出現以上既情況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5868720" y="609588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明確表示出現老花徵狀或其他視力退化問題的被訪者</a:t>
            </a: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64E-9C5B-40A8-9304-6517134539D2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Right Brace 6"/>
          <p:cNvGrpSpPr/>
          <p:nvPr/>
        </p:nvGrpSpPr>
        <p:grpSpPr>
          <a:xfrm>
            <a:off x="6022800" y="2200320"/>
            <a:ext cx="470160" cy="1092240"/>
            <a:chOff x="6022800" y="2200320"/>
            <a:chExt cx="470160" cy="1092240"/>
          </a:xfrm>
        </p:grpSpPr>
        <p:pic>
          <p:nvPicPr>
            <p:cNvPr id="229" name="Right Brace 6" descr=""/>
            <p:cNvPicPr/>
            <p:nvPr/>
          </p:nvPicPr>
          <p:blipFill>
            <a:blip r:embed="rId2"/>
            <a:stretch/>
          </p:blipFill>
          <p:spPr>
            <a:xfrm>
              <a:off x="6022800" y="2200320"/>
              <a:ext cx="4701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095880" y="2293920"/>
              <a:ext cx="1080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7"/>
          <p:cNvSpPr/>
          <p:nvPr/>
        </p:nvSpPr>
        <p:spPr>
          <a:xfrm>
            <a:off x="6400800" y="2590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943600" y="4191120"/>
            <a:ext cx="2057400" cy="794520"/>
          </a:xfrm>
          <a:prstGeom prst="rect">
            <a:avLst/>
          </a:prstGeom>
          <a:solidFill>
            <a:srgbClr val="c0504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平均年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8.3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標準誤差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0.34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基數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353880" y="2341440"/>
            <a:ext cx="7351920" cy="200520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721-94C1-456A-9D45-D913BE4C5CBE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76%</a:t>
            </a:r>
            <a:r>
              <a:rPr b="1" lang="zh-TW" sz="37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因視力問題影響日常活動</a:t>
            </a:r>
            <a:endParaRPr b="0" lang="en-US" sz="37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6" name="Content Placeholder 5"/>
          <p:cNvGraphicFramePr/>
          <p:nvPr/>
        </p:nvGraphicFramePr>
        <p:xfrm>
          <a:off x="195120" y="1446120"/>
          <a:ext cx="780588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1446120"/>
                    <a:ext cx="780588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Box 3"/>
          <p:cNvSpPr/>
          <p:nvPr/>
        </p:nvSpPr>
        <p:spPr>
          <a:xfrm>
            <a:off x="457200" y="1295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的視力問題有冇影響你以下的日常活動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7655040" y="6172200"/>
            <a:ext cx="117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82E4-33F7-4ACE-815D-E23B10173252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ight Brace 9"/>
          <p:cNvGrpSpPr/>
          <p:nvPr/>
        </p:nvGrpSpPr>
        <p:grpSpPr>
          <a:xfrm>
            <a:off x="7547040" y="1895400"/>
            <a:ext cx="622080" cy="3378240"/>
            <a:chOff x="7547040" y="1895400"/>
            <a:chExt cx="622080" cy="3378240"/>
          </a:xfrm>
        </p:grpSpPr>
        <p:pic>
          <p:nvPicPr>
            <p:cNvPr id="242" name="Right Brace 9" descr=""/>
            <p:cNvPicPr/>
            <p:nvPr/>
          </p:nvPicPr>
          <p:blipFill>
            <a:blip r:embed="rId3"/>
            <a:stretch/>
          </p:blipFill>
          <p:spPr>
            <a:xfrm>
              <a:off x="7547040" y="1895400"/>
              <a:ext cx="62208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620120" y="1992240"/>
              <a:ext cx="161640" cy="31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0"/>
          <p:cNvSpPr/>
          <p:nvPr/>
        </p:nvSpPr>
        <p:spPr>
          <a:xfrm>
            <a:off x="8077320" y="304812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PMingLiU"/>
              </a:rPr>
              <a:t>76% </a:t>
            </a:r>
            <a:r>
              <a:rPr b="0" lang="zh-TW" sz="1400" spc="-1" strike="noStrike">
                <a:solidFill>
                  <a:srgbClr val="ff0000"/>
                </a:solidFill>
                <a:latin typeface="Arial"/>
                <a:ea typeface="PMingLiU"/>
              </a:rPr>
              <a:t>提及起碼其中一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多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出現老花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九成半受訪者不介意被人發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57200" y="1752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0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幾歲就有老花，你介唔介意俾人知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7450560" y="648828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常見老花小動作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Content Placeholder 5" descr=""/>
          <p:cNvPicPr/>
          <p:nvPr/>
        </p:nvPicPr>
        <p:blipFill>
          <a:blip r:embed="rId1"/>
          <a:stretch/>
        </p:blipFill>
        <p:spPr>
          <a:xfrm>
            <a:off x="3240" y="2144880"/>
            <a:ext cx="8097840" cy="37987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80880" y="1371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要除眼鏡、用放大鏡或者擺遠ｄ先可以做到以下事情，你認為會唔會容易俾人發現有老花呢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763164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8E6-536E-4DFA-948E-D42FDA3A06C4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585720" y="2462040"/>
            <a:ext cx="6357960" cy="10494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F5B-E81E-4BD0-8ED2-F0ACFAE69C7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22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不知如何處理老花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7" name="Content Placeholder 5" descr=""/>
          <p:cNvPicPr/>
          <p:nvPr/>
        </p:nvPicPr>
        <p:blipFill>
          <a:blip r:embed="rId1"/>
          <a:stretch/>
        </p:blipFill>
        <p:spPr>
          <a:xfrm>
            <a:off x="81000" y="1420920"/>
            <a:ext cx="8982000" cy="47768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457200" y="11430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知唔知道有乜野方法可以處理老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不讀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7450560" y="609588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FE2-A448-4846-BE7A-71809602E1B8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638680" y="518148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處理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輕微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花辦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63" name="Content Placeholder 5"/>
          <p:cNvGraphicFramePr/>
          <p:nvPr/>
        </p:nvGraphicFramePr>
        <p:xfrm>
          <a:off x="609480" y="2057400"/>
          <a:ext cx="7772400" cy="38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7724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發現自己有老花而度數唔太深，你會點做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763164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46B-0ED4-4E26-BDE9-554733856DDC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Right Brace 6"/>
          <p:cNvGrpSpPr/>
          <p:nvPr/>
        </p:nvGrpSpPr>
        <p:grpSpPr>
          <a:xfrm>
            <a:off x="5175360" y="2955960"/>
            <a:ext cx="792000" cy="1854000"/>
            <a:chOff x="5175360" y="2955960"/>
            <a:chExt cx="792000" cy="1854000"/>
          </a:xfrm>
        </p:grpSpPr>
        <p:pic>
          <p:nvPicPr>
            <p:cNvPr id="269" name="Right Brace 6" descr=""/>
            <p:cNvPicPr/>
            <p:nvPr/>
          </p:nvPicPr>
          <p:blipFill>
            <a:blip r:embed="rId3"/>
            <a:stretch/>
          </p:blipFill>
          <p:spPr>
            <a:xfrm>
              <a:off x="5175360" y="2955960"/>
              <a:ext cx="79200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938400">
              <a:off x="5486040" y="3041640"/>
              <a:ext cx="12384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7"/>
          <p:cNvSpPr/>
          <p:nvPr/>
        </p:nvSpPr>
        <p:spPr>
          <a:xfrm>
            <a:off x="5867280" y="3809880"/>
            <a:ext cx="1524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Arial"/>
                <a:ea typeface="PMingLiU"/>
              </a:rPr>
              <a:t>68%</a:t>
            </a:r>
            <a:r>
              <a:rPr b="1" lang="en-US" sz="2000" spc="-1" strike="noStrike">
                <a:solidFill>
                  <a:srgbClr val="376092"/>
                </a:solidFill>
                <a:latin typeface="Arial"/>
                <a:ea typeface="PMingLiU"/>
              </a:rPr>
              <a:t>提及起碼其中一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oup 169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156520" cy="5340240"/>
          </a:xfrm>
          <a:prstGeom prst="rect">
            <a:avLst/>
          </a:prstGeom>
          <a:ln w="0">
            <a:noFill/>
          </a:ln>
        </p:spPr>
      </p:pic>
      <p:sp>
        <p:nvSpPr>
          <p:cNvPr id="187" name="標題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調查概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C5C4-EBCE-449B-9A6E-2AD8AE55520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處理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嚴重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花辦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73" name="Content Placeholder 5"/>
          <p:cNvGraphicFramePr/>
          <p:nvPr/>
        </p:nvGraphicFramePr>
        <p:xfrm>
          <a:off x="542880" y="2104920"/>
          <a:ext cx="772812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2104920"/>
                    <a:ext cx="7728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發現自己有老花而度數幾深，你會點做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752688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A351-4F57-4270-A01B-EBBCDE7B2B75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Brace 6"/>
          <p:cNvGrpSpPr/>
          <p:nvPr/>
        </p:nvGrpSpPr>
        <p:grpSpPr>
          <a:xfrm>
            <a:off x="4486320" y="3035160"/>
            <a:ext cx="1023840" cy="1818000"/>
            <a:chOff x="4486320" y="3035160"/>
            <a:chExt cx="1023840" cy="1818000"/>
          </a:xfrm>
        </p:grpSpPr>
        <p:pic>
          <p:nvPicPr>
            <p:cNvPr id="279" name="Right Brace 6" descr=""/>
            <p:cNvPicPr/>
            <p:nvPr/>
          </p:nvPicPr>
          <p:blipFill>
            <a:blip r:embed="rId3"/>
            <a:stretch/>
          </p:blipFill>
          <p:spPr>
            <a:xfrm>
              <a:off x="4486320" y="3035160"/>
              <a:ext cx="1023840" cy="18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12204000">
              <a:off x="4909680" y="3088800"/>
              <a:ext cx="13356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7"/>
          <p:cNvSpPr/>
          <p:nvPr/>
        </p:nvSpPr>
        <p:spPr>
          <a:xfrm>
            <a:off x="5257800" y="396252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PMingLiU"/>
              </a:rPr>
              <a:t>46% 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PMingLiU"/>
              </a:rPr>
              <a:t>提及起碼其中一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出現輕微老花但沒有選擇戴老花鏡的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中，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7%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不戴老花鏡的原因是</a:t>
            </a:r>
            <a:r>
              <a:rPr b="1" lang="zh-TW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怕麻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3" name="Content Placeholder 5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8229600" cy="3741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457200" y="1600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你唔會戴老花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5181480" y="5934240"/>
            <a:ext cx="359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沒有選擇「去視光師或眼鏡舖驗佩老花鏡」或「自己買老花鏡」的受訪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955-2EA6-4F17-9CCE-87CAE125E295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32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覺得戴老花鏡會令樣貌變老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Content Placeholder 5" descr=""/>
          <p:cNvPicPr/>
          <p:nvPr/>
        </p:nvPicPr>
        <p:blipFill>
          <a:blip r:embed="rId1"/>
          <a:stretch/>
        </p:blipFill>
        <p:spPr>
          <a:xfrm>
            <a:off x="457200" y="203832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一般來講，你覺得戴左老花鏡會唔會睇上去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d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745056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0C11-1A2C-43EB-ACD2-682D056F183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認為戴老花鏡令樣貌變老的受訪者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平均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認為樣貌會變老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大約 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5 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咁睇上去俾真實年齡會老幾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5975640" y="6095880"/>
            <a:ext cx="13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「認為戴老花鏡令樣貌變老」的受訪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5956-F1A6-46E8-B6DE-F1FFCC42A361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400800" y="3276720"/>
            <a:ext cx="1905120" cy="79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平均數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.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標準誤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0.23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基數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841320" y="2322360"/>
            <a:ext cx="6632640" cy="157320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531-5FFE-4C1C-9489-4F3002F80806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55%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不知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道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市面上有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專為老花而設的漸進式隱形眼鏡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1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知唔知市面上有專為老花而設的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7E6F-8830-468E-9DD6-C6E420ACDD2C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80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不考慮使用漸進式隱形眼鏡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有老花，你會唔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考慮使用漸進式隱形眼鏡的受訪者中，</a:t>
            </a:r>
            <a:br>
              <a:rPr sz="2700"/>
            </a:br>
            <a:r>
              <a:rPr b="0" lang="en-US" sz="32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84%</a:t>
            </a:r>
            <a:r>
              <a:rPr b="0" lang="zh-TW" sz="3200" spc="-1" strike="noStrike">
                <a:solidFill>
                  <a:srgbClr val="ff0000"/>
                </a:solidFill>
                <a:latin typeface="Franklin Gothic Book"/>
                <a:ea typeface="微軟正黑體"/>
              </a:rPr>
              <a:t>覺得比較方便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0" name="Content Placeholder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3120" cy="40384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410080" y="6172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考慮使用漸進式隱形眼鏡的受訪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83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A1E-4586-4BA2-B386-ECF060AE541F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考慮使用漸進式隱形眼鏡的受訪者中，</a:t>
            </a:r>
            <a:br>
              <a:rPr sz="2700"/>
            </a:br>
            <a:r>
              <a:rPr b="0" lang="en-US" sz="28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54%</a:t>
            </a:r>
            <a:r>
              <a:rPr b="0" lang="zh-CN" sz="28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PMingLiU"/>
              </a:rPr>
              <a:t>不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會考慮使用漸進式隱形眼鏡是因為不習慣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不適合戴隱形眼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5" name="Content Placeholder 5" descr=""/>
          <p:cNvPicPr/>
          <p:nvPr/>
        </p:nvPicPr>
        <p:blipFill>
          <a:blip r:embed="rId1"/>
          <a:stretch/>
        </p:blipFill>
        <p:spPr>
          <a:xfrm>
            <a:off x="0" y="1905120"/>
            <a:ext cx="8915400" cy="4038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唔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410080" y="6172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不考慮使用漸進式隱形眼鏡的受訪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10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015-553D-4BF8-9680-6665D7E8E206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858960" y="2139840"/>
            <a:ext cx="5322600" cy="1030320"/>
          </a:xfrm>
          <a:prstGeom prst="rect">
            <a:avLst/>
          </a:prstGeom>
          <a:ln w="0">
            <a:noFill/>
          </a:ln>
        </p:spPr>
      </p:pic>
      <p:sp>
        <p:nvSpPr>
          <p:cNvPr id="32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D81-E3FB-4E2A-98E2-273C5A884009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性別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0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913040"/>
            <a:ext cx="7467480" cy="3898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7291440" y="61722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0A2-7AF2-4643-B42F-CA201255645D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年齡分佈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4" name="內容版面配置區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172360" cy="4341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3"/>
          <p:cNvSpPr/>
          <p:nvPr/>
        </p:nvSpPr>
        <p:spPr>
          <a:xfrm>
            <a:off x="7298280" y="62024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A25-6139-4623-AFAE-1522DCCE22A5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教育程度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8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913040"/>
            <a:ext cx="7467480" cy="3898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3"/>
          <p:cNvSpPr/>
          <p:nvPr/>
        </p:nvSpPr>
        <p:spPr>
          <a:xfrm>
            <a:off x="729828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D18D-8E4B-490D-A679-77AC342680A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職業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2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620120" cy="428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729828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EF5-349E-4538-AD13-0F008A943495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每月收入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6" name="內容版面配置區 3" descr=""/>
          <p:cNvPicPr/>
          <p:nvPr/>
        </p:nvPicPr>
        <p:blipFill>
          <a:blip r:embed="rId1"/>
          <a:stretch/>
        </p:blipFill>
        <p:spPr>
          <a:xfrm>
            <a:off x="285840" y="1712880"/>
            <a:ext cx="8400960" cy="474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7333200" y="648828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3F6-CA81-4D12-B928-7D8CF8C8F8F2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視力狀況</a:t>
            </a:r>
            <a:r>
              <a:rPr b="1" lang="zh-TW" sz="24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（不包括老花或視力退化徵狀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288480" y="59436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2 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4E4-B131-488B-86D1-91F9976FB86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配戴隱形眼鏡的習慣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7221960" y="59436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CF2-D788-4D71-9AE3-A3A925050B5F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內容版面配置區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4674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1:50:43Z</dcterms:created>
  <dc:creator>angus.mak</dc:creator>
  <dc:description/>
  <dc:language>en-US</dc:language>
  <cp:lastModifiedBy>joseph</cp:lastModifiedBy>
  <dcterms:modified xsi:type="dcterms:W3CDTF">2010-04-19T10:45:22Z</dcterms:modified>
  <cp:revision>253</cp:revision>
  <dc:subject/>
  <dc:title>港人老花情況調查</dc:title>
</cp:coreProperties>
</file>