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38F310-8CC8-4C17-A3F1-9B51A3B2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D4F288-C8A5-41CD-A25C-BCD79FEA46B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6DD0A4-23C2-4ED7-940B-A5867E96C5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45FAE1-ACA4-4977-8515-169A8688F1D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C273F1-FEEE-4517-BCD2-55C338857E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3C374D-EB39-45E6-B524-8700BFC7F0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91BD37-13E1-4F47-AC7A-1CCA6B0292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B7F6B-FA5B-42C9-BE6C-D0A33491D70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3A3A3F-069B-434F-8B3B-833E2A306A8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69529A-0133-49B8-83CB-42FD94396B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090ABD-7C01-48B5-A854-5B0C0926698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BB67D6-0C25-49AC-8281-D6F102A335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935446-F849-4EED-AF78-655D3DE362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BBB7CE-8265-4870-827E-DCDCBDBDBC3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52BB9E-0418-4798-A1C8-E8BE79D7F74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FD1C95-877C-4B30-9809-BFFDA0380B6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F402D7-11C6-480B-B146-3A9297F7611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35A3D1-DC12-40C9-8D50-312B98AB4A8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D492E8-A753-4CC5-B54B-AADE456075A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F6A522-4035-4531-838D-EBBB84B6505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40CEA1-F263-4BF0-9489-CFC8DAB9559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09F4F7-38C5-4F3F-8D6B-6221449E5E9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56AFB1-46D0-4169-B222-7089D7D0A64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E71831-7079-49D2-912C-8CBF723211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ECCC63-4C8D-4D21-9569-0E7DAA13A00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293E8C-3B86-4843-B141-565D724C51A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EEE47-0A6B-41FF-B50D-4EF26A2CDD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A840C1-B4C1-4172-9A96-B372315F444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87BFA0-092D-4D71-819C-4B3B08123C4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D137EE-259E-4F36-8EF2-CC81EA85C6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B0A090-4B13-48EF-8017-FB4A6754175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9C438B-8225-4A07-B386-22D4CA66ECD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61F-2124-4AAB-ACCD-CD9BC0BA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734-2DC5-404C-AB14-3277B4F7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0FE-5E18-492C-A1AB-8248590A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FF4-D630-4D8F-A288-08A6139D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4CD-C9B4-4BC4-BED6-18531FF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771-6713-4BF1-9D61-D7057B8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282-FFFA-41B2-ABB8-94968DC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47F-4773-4E7D-850A-3C11535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143-0306-492A-891E-DC81F84E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A7F-BCB7-4E2C-A404-63F82E47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D3E-20C1-43B6-8DD4-F1C58FB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B4A-9C4E-452D-A4DB-C967150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5B0-3F35-4A86-B284-04F8E77E4212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206-A0A6-42CA-9340-E2EB123FCD1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家長對子女學習及教育開支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長對子女學習及教育開支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8251-3443-400A-AF9A-B85B6B314B6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撇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完全沒有」的被訪者）咁佢參加課外活動／興趣班一年既費用大約係幾多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572080" y="364320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5,5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2,7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6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368-CD4A-4C92-AF5A-6ED00341D5A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包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「完全沒有」的被訪者的支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$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咁佢參加課外活動／興趣班一年既費用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5572080" y="3357720"/>
          <a:ext cx="3240000" cy="13762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4,0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7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,8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9EE1-865D-487F-BD5B-64570021F12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佢補習一年既費用又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286240" y="3000240"/>
          <a:ext cx="3240360" cy="137664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5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,2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9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E31-2851-4E81-AF44-074A3D5BA17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佢購買補充練習一年嘅費用又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286240" y="3000240"/>
          <a:ext cx="3240360" cy="137664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791-52FA-4BD9-9D0F-A92B8C1C7FB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一年又會花幾多錢係佢既開學物資上，如校服、書包、鞋、文具等等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357880" y="4071960"/>
          <a:ext cx="3240000" cy="13762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7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0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9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8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891-744F-4B17-8EFE-BE764C3B7F4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4280" y="1643040"/>
          <a:ext cx="7358400" cy="4429080"/>
        </p:xfrm>
        <a:graphic>
          <a:graphicData uri="http://schemas.openxmlformats.org/drawingml/2006/table">
            <a:tbl>
              <a:tblPr/>
              <a:tblGrid>
                <a:gridCol w="866880"/>
                <a:gridCol w="1511280"/>
                <a:gridCol w="966960"/>
                <a:gridCol w="742680"/>
                <a:gridCol w="887760"/>
                <a:gridCol w="866520"/>
                <a:gridCol w="773280"/>
                <a:gridCol w="743040"/>
              </a:tblGrid>
              <a:tr h="3920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項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整體樣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課外活動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興趣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4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6,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補習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8,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膳食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6,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4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交通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教科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學物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補充練習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2"/>
          <p:cNvSpPr/>
          <p:nvPr/>
        </p:nvSpPr>
        <p:spPr>
          <a:xfrm>
            <a:off x="1071720" y="747720"/>
            <a:ext cx="77673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綜合排名表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各項主要教育與學習相關項目的一年開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2812-79F7-406E-AE53-FBE8AAC8563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冇留意教科書大約會隔幾耐改版一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F5B-7E77-4E37-BA8D-7D60D66ABD5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Q12 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教育局現時規定教科書「至少三年不可改版」政策，你認為呢個政策既時限太長、太短定適中呢</a:t>
            </a:r>
            <a:r>
              <a:rPr b="1" lang="en-US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938-1F20-426C-A232-AC3C31BD8AC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知唔知道宜家教科書既書價已經包括咗上堂所用既教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6B1C-1794-4D35-94BB-E809F3628A0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既仔／女有冇試過用舊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舊書大約佔佢所有教科書既幾多成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5357880" y="2357280"/>
          <a:ext cx="3240000" cy="11019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1.1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58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65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07D-9BFF-406E-9089-FA797E3FCE3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7200" y="2286000"/>
            <a:ext cx="70725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探討家長用於其子女學習及教育上的各項開支，以及對購買教科書的意見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973-E3C9-4718-974D-957AAB9D49C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現時一般會係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向學生發放書簿津貼，以支付必須嘅書簿費及雜項等開支。有意見認為當局應提早係每年七、八月發放津貼，你傾向支持定係反對呢個意見？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圖表 4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2011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218-4603-4A95-89D6-E71623ED23E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1000080"/>
            <a:ext cx="746748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071720" y="3034440"/>
            <a:ext cx="76244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在家長的印象中，「教科書」是最昂貴的開支，然後是「補習」、「課外活動／興趣班」、「膳食費」和「交通費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在逐項測試後中，家長實際用於子女「課外活動／興趣班」及「補習」上的費用則遠比其他項目為高，兩者每年的平均費用都接近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10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，然後是「膳食費」和「交通費」，「教科書」排名第五，每年花費約為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3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。顯示被訪家長的印象與實際情況有明顯落差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分拆樣本發現，小學生家長的實際開支以「課外活動／興趣班」最大，平均費用每年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14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；其後依次為「補習費」、「膳食費」、「交通費」、「教科書」、「開學物資」和「補充練習費」。中學生家長的實際開支則以「補習費」最多全年支出平均為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9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以上，其後依次為「課外活動／興趣班」、「膳食費」、「教科書」、「交通費」、「開學物資」及「補充練習費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逾半家長「有留意」教科書改版的頻率。對於教育局規定教科書「三年不可以改版」的政策，六成認為「適中」。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A9A-9EB6-4A25-B160-4BCB4618AE7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家長個人資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A3FD-F667-4881-8704-3B5F6E3C95C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99760" y="857160"/>
            <a:ext cx="2428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性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圖表 4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2152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6E7-580B-4308-ADD7-9A1F72FCFF1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年齡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C6C-8958-4757-8F9A-8691FC31136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a56"/>
                </a:solidFill>
                <a:latin typeface="標楷體"/>
                <a:ea typeface="標楷體"/>
              </a:rPr>
              <a:t>請問你有幾多個仔女係讀緊中小學</a:t>
            </a:r>
            <a:r>
              <a:rPr b="1" lang="en-US" sz="2400" spc="-1" strike="noStrike">
                <a:solidFill>
                  <a:srgbClr val="002a56"/>
                </a:solidFill>
                <a:latin typeface="標楷體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圖表 4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6691320" cy="4746600"/>
          </a:xfrm>
          <a:prstGeom prst="rect">
            <a:avLst/>
          </a:prstGeom>
          <a:ln w="0">
            <a:noFill/>
          </a:ln>
        </p:spPr>
      </p:pic>
      <p:sp>
        <p:nvSpPr>
          <p:cNvPr id="147" name="文字方塊 5"/>
          <p:cNvSpPr/>
          <p:nvPr/>
        </p:nvSpPr>
        <p:spPr>
          <a:xfrm>
            <a:off x="6643800" y="5643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A9C-DBAC-4E0E-98E4-C4FBFDB0A17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圖表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691320" cy="4746600"/>
          </a:xfrm>
          <a:prstGeom prst="rect">
            <a:avLst/>
          </a:prstGeom>
          <a:ln w="0">
            <a:noFill/>
          </a:ln>
        </p:spPr>
      </p:pic>
      <p:sp>
        <p:nvSpPr>
          <p:cNvPr id="150" name="文字方塊 5"/>
          <p:cNvSpPr/>
          <p:nvPr/>
        </p:nvSpPr>
        <p:spPr>
          <a:xfrm>
            <a:off x="6643800" y="5643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143000" y="857160"/>
            <a:ext cx="7500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被訪者中籤子女就讀中小學分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DD88-A5F2-4E2C-8111-E06C9A4710C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中籤子女就讀年級分佈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28E-1154-4CDB-9867-F4CB73FDA58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a56"/>
                </a:solidFill>
                <a:latin typeface="Times New Roman"/>
                <a:ea typeface="標楷體"/>
              </a:rPr>
              <a:t>（只問有中學子女中籤者）你呢位仔／女就讀既學校係屬於：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圖表 4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714384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文字方塊 5"/>
          <p:cNvSpPr/>
          <p:nvPr/>
        </p:nvSpPr>
        <p:spPr>
          <a:xfrm>
            <a:off x="7000920" y="6143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9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B652-252A-4828-B707-DA2FD4D0527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你呢位仔／女現正就讀邊種類別既學校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58D3-8A25-44BB-933A-CE979D21011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育有至少一名就讀本地小學或中學的子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家長（只限操粵語人士）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由訪問員直接進行電話訪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  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4.0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6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亦即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各個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比的抽樣誤差為少於正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C52-BF5C-4DA9-8EA8-9EA32A837B3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每月家庭收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A18-FBFC-4D3A-AB74-CC3712B6924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EE4D-4B65-4D1F-8306-1717F9814A7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230F-8AF8-4175-83A0-B049CE08D37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學習或者同返學有關既開支上，以全年總支出計，你既仔／女現時花費最大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項目係乜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最多可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2F6-DDEA-4B6C-9E0C-317D409601D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一年大約會花幾多錢幫你既仔／女買教科書？教科書既費用係不包括書單以外既參考書及其他補充練習既費用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0" name="圖表 4" descr=""/>
          <p:cNvPicPr/>
          <p:nvPr/>
        </p:nvPicPr>
        <p:blipFill>
          <a:blip r:embed="rId1"/>
          <a:stretch/>
        </p:blipFill>
        <p:spPr>
          <a:xfrm>
            <a:off x="785880" y="1400040"/>
            <a:ext cx="8115120" cy="52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5000760" y="3857760"/>
          <a:ext cx="3635280" cy="137160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9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B93-A4C4-42E9-8AB6-9E76753CD80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個仔／女既交通費一年大概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4" name="圖表 5" descr=""/>
          <p:cNvPicPr/>
          <p:nvPr/>
        </p:nvPicPr>
        <p:blipFill>
          <a:blip r:embed="rId1"/>
          <a:stretch/>
        </p:blipFill>
        <p:spPr>
          <a:xfrm>
            <a:off x="709560" y="1398600"/>
            <a:ext cx="8077320" cy="51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5500800" y="300024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2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7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9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FB7-2504-4632-A963-149151C799B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膳食費一年大概又係幾多呢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" name="圖表 5" descr=""/>
          <p:cNvPicPr/>
          <p:nvPr/>
        </p:nvPicPr>
        <p:blipFill>
          <a:blip r:embed="rId1"/>
          <a:stretch/>
        </p:blipFill>
        <p:spPr>
          <a:xfrm>
            <a:off x="5716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5643720" y="4071960"/>
          <a:ext cx="3240000" cy="1380960"/>
        </p:xfrm>
        <a:graphic>
          <a:graphicData uri="http://schemas.openxmlformats.org/drawingml/2006/table">
            <a:tbl>
              <a:tblPr/>
              <a:tblGrid>
                <a:gridCol w="809640"/>
                <a:gridCol w="80928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2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1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9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229-72B1-4EF3-877A-FE3F9BFFD53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既子／女現時參加咗幾多個課外活動／興趣班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圖表 5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072280" cy="517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572080" y="328608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9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.7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2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7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6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.0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0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0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joseph</cp:lastModifiedBy>
  <cp:lastPrinted>2001-04-04T10:00:24Z</cp:lastPrinted>
  <dcterms:modified xsi:type="dcterms:W3CDTF">2010-04-21T04:10:12Z</dcterms:modified>
  <cp:revision>1762</cp:revision>
  <dc:subject/>
  <dc:title>無投影片標題</dc:title>
</cp:coreProperties>
</file>