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81880" y="6616800"/>
            <a:ext cx="7556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86924-1366-4F2C-B8F9-7905E48CE071}" type="slidenum">
              <a:rPr b="0" lang="en-GB" sz="900" spc="-1" strike="noStrike">
                <a:solidFill>
                  <a:srgbClr val="848589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新細明體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pic>
        <p:nvPicPr>
          <p:cNvPr id="3" name="" descr=""/>
          <p:cNvPicPr/>
          <p:nvPr/>
        </p:nvPicPr>
        <p:blipFill>
          <a:blip r:embed="rId9"/>
          <a:stretch/>
        </p:blipFill>
        <p:spPr>
          <a:xfrm>
            <a:off x="3619440" y="3019320"/>
            <a:ext cx="1905120" cy="81936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ascif.org/images/october-november-december03/Chronic_pain2.jpg&amp;imgrefurl=http://www.aascif.org/public/archive/october-november-december03/3.2.6_october-november-decemberr03.htm&amp;h=347&amp;w=279&amp;sz=15&amp;hl=en&amp;start=325&amp;tbnid=WbMHvV_nulq4sM:&amp;tbnh=120&amp;tbnw=96&amp;prev=/images%3Fq%3Dchronic%2Bpain%26start%3D315%26ndsp%3D21%26svnum%3D10%26hl%3Den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members.aol.com/wayneheim/floww.jpg&amp;imgrefurl=http://members.aol.com/wayneheim/3d.htm&amp;h=500&amp;w=399&amp;sz=103&amp;hl=en&amp;start=78&amp;tbnid=aA6YmUEBpUoX3M:&amp;tbnh=130&amp;tbnw=104&amp;prev=/images%3Fq%3Dblood%2Bvessel%26start%3D63%26ndsp%3D21%26svnum%3D10%26hl%3Den%26sa%3DN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images.google.com/imgres?imgurl=http://www.humana.com/drsam/images/exercise.jpg&amp;imgrefurl=http://www.humana.com/drsam/articles/health_centers/exercise/index.asp&amp;h=200&amp;w=200&amp;sz=7&amp;hl=en&amp;start=104&amp;tbnid=OAr8VmdkQj_iBM:&amp;tbnh=104&amp;tbnw=104&amp;prev=/images%3Fq%3Dexercise%26start%3D84%26ndsp%3D21%26svnum%3D10%26hl%3Den%26sa%3DN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images.google.com/imgres?imgurl=http://www.wpclipart.com/food/meals/oatmeal.png&amp;imgrefurl=http://www.wpclipart.com/food/meals/index.html&amp;h=341&amp;w=513&amp;sz=80&amp;hl=en&amp;start=25&amp;tbnid=u10MWyuKR5DYHM:&amp;tbnh=87&amp;tbnw=131&amp;prev=/images%3Fq%3Doatmeal%26start%3D21%26ndsp%3D21%26svnum%3D10%26hl%3Den%26sa%3DN" TargetMode="External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images.google.com/imgres?imgurl=http://www.taichi-yukon.ca/tai%2520chi%2520images/tai%2520chi%2520slices%2520Nov05/pam.jpg&amp;imgrefurl=http://www.taichi-yukon.ca/&amp;h=350&amp;w=250&amp;sz=80&amp;hl=en&amp;start=70&amp;tbnid=CWDgmn5i8NpkQM:&amp;tbnh=120&amp;tbnw=86&amp;prev=/images%3Fq%3DTaichi%26start%3D63%26ndsp%3D21%26svnum%3D10%26hl%3Den%26sa%3D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hyperlink" Target="http://images.google.com/imgres?imgurl=http://www.franklincollege.edu/pwp/jneill/circulation.gif&amp;imgrefurl=http://www.franklincollege.edu/pwp/jneill/WebQuest_Generic/lesson-template1.htm&amp;h=361&amp;w=383&amp;sz=38&amp;hl=en&amp;start=19&amp;tbnid=3XDGwwyLWBBMKM:&amp;tbnh=116&amp;tbnw=123&amp;prev=/images%3Fq%3Dblood%2Bcirculation%26svnum%3D10%26hl%3Den" TargetMode="External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inema4duser.com/images/gallery/glry10_03.jpg&amp;imgrefurl=http://www.cinema4duser.com/glry10_03.html&amp;h=690&amp;w=690&amp;sz=65&amp;hl=en&amp;start=231&amp;tbnid=jnC9mAJszTv_vM:&amp;tbnh=139&amp;tbnw=139&amp;prev=/images%3Fq%3Dblood%2Bvessel%26start%3D210%26ndsp%3D21%26svnum%3D10%26hl%3Den%26sa%3D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hyperlink" Target="http://images.google.com/imgres?imgurl=http://www.isisboston.com/images/Blood%2520cells.jpg&amp;imgrefurl=http://www.isisboston.com/Treatmentroom/heart.htm&amp;h=280&amp;w=219&amp;sz=22&amp;hl=en&amp;start=47&amp;tbnid=c6H7Gtlx-YyrRM:&amp;tbnh=114&amp;tbnw=89&amp;prev=/images%3Fq%3Dblood%2Bcirculation%26start%3D42%26ndsp%3D21%26svnum%3D10%26hl%3Den%26sa%3DN" TargetMode="External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images.google.com/imgres?imgurl=http://pictures.directnews.co.uk/liveimages/Stress_669_17460090_0_0_5244_300.jpg&amp;imgrefurl=http://www.bounty.com/News.aspx%3Fid%3D790&amp;h=300&amp;w=202&amp;sz=17&amp;hl=en&amp;start=42&amp;tbnid=feaeWWxB1vhaBM:&amp;tbnh=116&amp;tbnw=78&amp;prev=/images%3Fq%3Ddepressed%26start%3D21%26ndsp%3D21%26svnum%3D10%26hl%3Den%26sa%3DN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2744640" cy="342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219320" y="42667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細明體"/>
              </a:rPr>
              <a:t>講者：麥燕琼醫師</a:t>
            </a: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細明體"/>
              </a:rPr>
              <a:t>國際中醫中藥總會會長</a:t>
            </a: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2422080" y="1905120"/>
            <a:ext cx="4433040" cy="70344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0003b"/>
                </a:solidFill>
                <a:latin typeface="新細明體"/>
                <a:ea typeface="新細明體"/>
              </a:rPr>
              <a:t>【</a:t>
            </a:r>
            <a:r>
              <a:rPr b="1" lang="zh-CN" sz="4000" spc="-1" strike="noStrike">
                <a:solidFill>
                  <a:srgbClr val="b0003b"/>
                </a:solidFill>
                <a:latin typeface="Arial"/>
                <a:ea typeface="新細明體"/>
              </a:rPr>
              <a:t>頑固痛症和</a:t>
            </a:r>
            <a:r>
              <a:rPr b="1" lang="zh-TW" sz="4000" spc="-1" strike="noStrike">
                <a:solidFill>
                  <a:srgbClr val="b0003b"/>
                </a:solidFill>
                <a:latin typeface="Arial"/>
                <a:ea typeface="新細明體"/>
              </a:rPr>
              <a:t>氣</a:t>
            </a:r>
            <a:r>
              <a:rPr b="1" lang="zh-CN" sz="4000" spc="-1" strike="noStrike">
                <a:solidFill>
                  <a:srgbClr val="b0003b"/>
                </a:solidFill>
                <a:latin typeface="Arial"/>
                <a:ea typeface="新細明體"/>
              </a:rPr>
              <a:t>滯</a:t>
            </a:r>
            <a:r>
              <a:rPr b="1" lang="zh-TW" sz="4000" spc="-1" strike="noStrike">
                <a:solidFill>
                  <a:srgbClr val="b0003b"/>
                </a:solidFill>
                <a:latin typeface="Arial"/>
                <a:ea typeface="新細明體"/>
              </a:rPr>
              <a:t>血瘀</a:t>
            </a:r>
            <a:r>
              <a:rPr b="1" lang="zh-CN" sz="4000" spc="-1" strike="noStrike">
                <a:solidFill>
                  <a:srgbClr val="b0003b"/>
                </a:solidFill>
                <a:latin typeface="Arial"/>
                <a:ea typeface="新細明體"/>
              </a:rPr>
              <a:t>的關係</a:t>
            </a:r>
            <a:r>
              <a:rPr b="1" lang="en-US" sz="4000" spc="-1" strike="noStrike">
                <a:solidFill>
                  <a:srgbClr val="b0003b"/>
                </a:solidFill>
                <a:latin typeface="新細明體"/>
                <a:ea typeface="新細明體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新細明體"/>
              </a:rPr>
              <a:t>要解</a:t>
            </a:r>
            <a:r>
              <a:rPr b="1" lang="zh-TW" sz="3600" spc="-1" strike="noStrike">
                <a:solidFill>
                  <a:srgbClr val="cc0000"/>
                </a:solidFill>
                <a:latin typeface="新細明體"/>
              </a:rPr>
              <a:t>決「頑固痛症」</a:t>
            </a:r>
            <a:br>
              <a:rPr sz="3600"/>
            </a:br>
            <a:r>
              <a:rPr b="1" lang="zh-TW" sz="3600" spc="-1" strike="noStrike">
                <a:solidFill>
                  <a:srgbClr val="cc0000"/>
                </a:solidFill>
                <a:latin typeface="新細明體"/>
              </a:rPr>
              <a:t>首要解決「</a:t>
            </a:r>
            <a:r>
              <a:rPr b="1" lang="zh-CN" sz="3600" spc="-1" strike="noStrike">
                <a:solidFill>
                  <a:srgbClr val="cc0000"/>
                </a:solidFill>
                <a:latin typeface="新細明體"/>
              </a:rPr>
              <a:t>血</a:t>
            </a:r>
            <a:r>
              <a:rPr b="1" lang="zh-TW" sz="3600" spc="-1" strike="noStrike">
                <a:solidFill>
                  <a:srgbClr val="cc0000"/>
                </a:solidFill>
                <a:latin typeface="新細明體"/>
              </a:rPr>
              <a:t>瘀」</a:t>
            </a:r>
            <a:endParaRPr b="1" lang="en-US" sz="36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必須要用「利氣活血」的手段，令氣血運行暢通，才能消除「頑固痛症」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pic>
        <p:nvPicPr>
          <p:cNvPr id="7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81280" y="3352680"/>
            <a:ext cx="152424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「頑固痛症」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的中藥治療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76520"/>
          <a:ext cx="8229600" cy="4371840"/>
        </p:xfrm>
        <a:graphic>
          <a:graphicData uri="http://schemas.openxmlformats.org/drawingml/2006/table">
            <a:tbl>
              <a:tblPr/>
              <a:tblGrid>
                <a:gridCol w="2541600"/>
                <a:gridCol w="3173400"/>
                <a:gridCol w="2514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新細明體"/>
                          <a:ea typeface="新細明體"/>
                        </a:rPr>
                        <a:t>主要成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00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新細明體"/>
                          <a:ea typeface="新細明體"/>
                        </a:rPr>
                        <a:t>藥理學研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00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新細明體"/>
                          <a:ea typeface="新細明體"/>
                        </a:rPr>
                        <a:t>中醫功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003b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黃耆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Radix Astrag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改善血液循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消除發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補氣升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利水退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當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Radix Angelica Sinen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改善血液循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防止血液凝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行氣活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止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赤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Radix Paeoniae Rub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透過擴張血管而改善血液循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抑制發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清熱凉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散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瘀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止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桃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Semen Persic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抑制發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活血化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潤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滑腸臟、排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紅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Flos Cartha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消除發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抗氧化及消除自由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活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消腫止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「頑固痛症」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的保健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經常運動、加速氣血運行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注意飲食、避免高脂、高鹽、多糖的不良都市飲食習慣。避免進食辛辣食物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充足睡眠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pic>
        <p:nvPicPr>
          <p:cNvPr id="7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24480" y="42670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495680" y="4648320"/>
            <a:ext cx="1629000" cy="1081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7924680" y="4267080"/>
            <a:ext cx="12193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TW" sz="15000" spc="-1" strike="noStrike">
                <a:solidFill>
                  <a:srgbClr val="cc0000"/>
                </a:solidFill>
                <a:latin typeface="新細明體"/>
              </a:rPr>
              <a:t>謝謝</a:t>
            </a:r>
            <a:r>
              <a:rPr b="1" lang="en-US" sz="15000" spc="-1" strike="noStrike">
                <a:solidFill>
                  <a:srgbClr val="cc0000"/>
                </a:solidFill>
                <a:latin typeface="新細明體"/>
              </a:rPr>
              <a:t>!</a:t>
            </a:r>
            <a:endParaRPr b="1" lang="en-US" sz="15000" spc="-1" strike="noStrike">
              <a:solidFill>
                <a:srgbClr val="cc0000"/>
              </a:solidFill>
              <a:latin typeface="新細明體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什麽是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「氣」？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是維持生命活動的主要物質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是能量的表現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來源：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3505320"/>
            <a:ext cx="39625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5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來自父母的精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4191120"/>
            <a:ext cx="39625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5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經肺部呼吸的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4876920"/>
            <a:ext cx="40388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5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經飲食攝取的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3124080"/>
            <a:ext cx="201924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什麽是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「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血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」？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流動於脈管的紅色液體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生命不可缺少的物質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功能 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滋潤百體 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新細明體"/>
              </a:rPr>
              <a:t>內達五臟六腑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新細明體"/>
              </a:rPr>
              <a:t>外至皮膚筋骨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來源：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水穀之精微，經脾胃消化、吸收，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再上輸心肺而成。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</p:txBody>
      </p:sp>
      <p:pic>
        <p:nvPicPr>
          <p:cNvPr id="52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638680" y="3809880"/>
            <a:ext cx="2514600" cy="23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「氣」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和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「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血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」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的關係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9051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00400" y="2590920"/>
            <a:ext cx="5943600" cy="340740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新細明體"/>
              </a:rPr>
              <a:t>「氣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細明體"/>
              </a:rPr>
              <a:t>爲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新細明體"/>
              </a:rPr>
              <a:t>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細明體"/>
              </a:rPr>
              <a:t>血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新細明體"/>
              </a:rPr>
              <a:t>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細明體"/>
              </a:rPr>
              <a:t>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新細明體"/>
              </a:rPr>
              <a:t>「血」為「氣」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新細明體"/>
              </a:rPr>
              <a:t>「氣」為「血」之動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00"/>
                </a:solidFill>
                <a:latin typeface="Arial"/>
                <a:ea typeface="新細明體"/>
              </a:rPr>
              <a:t>「氣行則血行、氣待則血凝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1" lang="zh-TW" sz="3400" spc="-1" strike="noStrike">
                <a:solidFill>
                  <a:srgbClr val="000000"/>
                </a:solidFill>
                <a:latin typeface="Arial"/>
                <a:ea typeface="新細明體"/>
              </a:rPr>
              <a:t>氣虛則血脫、氣迫則血走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1" lang="zh-TW" sz="3400" spc="-1" strike="noStrike">
                <a:solidFill>
                  <a:srgbClr val="000000"/>
                </a:solidFill>
                <a:latin typeface="Arial"/>
                <a:ea typeface="新細明體"/>
              </a:rPr>
              <a:t>血瘀氣亦滯。」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什麽是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「氣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滯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」？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&lt;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靈樞．百病始生篇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&gt;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說：若內傷于懮怒則氣上逆，氣上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逆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則六輸不通，溫氣不行，凝血蘊裡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而不散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表明懮思惱怒可令氣行不暢而導致氣滯血瘀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什麽是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「血瘀」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？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新細明體"/>
              </a:rPr>
              <a:t>血液運行不暢順謂之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「血瘀」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新細明體"/>
              </a:rPr>
              <a:t>原因：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氣虛、氣滯</a:t>
            </a:r>
            <a:endParaRPr b="0" lang="en-US" sz="20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虛勞日久、氣血阻滯、瘀血內生</a:t>
            </a:r>
            <a:endParaRPr b="0" lang="en-US" sz="2000" spc="-1" strike="noStrike">
              <a:solidFill>
                <a:srgbClr val="000000"/>
              </a:solidFill>
              <a:latin typeface="新細明體"/>
            </a:endParaRPr>
          </a:p>
          <a:p>
            <a:pPr lvl="2" marL="1143000" indent="-228600">
              <a:spcBef>
                <a:spcPts val="451"/>
              </a:spcBef>
              <a:buSzPct val="11428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新細明體"/>
              </a:rPr>
              <a:t>長期勞累</a:t>
            </a:r>
            <a:endParaRPr b="0" lang="en-US" sz="1800" spc="-1" strike="noStrike">
              <a:solidFill>
                <a:srgbClr val="000000"/>
              </a:solidFill>
              <a:latin typeface="新細明體"/>
            </a:endParaRPr>
          </a:p>
          <a:p>
            <a:pPr lvl="2" marL="1143000" indent="-228600">
              <a:spcBef>
                <a:spcPts val="451"/>
              </a:spcBef>
              <a:buSzPct val="11428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新細明體"/>
              </a:rPr>
              <a:t>情緒波動 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</a:rPr>
              <a:t>七情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新細明體"/>
            </a:endParaRPr>
          </a:p>
          <a:p>
            <a:pPr lvl="2" marL="1143000" indent="-228600">
              <a:spcBef>
                <a:spcPts val="451"/>
              </a:spcBef>
              <a:buSzPct val="11428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</a:rPr>
              <a:t>精神失調</a:t>
            </a:r>
            <a:endParaRPr b="0" lang="en-US" sz="18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新細明體"/>
              </a:rPr>
              <a:t>舊患（各種創傷、勞損因調理不善而惡化成陳年舊患）</a:t>
            </a:r>
            <a:endParaRPr b="0" lang="en-US" sz="20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新細明體"/>
              </a:rPr>
              <a:t>血液質素差 （高脂、高糖、高鹽、高膽固醇的不良飲食習慣）</a:t>
            </a:r>
            <a:endParaRPr b="0" lang="en-US" sz="20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新細明體"/>
              </a:rPr>
              <a:t>缺乏運動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，久坐少動，久坐傷氣 </a:t>
            </a:r>
            <a:endParaRPr b="0" lang="en-US" sz="20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新細明體"/>
              </a:rPr>
              <a:t>血流在關節阻塞</a:t>
            </a:r>
            <a:endParaRPr b="0" lang="en-US" sz="20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新細明體"/>
            </a:endParaRPr>
          </a:p>
        </p:txBody>
      </p:sp>
      <p:pic>
        <p:nvPicPr>
          <p:cNvPr id="60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095880" y="1600200"/>
            <a:ext cx="18446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新細明體"/>
              </a:rPr>
              <a:t>頑固痛症主因</a:t>
            </a:r>
            <a:br>
              <a:rPr sz="3600"/>
            </a:br>
            <a:r>
              <a:rPr b="1" lang="zh-TW" sz="3600" spc="-1" strike="noStrike">
                <a:solidFill>
                  <a:srgbClr val="cc0000"/>
                </a:solidFill>
                <a:latin typeface="新細明體"/>
              </a:rPr>
              <a:t>氣</a:t>
            </a:r>
            <a:r>
              <a:rPr b="1" lang="zh-CN" sz="3600" spc="-1" strike="noStrike">
                <a:solidFill>
                  <a:srgbClr val="cc0000"/>
                </a:solidFill>
                <a:latin typeface="新細明體"/>
              </a:rPr>
              <a:t>滯、</a:t>
            </a:r>
            <a:r>
              <a:rPr b="1" lang="zh-TW" sz="3600" spc="-1" strike="noStrike">
                <a:solidFill>
                  <a:srgbClr val="cc0000"/>
                </a:solidFill>
                <a:latin typeface="新細明體"/>
              </a:rPr>
              <a:t>血瘀</a:t>
            </a:r>
            <a:endParaRPr b="1" lang="en-US" sz="36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頑固痛症的主要成因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是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氣、血運行的功能發生障礙，形成氣滯血瘀，不通則痛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患者對痛症大意，未能及時治療或治療錯誤，使痛症持續或間斷地出現三個月以上仍未根治而成頑固痛症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4648320"/>
            <a:ext cx="7162920" cy="73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5d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「痛不通，氣血壅，通不痛，調和奉。」</a:t>
            </a:r>
            <a:br>
              <a:rPr sz="2400"/>
            </a:b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清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‧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陳修園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【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醫學三字經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00"/>
                </a:solidFill>
                <a:latin typeface="新細明體"/>
              </a:rPr>
              <a:t>氣</a:t>
            </a:r>
            <a:r>
              <a:rPr b="1" lang="zh-CN" sz="3600" spc="-1" strike="noStrike">
                <a:solidFill>
                  <a:srgbClr val="cc0000"/>
                </a:solidFill>
                <a:latin typeface="新細明體"/>
              </a:rPr>
              <a:t>滯、</a:t>
            </a:r>
            <a:r>
              <a:rPr b="1" lang="zh-TW" sz="3600" spc="-1" strike="noStrike">
                <a:solidFill>
                  <a:srgbClr val="cc0000"/>
                </a:solidFill>
                <a:latin typeface="新細明體"/>
              </a:rPr>
              <a:t>血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新細明體"/>
              </a:rPr>
              <a:t>徵</a:t>
            </a:r>
            <a:r>
              <a:rPr b="1" lang="zh-TW" sz="3600" spc="-1" strike="noStrike">
                <a:solidFill>
                  <a:srgbClr val="000000"/>
                </a:solidFill>
                <a:latin typeface="新細明體"/>
              </a:rPr>
              <a:t>狀</a:t>
            </a:r>
            <a:endParaRPr b="1" lang="en-US" sz="36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氣血鬱積，久而化熱，出現紅、腫、熱痛等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徵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狀 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即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「炎症」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關節無力、活動能力差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思維遲緩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皮膚斑點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pic>
        <p:nvPicPr>
          <p:cNvPr id="6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77120" y="3200400"/>
            <a:ext cx="165240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新細明體"/>
              </a:rPr>
              <a:t>「氣</a:t>
            </a:r>
            <a:r>
              <a:rPr b="1" lang="zh-CN" sz="3600" spc="-1" strike="noStrike">
                <a:solidFill>
                  <a:srgbClr val="000000"/>
                </a:solidFill>
                <a:latin typeface="新細明體"/>
              </a:rPr>
              <a:t>滯、</a:t>
            </a:r>
            <a:r>
              <a:rPr b="1" lang="zh-TW" sz="3600" spc="-1" strike="noStrike">
                <a:solidFill>
                  <a:srgbClr val="000000"/>
                </a:solidFill>
                <a:latin typeface="新細明體"/>
              </a:rPr>
              <a:t>血瘀」 </a:t>
            </a:r>
            <a:r>
              <a:rPr b="1" lang="zh-CN" sz="3600" spc="-1" strike="noStrike">
                <a:solidFill>
                  <a:srgbClr val="000000"/>
                </a:solidFill>
                <a:latin typeface="新細明體"/>
              </a:rPr>
              <a:t>及</a:t>
            </a:r>
            <a:r>
              <a:rPr b="1" lang="zh-TW" sz="3600" spc="-1" strike="noStrike">
                <a:solidFill>
                  <a:srgbClr val="000000"/>
                </a:solidFill>
                <a:latin typeface="新細明體"/>
              </a:rPr>
              <a:t>「頑固痛症」</a:t>
            </a:r>
            <a:r>
              <a:rPr b="1" lang="zh-CN" sz="3600" spc="-1" strike="noStrike">
                <a:solidFill>
                  <a:srgbClr val="000000"/>
                </a:solidFill>
                <a:latin typeface="新細明體"/>
              </a:rPr>
              <a:t>是</a:t>
            </a:r>
            <a:br>
              <a:rPr sz="3600"/>
            </a:br>
            <a:r>
              <a:rPr b="1" lang="zh-CN" sz="3600" spc="-1" strike="noStrike">
                <a:solidFill>
                  <a:srgbClr val="cc0000"/>
                </a:solidFill>
                <a:latin typeface="新細明體"/>
              </a:rPr>
              <a:t>惡性循環</a:t>
            </a:r>
            <a:endParaRPr b="1" lang="en-US" sz="36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2133720"/>
            <a:ext cx="3047760" cy="243828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eb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048120" y="3276000"/>
            <a:ext cx="3047760" cy="2438280"/>
          </a:xfrm>
          <a:custGeom>
            <a:avLst/>
            <a:gdLst>
              <a:gd name="textAreaLeft" fmla="*/ 360 w 3047760"/>
              <a:gd name="textAreaRight" fmla="*/ 3048480 w 3047760"/>
              <a:gd name="textAreaTop" fmla="*/ -360 h 2438280"/>
              <a:gd name="textAreaBottom" fmla="*/ 2438280 h 2438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000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91840" y="4038480"/>
            <a:ext cx="1278000" cy="64260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新細明體"/>
              </a:rPr>
              <a:t>不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新細明體"/>
              </a:rPr>
              <a:t>則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新細明體"/>
              </a:rPr>
              <a:t>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67960" y="3581280"/>
            <a:ext cx="1829880" cy="58140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痛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動、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不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惡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1:18:52Z</dcterms:created>
  <dc:creator>cawan</dc:creator>
  <dc:description/>
  <dc:language>en-US</dc:language>
  <cp:lastModifiedBy>HKUPOP</cp:lastModifiedBy>
  <dcterms:modified xsi:type="dcterms:W3CDTF">2007-02-22T09:57:07Z</dcterms:modified>
  <cp:revision>91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60987148</vt:r8>
  </property>
  <property fmtid="{D5CDD505-2E9C-101B-9397-08002B2CF9AE}" pid="3" name="_AuthorEmail">
    <vt:lpwstr>oliver-nutr-hk@jiwa.com.hk</vt:lpwstr>
  </property>
  <property fmtid="{D5CDD505-2E9C-101B-9397-08002B2CF9AE}" pid="4" name="_AuthorEmailDisplayName">
    <vt:lpwstr>Oliver Poon</vt:lpwstr>
  </property>
  <property fmtid="{D5CDD505-2E9C-101B-9397-08002B2CF9AE}" pid="5" name="_EmailSubject">
    <vt:lpwstr>Revised Press Conference PowerPoint</vt:lpwstr>
  </property>
  <property fmtid="{D5CDD505-2E9C-101B-9397-08002B2CF9AE}" pid="6" name="_ReviewingToolsShownOnce">
    <vt:lpwstr/>
  </property>
</Properties>
</file>