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46080" y="780840"/>
            <a:ext cx="4896000" cy="36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新細明體"/>
              </a:rPr>
              <a:t>Click to move the slide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45720" y="4765320"/>
            <a:ext cx="4971960" cy="445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56978C1-7428-4E13-87BB-3A49E4DAF0D1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4153DFF-9CCC-48C1-B6DD-81354DFC6DF1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99A4CF5-0006-4858-89DF-35580810094E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15FE3CB-B324-40B5-BD0C-EDE71EA8ABDE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DB94AC4-A596-49B4-8631-F4A09FDA743E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8C31EDB-421B-49DE-AA37-CA539ADEDE28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91E3A21-C04E-4C12-AA18-F8508B7248B6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8ED0A49-BFCB-468B-B4B3-B20FB590E534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7B54350-1523-449C-B894-6368A84CCB1E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6896E77-95DB-4817-A8AA-753F3C4109AB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2A5ABD6-8548-407E-AF6F-DCD411A7E5A1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984A1C0-A259-460D-9401-671B969B9057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8A62AA3-D221-45CD-A7D0-19438ECE0682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8EA847A-977F-4DE4-B444-2D4DF5BA5BF0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A5F52B4-D76B-4683-A02E-E16F216FBB6E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arly 80% respondents are female, which is a clear indication that the mothers are probably the caretakers of children in Hong Ko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0427A90-8D53-4EC9-89C5-F30EF7D3F4BA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FA35C8D-2AE7-42D6-92A6-77BC68130631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35F234B-D084-4635-984D-08A8E71AE01F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062D56A-D141-435C-B421-74376D182B73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FCF7F89-2E74-4C67-9AE3-FD6561A0BE0B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1B538-B606-4D9F-B49C-5D0B54B31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1D0ED-CF2C-4CB6-9EDF-5341A7BDE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5EF3-2BE0-4588-B179-A06040CCE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430B-56BD-404F-ABC4-60832430E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52FAC-A5FD-4D0E-A72C-155CC53E7B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295E1-DF70-4CB6-B12F-763F72CC0A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1E793-CFDF-4511-B3BA-1DC1A75FFE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38A60-318F-43B6-B77A-A81E57B077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8C1BC-8110-4EE0-96E6-3470528ACB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B9C67-B9A2-4524-9531-AEE1F6DD4B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289BC-0AD3-4B7E-B3E7-258BC581DA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213F0-B6DD-49F0-85D0-5D96BF74F9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A6711-A14C-42B9-AD72-31C768C027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DF845-3709-4949-934A-65E32F076D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50E05-B603-478D-BF93-1CCA47EA2B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8F229-8304-4B83-97B4-B36E8C3F69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512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F247A-DA35-4CDC-A6D8-7AC297B5F3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0527-773C-4836-A2AB-F9EBD356A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8048A-13FA-441E-BE4A-6F46D2110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EA7A9-B42C-401A-A525-3CB76DE70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A5CED-BAB3-4F7F-BDDD-A97743BF66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5299-EEDB-4C47-9F71-165B2A70F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EC91E-EB23-430D-AB92-72580E926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2A3A3-F857-420C-A159-25D6144B7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新細明體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" name=""/>
          <p:cNvSpPr/>
          <p:nvPr/>
        </p:nvSpPr>
        <p:spPr>
          <a:xfrm>
            <a:off x="28440" y="304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05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875B-FE00-4456-A507-B9E74CAB90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新細明體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29000" y="274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D1DD-B326-4934-9D00-9C4A20E792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新細明體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新細明體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新細明體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細明體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新細明體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新細明體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細明體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新細明體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新細明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細明體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新細明體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新細明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細明體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1.umn.edu/umnnews/img/assets/11502/pain.jpg&amp;imgrefurl=http://www1.umn.edu/umnnews/Feature_Stories/Selfinjury_how_and_if_pain_is_perceived.html&amp;h=165&amp;w=165&amp;sz=9&amp;hl=en&amp;start=862&amp;tbnid=7QFpFL0RO4cBgM:&amp;tbnh=99&amp;tbnw=99&amp;prev=/images%3Fq%3Dpain%26start%3D860%26ndsp%3D20%26svnum%3D1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57600" y="5029200"/>
            <a:ext cx="2438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2007 </a:t>
            </a:r>
            <a:r>
              <a:rPr b="0" lang="zh-CN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年</a:t>
            </a:r>
            <a:r>
              <a:rPr b="0" lang="en-GB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月</a:t>
            </a:r>
            <a:r>
              <a:rPr b="0" lang="en-GB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日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7621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2133720"/>
            <a:ext cx="9144000" cy="703440"/>
          </a:xfrm>
          <a:prstGeom prst="rect">
            <a:avLst/>
          </a:prstGeom>
          <a:solidFill>
            <a:srgbClr val="ffebeb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Tempus Sans ITC"/>
                <a:ea typeface="新細明體"/>
              </a:rPr>
              <a:t>「香港頑固痛症患者意見行爲調查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057400" y="4038120"/>
            <a:ext cx="5562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新細明體"/>
              </a:rPr>
              <a:t>鍾庭耀博士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香港大學</a:t>
            </a:r>
            <a:r>
              <a:rPr b="0" lang="zh-CN" sz="2400" spc="-1" strike="noStrike">
                <a:solidFill>
                  <a:srgbClr val="000000"/>
                </a:solidFill>
                <a:latin typeface="新細明體"/>
              </a:rPr>
              <a:t>民意研究計劃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主任 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EF2F5-F24A-4322-972B-FC809AF7A94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新細明體"/>
              </a:rPr>
              <a:t>調查結果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A014D-7B0D-4626-8F66-9240F3D875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新細明體"/>
              </a:rPr>
              <a:t>一</a:t>
            </a:r>
            <a:r>
              <a:rPr b="1" lang="en-US" sz="4000" spc="-1" strike="noStrike">
                <a:solidFill>
                  <a:srgbClr val="ffffff"/>
                </a:solidFill>
                <a:latin typeface="新細明體"/>
              </a:rPr>
              <a:t>. 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香港頑固痛症患者情况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3CF36-AFC2-4BCC-B8E6-ACD939042B4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細明體"/>
              </a:rPr>
              <a:t>五成三受訪者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</a:rPr>
              <a:t>的頑痛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超過兩年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09480" y="2286000"/>
          <a:ext cx="7772400" cy="37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777240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371600" y="1828800"/>
            <a:ext cx="67816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1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嘅頑固痛症痛咗幾耐呢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40320" y="609912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49C3-4530-4DA9-8C14-DFA72210299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細明體"/>
              </a:rPr>
              <a:t>四成七受訪者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</a:rPr>
              <a:t>的</a:t>
            </a:r>
            <a:r>
              <a:rPr b="1" lang="zh-CN" sz="4000" spc="-1" strike="noStrike">
                <a:solidFill>
                  <a:srgbClr val="000000"/>
                </a:solidFill>
                <a:latin typeface="新細明體"/>
              </a:rPr>
              <a:t>主要疼痛部位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在腰部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1880" y="2057400"/>
          <a:ext cx="8296200" cy="459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2057400"/>
                    <a:ext cx="829620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371600" y="1676520"/>
            <a:ext cx="67816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1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身上邊個部位曾經出現疼痛或</a:t>
            </a: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者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痺痛呢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99200" y="6400800"/>
            <a:ext cx="2728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7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人，可選多項，共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1,064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答案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7BCE8-2D30-40EF-961A-A7A92912CEB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細明體"/>
              </a:rPr>
              <a:t>四成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</a:rPr>
              <a:t>九</a:t>
            </a:r>
            <a:r>
              <a:rPr b="1" lang="zh-CN" sz="4000" spc="-1" strike="noStrike">
                <a:solidFill>
                  <a:srgbClr val="000000"/>
                </a:solidFill>
                <a:latin typeface="新細明體"/>
              </a:rPr>
              <a:t>受訪者認爲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</a:rPr>
              <a:t>頑痛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和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工作勞損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有關 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84120" y="2286000"/>
          <a:ext cx="808344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2286000"/>
                    <a:ext cx="808344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71600" y="1905120"/>
            <a:ext cx="67816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1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認為患上頑固痛症嘅原因係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34560" y="6491160"/>
            <a:ext cx="2589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1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人，可選多項，共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678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答案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3F23-2D91-4949-816F-9817A7277FE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細明體"/>
              </a:rPr>
              <a:t>三成七受訪者認爲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</a:rPr>
              <a:t>頑痛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令他們不敢做運動及活動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太多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62120" y="2209680"/>
          <a:ext cx="7772400" cy="421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9680"/>
                    <a:ext cx="7772400" cy="42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371600" y="1828800"/>
            <a:ext cx="67816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1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你覺得頑固痛症對你日常活動最大影響係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86680" y="6324480"/>
            <a:ext cx="2589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6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人，可選多項，共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643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答案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A4483-1E41-4FE1-B9C9-A127126BD72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細明體"/>
              </a:rPr>
              <a:t>四成八受訪者認爲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</a:rPr>
              <a:t>頑痛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令工作效率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降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低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09480" y="1781280"/>
          <a:ext cx="77724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81280"/>
                    <a:ext cx="77724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143000" y="1828800"/>
            <a:ext cx="71629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1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覺得頑固痛症對你喺工作上最大嘅影響係？（</a:t>
            </a: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只問在職人士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14160" y="6415200"/>
            <a:ext cx="2887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283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在職人士，可選多項，共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416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答案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EC432-0806-4DC1-829E-1283F9FAB2F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細明體"/>
              </a:rPr>
              <a:t>三成八受訪者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</a:rPr>
              <a:t>同意</a:t>
            </a:r>
            <a:br>
              <a:rPr sz="4000"/>
            </a:b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頑痛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令他們好痛苦 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62120" y="2438280"/>
          <a:ext cx="777240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777240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838080" y="1828800"/>
            <a:ext cx="8001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1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您有幾同意定唔同意頑固痛症</a:t>
            </a: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令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</a:t>
            </a: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覺得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1080" y="609588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7/504/5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C797-624D-49BF-A9D8-D2ADDC0F6B4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新細明體"/>
              </a:rPr>
              <a:t>二</a:t>
            </a:r>
            <a:r>
              <a:rPr b="1" lang="en-US" sz="4000" spc="-1" strike="noStrike">
                <a:solidFill>
                  <a:srgbClr val="ffffff"/>
                </a:solidFill>
                <a:latin typeface="新細明體"/>
              </a:rPr>
              <a:t>.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香港頑固痛症患者的治療 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09478-D469-48EA-99D6-51EE5679A21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五成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四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受訪者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試過食止痛藥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來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處理自己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的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頑固痛症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2590920"/>
          <a:ext cx="7772400" cy="34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90920"/>
                    <a:ext cx="7772400" cy="34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1371600" y="1752480"/>
            <a:ext cx="70866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1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有冇試過食止痛藥嚟處理自己嘅頑固痛症？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92600" y="60958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03491-8540-4514-890F-E524F505BE3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新細明體"/>
              </a:rPr>
              <a:t>調查概況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752480"/>
          <a:ext cx="7772400" cy="4145040"/>
        </p:xfrm>
        <a:graphic>
          <a:graphicData uri="http://schemas.openxmlformats.org/drawingml/2006/table">
            <a:tbl>
              <a:tblPr/>
              <a:tblGrid>
                <a:gridCol w="1752840"/>
                <a:gridCol w="601956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調查目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暸解「頑固痛症」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對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患者生活質素的影響，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從而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作出切合公衆需要的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健康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教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調查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200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年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至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2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調查方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由訪問員直接進行電話訪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調查對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年齡介乎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2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至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65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歲曾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患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有「頑固痛症」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的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人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調查機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香港大學民意研究計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成功訪問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5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有效回應比率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80.2% (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以符合資格的目標對象計算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抽樣誤差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少於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2.2%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，亦即在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95%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置信水平下，各個百分比的抽樣誤差為少於正負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4.4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個百分比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A77AD-0D79-4852-857F-D1B0E69FA72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大多數受訪者認為食得太多止痛藥的副作用包括：</a:t>
            </a:r>
            <a:br>
              <a:rPr sz="3200"/>
            </a:br>
            <a:r>
              <a:rPr b="1" lang="en-US" sz="4000" spc="-1" strike="noStrike">
                <a:solidFill>
                  <a:srgbClr val="cc0000"/>
                </a:solidFill>
                <a:latin typeface="新細明體"/>
              </a:rPr>
              <a:t> </a:t>
            </a:r>
            <a:r>
              <a:rPr b="1" lang="zh-TW" sz="3200" spc="-1" strike="noStrike">
                <a:solidFill>
                  <a:srgbClr val="cc0000"/>
                </a:solidFill>
                <a:latin typeface="新細明體"/>
              </a:rPr>
              <a:t>會傷胃、會傷肝臟、會愈食愈多先有效</a:t>
            </a:r>
            <a:endParaRPr b="1" lang="en-US" sz="32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2590920"/>
          <a:ext cx="7772400" cy="38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90920"/>
                    <a:ext cx="7772400" cy="38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295280" y="1981080"/>
            <a:ext cx="71629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1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問題：你認為食得多止痛藥有啲乜副作用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86680" y="6324480"/>
            <a:ext cx="2632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5 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人，可選多項，共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921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答案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98CF-D4A6-4593-9310-9943E8AD945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三成一受訪者選擇看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西醫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或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做</a:t>
            </a:r>
            <a:br>
              <a:rPr sz="4000"/>
            </a:b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物理治療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去處理頑固痛症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 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 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85800" y="2133720"/>
          <a:ext cx="77724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7724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295280" y="1752480"/>
            <a:ext cx="701064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1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試過用啲乜嘢其他方法去處理自己嘅頑固痛症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86680" y="6400800"/>
            <a:ext cx="2589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4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人，可選多項，共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868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答案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75C9E-EC76-4544-94F5-76307BD2CFB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新細明體"/>
              </a:rPr>
              <a:t>兩</a:t>
            </a:r>
            <a:r>
              <a:rPr b="1" lang="zh-CN" sz="4000" spc="-1" strike="noStrike">
                <a:solidFill>
                  <a:srgbClr val="000000"/>
                </a:solidFill>
                <a:latin typeface="新細明體"/>
              </a:rPr>
              <a:t>成一受訪者對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正在使用的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止痛方法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感到不滿意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9480" y="2209680"/>
          <a:ext cx="7772400" cy="37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777240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219320" y="1905120"/>
            <a:ext cx="73152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1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對宜家用緊嘅止痛方法滿唔滿意 ，包括食止痛藥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6680" y="60958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1D34-AD25-45B1-A5FD-6909D52BC3E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新細明體"/>
              </a:rPr>
              <a:t>三</a:t>
            </a:r>
            <a:r>
              <a:rPr b="1" lang="en-US" sz="4000" spc="-1" strike="noStrike">
                <a:solidFill>
                  <a:srgbClr val="ffffff"/>
                </a:solidFill>
                <a:latin typeface="新細明體"/>
              </a:rPr>
              <a:t>.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 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患者對血液循環與頑固痛症</a:t>
            </a:r>
            <a:br>
              <a:rPr sz="4000"/>
            </a:b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關係的認識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 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EFCEB-39FF-481A-9211-711FA2D1A92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細明體"/>
              </a:rPr>
              <a:t>六成九受訪者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</a:rPr>
              <a:t>聽過</a:t>
            </a:r>
            <a:br>
              <a:rPr sz="4000"/>
            </a:b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頑固痛症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和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氣血運行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不良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有關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09480" y="2133720"/>
          <a:ext cx="7772400" cy="38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7772400" cy="38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371600" y="1752480"/>
            <a:ext cx="73152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1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有冇聽過頑固痛症係同氣血運行得唔好有關？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6680" y="60958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B5AA-D331-456F-AC6E-CC2570D9ED9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新細明體"/>
              </a:rPr>
              <a:t>半數</a:t>
            </a:r>
            <a:r>
              <a:rPr b="1" lang="zh-CN" sz="4000" spc="-1" strike="noStrike">
                <a:solidFill>
                  <a:srgbClr val="000000"/>
                </a:solidFill>
                <a:latin typeface="新細明體"/>
              </a:rPr>
              <a:t>受訪者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</a:rPr>
              <a:t>相信</a:t>
            </a:r>
            <a:br>
              <a:rPr sz="4000"/>
            </a:br>
            <a:r>
              <a:rPr b="1" lang="zh-TW" sz="3600" spc="-1" strike="noStrike">
                <a:solidFill>
                  <a:srgbClr val="cc0000"/>
                </a:solidFill>
                <a:latin typeface="新細明體"/>
              </a:rPr>
              <a:t>中藥</a:t>
            </a:r>
            <a:r>
              <a:rPr b="1" lang="zh-CN" sz="3600" spc="-1" strike="noStrike">
                <a:solidFill>
                  <a:srgbClr val="cc0000"/>
                </a:solidFill>
                <a:latin typeface="新細明體"/>
              </a:rPr>
              <a:t>可透過</a:t>
            </a:r>
            <a:r>
              <a:rPr b="1" lang="zh-TW" sz="3600" spc="-1" strike="noStrike">
                <a:solidFill>
                  <a:srgbClr val="cc0000"/>
                </a:solidFill>
                <a:latin typeface="新細明體"/>
              </a:rPr>
              <a:t>暢通氣血改善頑固痛症</a:t>
            </a:r>
            <a:endParaRPr b="1" lang="en-US" sz="36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09480" y="2438280"/>
          <a:ext cx="777240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438280"/>
                    <a:ext cx="777240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143000" y="1905120"/>
            <a:ext cx="73152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1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如果有人話中藥以暢通氣血來改善頑固痛症，你有幾相信定唔相信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40320" y="609912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1F2E1-CB11-43B6-B6D8-EE68D81136C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新細明體"/>
              </a:rPr>
              <a:t>調查分析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1CDBF-5650-492B-8366-DF84068830F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新細明體"/>
              </a:rPr>
              <a:t>調查分析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香港頑固痛症患者情况嚴重，五成三受訪者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的頑痛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超過兩年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受訪者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的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主要疼痛部位在腰部、肩部及頸部，成因多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與工作勞損、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年紀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大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及姿勢不正確有關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近半數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在職受訪者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表示頑痛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對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其最大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的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影響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是工作效率降低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，亦有兩成多患者表示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不想上班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，甚至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憂慮失業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近四成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受訪者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表示頑痛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對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其日常活動最大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的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影響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是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不敢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做運動及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進行太多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活動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020E-ACE4-4A04-8B5D-B349CCFFBF5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新細明體"/>
              </a:rPr>
              <a:t>調查分析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部分受訪者同意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頑痛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令他們感到痛苦、沮喪、及無用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長遠來說，容易造成情緒抑鬱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五成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四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受訪者曾經服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食止痛藥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來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處理頑固痛症，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但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大部分受訪者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亦知道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止痛藥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有不少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副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作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用：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如傷胃 、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傷肝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及需要逐漸增加服量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三成一受訪者選擇看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西醫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或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做物理治療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去處理頑固痛症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；其次為按摩，有兩成八曾使用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對正在使用的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止痛方法，四成八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受訪者感到滿意、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兩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成一感到不滿意、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兩成七則表示一半半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B133F-267A-4EC6-B7C4-326D0470001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新細明體"/>
              </a:rPr>
              <a:t>調查分析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六成九受訪者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曾聽過頑固痛症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和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氣血運行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不良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有關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四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成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九表示相信中藥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可透過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暢通氣血改善頑固痛症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DC010-FB19-4104-8B19-3001A7F01B9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新細明體"/>
              </a:rPr>
              <a:t>受訪者背景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8CE3D-3973-40C8-A197-0680526C491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新細明體"/>
              </a:rPr>
              <a:t>性別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1752480"/>
          <a:ext cx="80769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0769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340320" y="60228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359C-85DA-429D-A87B-DBB9C5BFC38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新細明體"/>
              </a:rPr>
              <a:t>年齡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90720" y="1600200"/>
          <a:ext cx="73072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072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416640" y="60958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7842B-ED9D-4D93-84C9-CC6C71DD68A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新細明體"/>
              </a:rPr>
              <a:t>教育程度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90720" y="1600200"/>
          <a:ext cx="73072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072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416640" y="60228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B6800-7E87-460D-935F-079A088F318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新細明體"/>
              </a:rPr>
              <a:t>工作狀況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90720" y="1600200"/>
          <a:ext cx="73072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072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416640" y="60228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EE4E-B6D6-4757-988B-08973696A96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職業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1295280"/>
          <a:ext cx="74599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74599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416640" y="60228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7FFE-F26C-4A84-9156-0E26D02A767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個人月入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66680" y="1905120"/>
          <a:ext cx="730728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73072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6416640" y="60228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2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63760" y="1523880"/>
            <a:ext cx="8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只問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在職</a:t>
            </a:r>
            <a:r>
              <a:rPr b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人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3CD05-1AFF-4F50-A0DC-3E76438CF16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0T10:47:23Z</dcterms:created>
  <dc:creator>Grey Worldwide</dc:creator>
  <dc:description/>
  <dc:language>en-US</dc:language>
  <cp:lastModifiedBy>HKUPOP</cp:lastModifiedBy>
  <dcterms:modified xsi:type="dcterms:W3CDTF">2007-02-12T09:02:38Z</dcterms:modified>
  <cp:revision>1500</cp:revision>
  <dc:subject/>
  <dc:title>HONG KONG PEOPLE’S CONCERN ABOUT HEART HEALTH AND CHOLESTE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16429259</vt:r8>
  </property>
  <property fmtid="{D5CDD505-2E9C-101B-9397-08002B2CF9AE}" pid="3" name="_AuthorEmail">
    <vt:lpwstr>lokman@hepfree.org</vt:lpwstr>
  </property>
  <property fmtid="{D5CDD505-2E9C-101B-9397-08002B2CF9AE}" pid="4" name="_AuthorEmailDisplayName">
    <vt:lpwstr>Lokman Wong</vt:lpwstr>
  </property>
  <property fmtid="{D5CDD505-2E9C-101B-9397-08002B2CF9AE}" pid="5" name="_EmailSubject">
    <vt:lpwstr>QoL PC - Status</vt:lpwstr>
  </property>
  <property fmtid="{D5CDD505-2E9C-101B-9397-08002B2CF9AE}" pid="6" name="_ReviewingToolsShownOnce">
    <vt:lpwstr/>
  </property>
</Properties>
</file>