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E18381-C987-4F6B-AAD4-EA8E022F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B181DE-428B-4801-841E-C8199684C03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819E97-256E-492F-816D-1E801680204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2D4ED8-A641-42F3-94AF-AA3FDFAE1C4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5085B2-D012-40BB-B083-107DB2B6A09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92C370-AB7B-431E-99D2-4832DAD380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20021A-1DF8-460F-9F35-E66270DCF1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48067C-8E63-48A4-8F8C-1C978AFAE16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97AE3-E09C-47F3-8418-A6FE969E567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E4BA52-07A7-4D72-B1AD-5FC7D9FC3D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C477A6-ECB4-496C-9198-98674075EDA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A3FC25-42D5-4A40-A4D9-4FC71E5B50D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6DE67-EEC8-48F4-B22E-36D71618B5E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4069C4-24DC-4AD1-B98A-0267578D77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8B7D94-9AB5-4E2F-91C6-CB213482A70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3DDC38-6425-4382-939A-11A1C3DC99B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060FA2-6C88-40AE-9793-1D106FC2B75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410768-592F-450C-843A-09F6033E862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68A29E-CC30-4237-B687-74E337804C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77264D-EC08-4A7B-B1F9-89BD100E4C2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601-13AB-4371-AC11-F8307E82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083-857C-472C-8AEF-5FA167F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B63-0769-4A8C-9227-9558BB2C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FF6-A24C-4196-815B-4FF1CCBC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C06-7FB5-40F3-B519-F98BB04F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BDC-F702-4E1A-B0C3-D28A31C0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DC0-F650-4D19-845E-8297052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DA5-4EB9-45A6-9D82-C373CF5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EEB-1B7B-4678-9E00-4AEF119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A72-C621-4E39-AB50-C596477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BC3-03B8-4510-950E-1E0F58E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4E1-2911-44C6-8D53-7F6D71D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0EA0-4E5E-40F9-956B-38DBC4F2E6A2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8F7-9349-4E1A-8294-B40C11E1F2C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及標準工時意見調查</a:t>
            </a: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" name="Picture 13" descr="O:\share\Oxfam\Oxfam_Children_Internet_2009\presentation\OHK_logo_small.jpg"/>
          <p:cNvPicPr/>
          <p:nvPr/>
        </p:nvPicPr>
        <p:blipFill>
          <a:blip r:embed="rId2"/>
          <a:stretch/>
        </p:blipFill>
        <p:spPr>
          <a:xfrm>
            <a:off x="7924680" y="6386400"/>
            <a:ext cx="1003320" cy="4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052"/>
          <p:cNvSpPr/>
          <p:nvPr/>
        </p:nvSpPr>
        <p:spPr>
          <a:xfrm>
            <a:off x="1295280" y="18288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r>
              <a:rPr b="1" lang="zh-TW" sz="16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5" name="Object 2053"/>
          <p:cNvGraphicFramePr/>
          <p:nvPr/>
        </p:nvGraphicFramePr>
        <p:xfrm>
          <a:off x="1828800" y="609480"/>
          <a:ext cx="1171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1171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2057"/>
          <p:cNvSpPr/>
          <p:nvPr/>
        </p:nvSpPr>
        <p:spPr>
          <a:xfrm>
            <a:off x="714240" y="4572000"/>
            <a:ext cx="78487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總監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Line 2058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Line 2059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0" name="WordArt 13" descr=""/>
          <p:cNvPicPr/>
          <p:nvPr/>
        </p:nvPicPr>
        <p:blipFill>
          <a:blip r:embed="rId3"/>
          <a:stretch/>
        </p:blipFill>
        <p:spPr>
          <a:xfrm>
            <a:off x="1347840" y="3114720"/>
            <a:ext cx="64483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O:\share\Oxfam\Oxfam_Children_Internet_2009\presentation\OHK_logo_small.jpg"/>
          <p:cNvPicPr/>
          <p:nvPr/>
        </p:nvPicPr>
        <p:blipFill>
          <a:blip r:embed="rId4"/>
          <a:stretch/>
        </p:blipFill>
        <p:spPr>
          <a:xfrm>
            <a:off x="4863960" y="838080"/>
            <a:ext cx="27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446-889A-4F94-A6F3-7CA42E4DED1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下是不是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慮制定最低工資水平的因素？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855720" y="1521000"/>
          <a:ext cx="8197920" cy="48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1000"/>
                    <a:ext cx="819792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2"/>
          <p:cNvSpPr/>
          <p:nvPr/>
        </p:nvSpPr>
        <p:spPr>
          <a:xfrm>
            <a:off x="838080" y="6386400"/>
            <a:ext cx="7010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制定最低工資水平應該考慮以下邊個因素？【讀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答案，次序由電腦隨機排列，可選多項】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238880" y="22860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ECB-BA21-4145-A5B0-41590012551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78552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立法要以「收窄貧富差距，保障所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職人士及其家庭的基本生活」為目標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04292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066680" y="6400800"/>
            <a:ext cx="662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最低工資立法應以「收窄貧富差距，保障所有在職人士及其家庭的基本生活」為目標，你傾向贊成定反對呢個理念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4"/>
          <p:cNvGraphicFramePr/>
          <p:nvPr/>
        </p:nvGraphicFramePr>
        <p:xfrm>
          <a:off x="671400" y="1359000"/>
          <a:ext cx="842832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359000"/>
                    <a:ext cx="84283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E1BA-48DF-42F1-BCFC-C304A6B22E7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合理的最低月薪</a:t>
            </a:r>
            <a:br>
              <a:rPr sz="16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以每天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每月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計 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080" y="59436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6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根據統計處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第四季既數字，全港勞動人口既入息中位數為一萬零五百蚊（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$10,500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。假設一個僱員每日工作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每周工作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，即每月平均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，不論行業，你認為佢既月薪起碼有幾多蚊先為之合理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800600" y="186696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2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4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81680" y="1828800"/>
          <a:ext cx="1828800" cy="12952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1)</a:t>
                      </a:r>
                      <a:br>
                        <a:rPr sz="1400"/>
                      </a:b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8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3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00200" y="186696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7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6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4"/>
          <p:cNvGraphicFramePr/>
          <p:nvPr/>
        </p:nvGraphicFramePr>
        <p:xfrm>
          <a:off x="798480" y="1828800"/>
          <a:ext cx="834552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28800"/>
                    <a:ext cx="83455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B3E0-A7E2-4C1C-875B-31A5762795A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心目中的最低時薪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838080" y="61722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8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論行業，你認為最低工資應該定係邊個時薪水平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2057400"/>
          <a:ext cx="1828800" cy="122544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0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30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Group 8"/>
          <p:cNvGrpSpPr/>
          <p:nvPr/>
        </p:nvGrpSpPr>
        <p:grpSpPr>
          <a:xfrm>
            <a:off x="1828800" y="4038120"/>
            <a:ext cx="1820520" cy="380880"/>
            <a:chOff x="1828800" y="4038120"/>
            <a:chExt cx="1820520" cy="380880"/>
          </a:xfrm>
        </p:grpSpPr>
        <p:sp>
          <p:nvSpPr>
            <p:cNvPr id="138" name="Line 9"/>
            <p:cNvSpPr/>
            <p:nvPr/>
          </p:nvSpPr>
          <p:spPr>
            <a:xfrm flipV="1">
              <a:off x="1828800" y="4190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1828800" y="4190760"/>
              <a:ext cx="1820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V="1">
              <a:off x="2691360" y="403812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V="1">
              <a:off x="3649320" y="4190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Rectangle 13"/>
          <p:cNvSpPr/>
          <p:nvPr/>
        </p:nvSpPr>
        <p:spPr>
          <a:xfrm>
            <a:off x="2057400" y="3809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$20-29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31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4800600" y="2590560"/>
            <a:ext cx="2742840" cy="380880"/>
            <a:chOff x="4800600" y="2590560"/>
            <a:chExt cx="2742840" cy="380880"/>
          </a:xfrm>
        </p:grpSpPr>
        <p:sp>
          <p:nvSpPr>
            <p:cNvPr id="144" name="Line 9"/>
            <p:cNvSpPr/>
            <p:nvPr/>
          </p:nvSpPr>
          <p:spPr>
            <a:xfrm flipV="1">
              <a:off x="4800600" y="274284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>
              <a:off x="4800600" y="2743200"/>
              <a:ext cx="2742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V="1">
              <a:off x="6099840" y="259056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7543440" y="274284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8" name="Rectangle 13"/>
          <p:cNvSpPr/>
          <p:nvPr/>
        </p:nvSpPr>
        <p:spPr>
          <a:xfrm>
            <a:off x="541008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$30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61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1C0-F466-483C-905F-A23219178BB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09520" y="785520"/>
            <a:ext cx="7653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年檢討一次最低工資水平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104292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066680" y="6400800"/>
            <a:ext cx="624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最低工資立法之後，你傾向贊成定反對當局就最低工資既水平每年檢討一次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最高工時的意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D879-7A9A-4709-A173-FB6973E604F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香港人超時工作問題是否嚴重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黎講，你認為香港人超時工作既問題嚴唔嚴重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609480" y="1547640"/>
          <a:ext cx="83264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47640"/>
                    <a:ext cx="83264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4"/>
          <p:cNvGraphicFramePr/>
          <p:nvPr/>
        </p:nvGraphicFramePr>
        <p:xfrm>
          <a:off x="533520" y="1473120"/>
          <a:ext cx="814212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142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EA6-829E-4D5F-8A43-2F04C4ACE54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合理的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週最高工時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83808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每周最高工時應該係幾多小時先為之合理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2578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2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0866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1905120"/>
          <a:ext cx="1752840" cy="1257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4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71D-342B-4FAE-B224-26171F3D5BC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最高工時的取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對最低工資既睇法係點，請問你傾向贊成定反對立法訂定最高工時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611280" y="1724040"/>
          <a:ext cx="8450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4040"/>
                    <a:ext cx="8450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544680" y="1387440"/>
          <a:ext cx="814212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387440"/>
                    <a:ext cx="8142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D5F8-91E2-46B4-9871-704BA39D036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果要立法，每週最高工時應該是多少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3808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真係要立法，不論行業，你認為</a:t>
            </a:r>
            <a:r>
              <a:rPr b="1" lang="zh-TW" sz="1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周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高工時應該定係邊個水平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57800" y="1905120"/>
          <a:ext cx="1752480" cy="12189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0866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676520" y="190512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0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6CB-C6E3-4D24-9AE5-27116C02D06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00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樂施會繼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之後，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再度委託港大民意研究計進行《最低工資及標準工時意見調查》，以探討本港市民對立法訂定最低工資及最高工時的意見，並跟之前兩次調查結果作比較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港大民研計劃諮詢樂施會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B6EF-7761-475E-BA32-A6F260EC7DB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貧富懸殊問題是否嚴重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後，你認為現時香港貧富懸殊問題嚴唔嚴重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8"/>
          <p:cNvSpPr/>
          <p:nvPr/>
        </p:nvSpPr>
        <p:spPr>
          <a:xfrm>
            <a:off x="114300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271-B4EC-4F8B-B22D-F1E7F3A0BD6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隨著政府展開立法程序，市民對最低工資問題的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關注程度大幅上升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支持程度方面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0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贊成立法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，與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相若。工資水平方面，平均答案為時薪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$30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左右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意立法應以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收窄貧富差距，保障所有在職人士及其家庭的基本生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為目標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應每年檢討最低工資的水平一次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立法好處是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保障工人的最基本生活水平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3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壞處是「增加成本／削弱本港競爭力」。考慮最低工資水平的因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優先次序為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家庭的基本生活需要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、「通脹及生活物價指數」、「整體經濟狀況」、「勞工市場情況」、「貧富收入差距」及「企業競爭力」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於工時方面，大部份巿民認為港人超時工作的問題「嚴重」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0%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支持立法訂定最高工時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平均答案為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週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最多工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小時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與兩年前的調查結果相若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樂施會的回應及建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樂施會認為生活保障是每個人應有的權利，工人付出勞力理應得到合理回報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鼓勵人們自力更生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分享經濟發展的成果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這才稱得上公平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更是社會可持續發展的基石</a:t>
            </a:r>
            <a:r>
              <a:rPr b="0" lang="es-ES" sz="3200" spc="-1" strike="noStrike">
                <a:solidFill>
                  <a:srgbClr val="003366"/>
                </a:solidFill>
                <a:latin typeface="Arial"/>
                <a:ea typeface="標楷體"/>
              </a:rPr>
              <a:t>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989000"/>
            <a:ext cx="8001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一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最低工資立法應以「收窄貧富差距，保障所有在職人士及其家庭的基本生活」為目標，研究結果顯示港人普遍認同最低工資應讓工人養活自己之餘，更可供養家庭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根據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2009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年的統計數據，香港住戶的平均人數是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2.9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人，每戶平均有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1.5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個勞動力，即一名在職人士一般需要供養連自已在內合共兩人，故此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Times New Roman"/>
                <a:ea typeface="標楷體"/>
              </a:rPr>
              <a:t>樂施會認為最低工資水平，必須能應付僱員及其供養家屬最基本的生活費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80010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二</a:t>
            </a:r>
            <a:r>
              <a:rPr b="1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每年檢討最低工資的水平，以準確反映物價及經濟環境的變化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而除了政府建議的「通脹及生活物價指數」、「整體經濟狀況」、「企業競爭力」及「勞工市場情況」外，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釐定最低工資水平更應考慮「家庭的基本生活需要」及「貧富收入差距」的因素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以貫徹勞動有價，工作應可養家的理念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80010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三</a:t>
            </a:r>
            <a:r>
              <a:rPr b="1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同時考慮立法訂立「最高工時」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以保障工人可享有較平衡健康的生活模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四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積極以宏觀經濟發展計劃，處理在職貧窮的問題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亦應同時配合有效的培訓、就業政策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如創造地區就業的社區經濟計劃援助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、及財務政策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如賦稅制度及稅務優惠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等層次，作結構性的介入和改變，以扭轉不平等的負面趨勢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F32-3A9D-4689-9B6A-AF20182463F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838080" y="1676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5228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5F9-8BE2-4635-A32C-7A478B543D2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214280" y="1905120"/>
            <a:ext cx="735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6040" indent="-161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0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4.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結果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對立法訂定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最低工資的意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AC5-538D-466C-BBDE-EDBD2BC0B47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標楷體"/>
              </a:rPr>
              <a:t>對本地最低工資消息的關心程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有冇留意有關本地最低工資既消息或者討論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3" name="Object 20"/>
          <p:cNvGraphicFramePr/>
          <p:nvPr/>
        </p:nvGraphicFramePr>
        <p:xfrm>
          <a:off x="612720" y="1523880"/>
          <a:ext cx="832644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523880"/>
                    <a:ext cx="832644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85A2-4D3A-4726-B14A-C822E16853B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最低工資的取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有冇留意，請問你傾向贊成定反對立法訂定最低工資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612720" y="1701720"/>
          <a:ext cx="8326440" cy="47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701720"/>
                    <a:ext cx="832644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6193-9C8B-403F-9DE0-531194AD92A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立法訂定最低工資的好處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贊成定反對，就你所知，你認為立法訂定最低工資有乜野好處呢？請你包括僱員、僱主、同社會三方面去諗。【不讀答案，可選多項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】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547280" y="620244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84" name="Object 21"/>
          <p:cNvGraphicFramePr/>
          <p:nvPr/>
        </p:nvGraphicFramePr>
        <p:xfrm>
          <a:off x="620640" y="1295280"/>
          <a:ext cx="844092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295280"/>
                    <a:ext cx="84409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784872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好處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67652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保障工人的最基本生活水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666880" y="5562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促進和諧社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05320" y="5562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僱主剝削的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495680" y="56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輕貧富懸殊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334120" y="560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高員工士氣，增加生產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09588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促進公平社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701028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綜援支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0ED4-6AA7-4599-83F5-8B39A056D40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立法訂定最低工資的壞處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立法訂定最低工資有乜野壞處呢？請你同樣包括僱員、僱主、同社會三方面去諗。【不讀答案，可選多項】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547280" y="609588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646200" y="1389240"/>
          <a:ext cx="8467560" cy="457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389240"/>
                    <a:ext cx="84675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"/>
          <p:cNvSpPr/>
          <p:nvPr/>
        </p:nvSpPr>
        <p:spPr>
          <a:xfrm>
            <a:off x="16765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成本／削弱本港競爭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590920" y="5486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失業率上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8153280" y="5486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／難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7238880" y="5516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壞處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4771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破壞自由市場調節的原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638680" y="54864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最終會變成最高工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8769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的成本轉嫁消費者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962520" y="5425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僱主會藉故增加工作量／削減其他福利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200400" y="54561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歷／經驗低僱員被裁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5-19T01:53:47Z</dcterms:modified>
  <cp:revision>1798</cp:revision>
  <dc:subject/>
  <dc:title>無投影片標題</dc:title>
</cp:coreProperties>
</file>